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6DB8-FEFD-4101-AE96-AAF673AA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2EC7-F8A3-4483-926D-29BEE052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0D92-CCAE-4AE8-8BBC-BE91E415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C34A-E13C-464B-886D-2FA1C60E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D2D2-8C47-45A7-9B8B-B6057B33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0C27-0436-4097-9988-9AE00BE1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CF15-F777-4B9B-9982-7C7832EE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6C33-0637-4AD5-B558-94E71025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F9A5-BFAB-462C-99FA-D1D9B78C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ED1A-DB70-43AE-94EC-8967B9A9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ACDC-15E6-4E75-A01F-16150C57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788C-DD99-4F17-8502-3907F731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F6D3-BB89-4914-AB43-1D3B33CA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D3DD-D66E-4838-ABDD-86FAD8D2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71C8-1BF8-4022-B7CE-3AAA1F0B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CBBF-248A-4254-9659-D208BF00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F3CB-F83E-4113-9AFE-31829384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FAC3-B706-40A7-BE48-D51F5284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8D0F-43B3-4B6C-8114-75BB60F6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F0E5-D4FB-45BB-91D4-DF97F517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812A-3F98-4FAC-9854-2C3B5986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78BC-483A-4A94-B0BC-527781E2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7B73-E118-4252-8CA2-3B606036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4D65-395C-4B8B-8A6B-F3C6E01B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95F4-58C9-435E-8AA8-1CA10294609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F30D-5761-46BA-B0BD-216322E062C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291E-7A8B-4927-89E0-39FD48242B8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-17640"/>
            <a:ext cx="4516560" cy="3980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rcRect l="0" t="-5648" r="0" b="31755"/>
          <a:stretch/>
        </p:blipFill>
        <p:spPr>
          <a:xfrm>
            <a:off x="4484520" y="4208400"/>
            <a:ext cx="4624560" cy="262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rcRect l="0" t="9135" r="0" b="0"/>
          <a:stretch/>
        </p:blipFill>
        <p:spPr>
          <a:xfrm>
            <a:off x="4516560" y="0"/>
            <a:ext cx="4592520" cy="4927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4"/>
          <a:srcRect l="0" t="0" r="265" b="4626"/>
          <a:stretch/>
        </p:blipFill>
        <p:spPr>
          <a:xfrm>
            <a:off x="19080" y="3851280"/>
            <a:ext cx="446544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0B95-2915-4D19-AADC-D54EB5C20B1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-17640"/>
            <a:ext cx="4516560" cy="3980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rcRect l="0" t="-5648" r="0" b="31755"/>
          <a:stretch/>
        </p:blipFill>
        <p:spPr>
          <a:xfrm>
            <a:off x="4484520" y="4208400"/>
            <a:ext cx="4624560" cy="2625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3"/>
          <a:srcRect l="0" t="9135" r="0" b="0"/>
          <a:stretch/>
        </p:blipFill>
        <p:spPr>
          <a:xfrm>
            <a:off x="4516560" y="0"/>
            <a:ext cx="4592520" cy="4927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4"/>
          <a:srcRect l="0" t="0" r="265" b="4626"/>
          <a:stretch/>
        </p:blipFill>
        <p:spPr>
          <a:xfrm>
            <a:off x="0" y="3797280"/>
            <a:ext cx="45450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лан изучения живого объект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е представ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об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ьза для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нужно охраня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BF85-6A74-4A6B-806C-3A748D5FB3F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3829-40D3-45DB-8680-AB34844E6D2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240" y="0"/>
            <a:ext cx="912816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5940360" y="4156200"/>
            <a:ext cx="1109880" cy="779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7812000" y="2133720"/>
            <a:ext cx="973080" cy="745920"/>
          </a:xfrm>
          <a:prstGeom prst="rect">
            <a:avLst/>
          </a:prstGeom>
          <a:ln w="0">
            <a:noFill/>
          </a:ln>
        </p:spPr>
      </p:pic>
      <p:sp>
        <p:nvSpPr>
          <p:cNvPr id="140" name="Кольцо 5"/>
          <p:cNvSpPr/>
          <p:nvPr/>
        </p:nvSpPr>
        <p:spPr>
          <a:xfrm>
            <a:off x="4140360" y="4581360"/>
            <a:ext cx="2447640" cy="1440000"/>
          </a:xfrm>
          <a:custGeom>
            <a:avLst/>
            <a:gdLst/>
            <a:ahLst/>
            <a:rect l="l" t="t" r="r" b="b"/>
            <a:pathLst>
              <a:path w="2447925" h="1439863">
                <a:moveTo>
                  <a:pt x="0" y="719932"/>
                </a:moveTo>
                <a:cubicBezTo>
                  <a:pt x="0" y="322325"/>
                  <a:pt x="547987" y="0"/>
                  <a:pt x="1223963" y="0"/>
                </a:cubicBezTo>
                <a:cubicBezTo>
                  <a:pt x="1899939" y="0"/>
                  <a:pt x="2447926" y="322325"/>
                  <a:pt x="2447926" y="719932"/>
                </a:cubicBezTo>
                <a:cubicBezTo>
                  <a:pt x="2447926" y="1117539"/>
                  <a:pt x="1899939" y="1439864"/>
                  <a:pt x="1223963" y="1439864"/>
                </a:cubicBezTo>
                <a:cubicBezTo>
                  <a:pt x="547987" y="1439864"/>
                  <a:pt x="0" y="1117539"/>
                  <a:pt x="0" y="719932"/>
                </a:cubicBezTo>
                <a:close/>
                <a:moveTo>
                  <a:pt x="359966" y="719932"/>
                </a:moveTo>
                <a:cubicBezTo>
                  <a:pt x="359966" y="918736"/>
                  <a:pt x="746791" y="1079898"/>
                  <a:pt x="1223963" y="1079898"/>
                </a:cubicBezTo>
                <a:cubicBezTo>
                  <a:pt x="1701135" y="1079898"/>
                  <a:pt x="2087960" y="918736"/>
                  <a:pt x="2087960" y="719932"/>
                </a:cubicBezTo>
                <a:cubicBezTo>
                  <a:pt x="2087960" y="521128"/>
                  <a:pt x="1701135" y="359966"/>
                  <a:pt x="1223963" y="359966"/>
                </a:cubicBezTo>
                <a:cubicBezTo>
                  <a:pt x="746791" y="359966"/>
                  <a:pt x="359966" y="521128"/>
                  <a:pt x="359966" y="719932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bc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4"/>
          <a:stretch/>
        </p:blipFill>
        <p:spPr>
          <a:xfrm>
            <a:off x="5229360" y="5275440"/>
            <a:ext cx="711000" cy="626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5"/>
          <a:stretch/>
        </p:blipFill>
        <p:spPr>
          <a:xfrm>
            <a:off x="5796000" y="5119560"/>
            <a:ext cx="969840" cy="744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6"/>
          <a:stretch/>
        </p:blipFill>
        <p:spPr>
          <a:xfrm>
            <a:off x="5940360" y="1557360"/>
            <a:ext cx="970200" cy="744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"/>
          <p:cNvPicPr/>
          <p:nvPr/>
        </p:nvPicPr>
        <p:blipFill>
          <a:blip r:embed="rId7"/>
          <a:stretch/>
        </p:blipFill>
        <p:spPr>
          <a:xfrm>
            <a:off x="4276800" y="5151600"/>
            <a:ext cx="1109520" cy="780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8"/>
          <a:stretch/>
        </p:blipFill>
        <p:spPr>
          <a:xfrm>
            <a:off x="6783480" y="5005440"/>
            <a:ext cx="828720" cy="974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9"/>
          <a:stretch/>
        </p:blipFill>
        <p:spPr>
          <a:xfrm>
            <a:off x="4951440" y="4365720"/>
            <a:ext cx="825480" cy="976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"/>
          <p:cNvPicPr/>
          <p:nvPr/>
        </p:nvPicPr>
        <p:blipFill>
          <a:blip r:embed="rId10"/>
          <a:stretch/>
        </p:blipFill>
        <p:spPr>
          <a:xfrm>
            <a:off x="68400" y="195120"/>
            <a:ext cx="488304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067640" y="546840"/>
            <a:ext cx="31683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лядь живет в Волге в чистой воде до 30 лет. На вылов её требуется много времени, рыба осторожна. Стерлядь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несена в Красную книгу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магазинах ее много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аю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вежем, замороженном виде и консервы? Почему т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4C7A-82F8-4325-9E6D-2A1DDBF62EA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390600" y="128520"/>
            <a:ext cx="318780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187280" y="1915920"/>
            <a:ext cx="7344000" cy="41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хранять природу – значит охранять Родину»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Пришв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7B21-6469-4491-924F-7F1632F19CB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ик с.90-93 прочитать, ответить на вопросы с.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ополнитель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 Выполнить задания на платформе Учи.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* Подготовить сообщение о животном или растении из Красной кни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A78F-B53C-4C94-81A6-34AB8970CEF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D5A1-02D2-4EEC-B728-27121B0A794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309680" y="2492280"/>
            <a:ext cx="6718320" cy="4156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2268360" y="189000"/>
            <a:ext cx="54723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ван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1476360" y="1628640"/>
            <a:ext cx="6121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расная книг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3" name="Picture 5" descr="photo_2017-03-13_19-17-25"/>
          <p:cNvPicPr/>
          <p:nvPr/>
        </p:nvPicPr>
        <p:blipFill>
          <a:blip r:embed="rId1"/>
          <a:stretch/>
        </p:blipFill>
        <p:spPr>
          <a:xfrm>
            <a:off x="7164360" y="5213520"/>
            <a:ext cx="1792440" cy="1644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photo_2017-03-13_19-17-25"/>
          <p:cNvPicPr/>
          <p:nvPr/>
        </p:nvPicPr>
        <p:blipFill>
          <a:blip r:embed="rId2"/>
          <a:stretch/>
        </p:blipFill>
        <p:spPr>
          <a:xfrm>
            <a:off x="7164360" y="5213520"/>
            <a:ext cx="179244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9636-9875-4570-8AE5-6238FDFEB10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360440" y="692280"/>
            <a:ext cx="63072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C490-14A8-4083-A4C2-6DB98D1ED10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221520" cy="54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A492-5F17-464C-B2F6-7F20D804E94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67136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C364-42B5-41F8-A197-FEC282E5050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374840" y="692280"/>
            <a:ext cx="638820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BB55-7D47-4F38-ABDC-8CF8A8895F6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420920" y="692280"/>
            <a:ext cx="67197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9E1A-E566-4150-9227-0CF3FD93D1B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249200" y="549360"/>
            <a:ext cx="65566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5E76-D2F6-4E08-8D9E-FCC87C24A66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132000" y="2281320"/>
            <a:ext cx="2697480" cy="2489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3795840" y="3038400"/>
            <a:ext cx="1414440" cy="974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"/>
          <p:cNvPicPr/>
          <p:nvPr/>
        </p:nvPicPr>
        <p:blipFill>
          <a:blip r:embed="rId3"/>
          <a:stretch/>
        </p:blipFill>
        <p:spPr>
          <a:xfrm>
            <a:off x="3228840" y="111240"/>
            <a:ext cx="2563920" cy="227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4"/>
          <a:stretch/>
        </p:blipFill>
        <p:spPr>
          <a:xfrm>
            <a:off x="5219640" y="1236600"/>
            <a:ext cx="2627280" cy="2289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5"/>
          <a:stretch/>
        </p:blipFill>
        <p:spPr>
          <a:xfrm>
            <a:off x="5219640" y="3525840"/>
            <a:ext cx="2627280" cy="2243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"/>
          <p:cNvPicPr/>
          <p:nvPr/>
        </p:nvPicPr>
        <p:blipFill>
          <a:blip r:embed="rId6"/>
          <a:stretch/>
        </p:blipFill>
        <p:spPr>
          <a:xfrm>
            <a:off x="3228840" y="4692600"/>
            <a:ext cx="2563920" cy="2049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7"/>
          <a:stretch/>
        </p:blipFill>
        <p:spPr>
          <a:xfrm>
            <a:off x="1220760" y="3525840"/>
            <a:ext cx="2595600" cy="2268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"/>
          <p:cNvPicPr/>
          <p:nvPr/>
        </p:nvPicPr>
        <p:blipFill>
          <a:blip r:embed="rId8"/>
          <a:stretch/>
        </p:blipFill>
        <p:spPr>
          <a:xfrm>
            <a:off x="1204920" y="1236600"/>
            <a:ext cx="259092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3T15:35:24Z</dcterms:created>
  <dc:creator>Вжик</dc:creator>
  <dc:description/>
  <dc:language>en-US</dc:language>
  <cp:lastModifiedBy>User</cp:lastModifiedBy>
  <dcterms:modified xsi:type="dcterms:W3CDTF">2025-03-24T16:47:18Z</dcterms:modified>
  <cp:revision>58</cp:revision>
  <dc:subject/>
  <dc:title>Красная книга</dc:title>
</cp:coreProperties>
</file>