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B1EB-8E52-4005-BC2B-5D12B142F50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74A5-0157-406B-9AC0-D1A15DAEF20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6B25-CCC9-47EB-90A3-B556E2F18E6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380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81B5-A630-4BFC-9061-B292538E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9668-0269-4612-BBAA-734701AD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A792-5143-4D42-9BC3-4493A9AA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F8BD-B82D-41B4-9E58-1853B5058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0F0C7-0C2A-4F6F-9239-9ABE99BC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4A06-9552-443C-9B68-FD3B8AEA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1CE2-03BE-4CCA-91E3-D81F73AF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1C52-4561-4EB8-85D1-43D9B206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A62A-D343-4228-8C1F-68C5CF41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7108-C5BB-46E9-8852-DAC3FFC21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03E4-DA52-4987-A2FA-4B12627A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9F15-23AB-4065-B336-92858C5E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03F4-282A-4890-8675-F72158F5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A2B0-3B7B-4581-8145-A633892E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ED5A-A487-495F-B275-541DEF9F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FAF5-A69C-4CCB-BD56-1778D56E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94E4-6A04-49B3-93F9-F5407539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1DF-7AC3-4D5E-B144-0656E48B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7EA4-62DC-4C17-8DED-60FA0C23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77AC-6AD1-41EE-9216-C31AAD23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74C-D9B1-41A3-9E22-922CE5A2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CA4-2008-4B44-AB1E-2B5CD238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F7E1-93B8-460D-8DFB-4F23FDA2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7E75-CBD8-4F2A-B16F-F3D88BD4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6480" y="5760"/>
            <a:ext cx="9129600" cy="6843960"/>
            <a:chOff x="6480" y="5760"/>
            <a:chExt cx="9129600" cy="6843960"/>
          </a:xfrm>
        </p:grpSpPr>
        <p:sp>
          <p:nvSpPr>
            <p:cNvPr id="1" name="Rectangle 2"/>
            <p:cNvSpPr/>
            <p:nvPr/>
          </p:nvSpPr>
          <p:spPr>
            <a:xfrm>
              <a:off x="6480" y="6480"/>
              <a:ext cx="314280" cy="6842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8817120" y="6480"/>
              <a:ext cx="318960" cy="6842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 flipH="1" flipV="1" rot="10800000">
              <a:off x="6480" y="5400"/>
              <a:ext cx="9129600" cy="291960"/>
            </a:xfrm>
            <a:custGeom>
              <a:avLst/>
              <a:gdLst>
                <a:gd name="textAreaLeft" fmla="*/ 925560 w 9129600"/>
                <a:gd name="textAreaRight" fmla="*/ 8204040 w 9129600"/>
                <a:gd name="textAreaTop" fmla="*/ 29880 h 291960"/>
                <a:gd name="textAreaBottom" fmla="*/ 262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6" y="21600"/>
                  </a:lnTo>
                  <a:lnTo>
                    <a:pt x="2082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8826480" y="228600"/>
              <a:ext cx="31680" cy="6391440"/>
            </a:xfrm>
            <a:prstGeom prst="rect">
              <a:avLst/>
            </a:pr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57040" y="276120"/>
              <a:ext cx="61920" cy="637704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 flipV="1">
              <a:off x="6480" y="6557400"/>
              <a:ext cx="9129600" cy="291960"/>
            </a:xfrm>
            <a:custGeom>
              <a:avLst/>
              <a:gdLst>
                <a:gd name="textAreaLeft" fmla="*/ 925560 w 9129600"/>
                <a:gd name="textAreaRight" fmla="*/ 8204040 w 9129600"/>
                <a:gd name="textAreaTop" fmla="*/ 29880 h 291960"/>
                <a:gd name="textAreaBottom" fmla="*/ 262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6" y="21600"/>
                  </a:lnTo>
                  <a:lnTo>
                    <a:pt x="2082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257040" y="243000"/>
              <a:ext cx="8587080" cy="5220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 flipV="1">
              <a:off x="290520" y="6566760"/>
              <a:ext cx="8553600" cy="25560"/>
            </a:xfrm>
            <a:prstGeom prst="pie">
              <a:avLst/>
            </a:pr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23400" bIns="-234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7784-C2C5-4B70-8C5B-997897FD55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"/>
          <p:cNvGrpSpPr/>
          <p:nvPr/>
        </p:nvGrpSpPr>
        <p:grpSpPr>
          <a:xfrm>
            <a:off x="6480" y="5760"/>
            <a:ext cx="9129600" cy="6843960"/>
            <a:chOff x="6480" y="5760"/>
            <a:chExt cx="9129600" cy="6843960"/>
          </a:xfrm>
        </p:grpSpPr>
        <p:sp>
          <p:nvSpPr>
            <p:cNvPr id="51" name="Rectangle 2"/>
            <p:cNvSpPr/>
            <p:nvPr/>
          </p:nvSpPr>
          <p:spPr>
            <a:xfrm>
              <a:off x="6480" y="6480"/>
              <a:ext cx="314280" cy="6842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3"/>
            <p:cNvSpPr/>
            <p:nvPr/>
          </p:nvSpPr>
          <p:spPr>
            <a:xfrm>
              <a:off x="8817120" y="6480"/>
              <a:ext cx="318960" cy="6842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4"/>
            <p:cNvSpPr/>
            <p:nvPr/>
          </p:nvSpPr>
          <p:spPr>
            <a:xfrm flipH="1" flipV="1" rot="10800000">
              <a:off x="6480" y="5400"/>
              <a:ext cx="9129600" cy="291960"/>
            </a:xfrm>
            <a:custGeom>
              <a:avLst/>
              <a:gdLst>
                <a:gd name="textAreaLeft" fmla="*/ 925560 w 9129600"/>
                <a:gd name="textAreaRight" fmla="*/ 8204040 w 9129600"/>
                <a:gd name="textAreaTop" fmla="*/ 29880 h 291960"/>
                <a:gd name="textAreaBottom" fmla="*/ 262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6" y="21600"/>
                  </a:lnTo>
                  <a:lnTo>
                    <a:pt x="2082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8826480" y="228600"/>
              <a:ext cx="31680" cy="6391440"/>
            </a:xfrm>
            <a:prstGeom prst="rect">
              <a:avLst/>
            </a:pr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257040" y="276120"/>
              <a:ext cx="61920" cy="637704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AutoShape 7"/>
            <p:cNvSpPr/>
            <p:nvPr/>
          </p:nvSpPr>
          <p:spPr>
            <a:xfrm flipV="1">
              <a:off x="6480" y="6557400"/>
              <a:ext cx="9129600" cy="291960"/>
            </a:xfrm>
            <a:custGeom>
              <a:avLst/>
              <a:gdLst>
                <a:gd name="textAreaLeft" fmla="*/ 925560 w 9129600"/>
                <a:gd name="textAreaRight" fmla="*/ 8204040 w 9129600"/>
                <a:gd name="textAreaTop" fmla="*/ 29880 h 291960"/>
                <a:gd name="textAreaBottom" fmla="*/ 262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6" y="21600"/>
                  </a:lnTo>
                  <a:lnTo>
                    <a:pt x="2082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>
              <a:off x="257040" y="243000"/>
              <a:ext cx="8587080" cy="5220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AutoShape 9"/>
            <p:cNvSpPr/>
            <p:nvPr/>
          </p:nvSpPr>
          <p:spPr>
            <a:xfrm flipV="1">
              <a:off x="290520" y="6566760"/>
              <a:ext cx="8553600" cy="25560"/>
            </a:xfrm>
            <a:prstGeom prst="pie">
              <a:avLst/>
            </a:pr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23400" bIns="-234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Freeform 2"/>
          <p:cNvSpPr/>
          <p:nvPr/>
        </p:nvSpPr>
        <p:spPr>
          <a:xfrm>
            <a:off x="466560" y="971640"/>
            <a:ext cx="7878960" cy="4662360"/>
          </a:xfrm>
          <a:custGeom>
            <a:avLst/>
            <a:gdLst>
              <a:gd name="textAreaLeft" fmla="*/ 0 w 7878960"/>
              <a:gd name="textAreaRight" fmla="*/ 7879320 w 7878960"/>
              <a:gd name="textAreaTop" fmla="*/ 0 h 4662360"/>
              <a:gd name="textAreaBottom" fmla="*/ 4662720 h 4662360"/>
            </a:gdLst>
            <a:ahLst/>
            <a:rect l="textAreaLeft" t="textAreaTop" r="textAreaRight" b="textAreaBottom"/>
            <a:pathLst>
              <a:path w="4963" h="2937">
                <a:moveTo>
                  <a:pt x="2452" y="267"/>
                </a:moveTo>
                <a:lnTo>
                  <a:pt x="1468" y="233"/>
                </a:lnTo>
                <a:lnTo>
                  <a:pt x="683" y="155"/>
                </a:lnTo>
                <a:lnTo>
                  <a:pt x="178" y="47"/>
                </a:lnTo>
                <a:lnTo>
                  <a:pt x="7" y="2602"/>
                </a:lnTo>
                <a:lnTo>
                  <a:pt x="0" y="2804"/>
                </a:lnTo>
                <a:lnTo>
                  <a:pt x="244" y="2863"/>
                </a:lnTo>
                <a:lnTo>
                  <a:pt x="2358" y="2936"/>
                </a:lnTo>
                <a:lnTo>
                  <a:pt x="4962" y="304"/>
                </a:lnTo>
                <a:lnTo>
                  <a:pt x="4923" y="0"/>
                </a:lnTo>
                <a:lnTo>
                  <a:pt x="4328" y="131"/>
                </a:lnTo>
                <a:lnTo>
                  <a:pt x="3388" y="249"/>
                </a:lnTo>
                <a:lnTo>
                  <a:pt x="2402" y="265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663480" y="1190520"/>
            <a:ext cx="7820280" cy="4480200"/>
          </a:xfrm>
          <a:custGeom>
            <a:avLst/>
            <a:gdLst>
              <a:gd name="textAreaLeft" fmla="*/ 0 w 7820280"/>
              <a:gd name="textAreaRight" fmla="*/ 7820640 w 7820280"/>
              <a:gd name="textAreaTop" fmla="*/ 0 h 4480200"/>
              <a:gd name="textAreaBottom" fmla="*/ 4480560 h 4480200"/>
            </a:gdLst>
            <a:ahLst/>
            <a:rect l="textAreaLeft" t="textAreaTop" r="textAreaRight" b="textAreaBottom"/>
            <a:pathLst>
              <a:path w="4926" h="2822">
                <a:moveTo>
                  <a:pt x="4925" y="188"/>
                </a:moveTo>
                <a:lnTo>
                  <a:pt x="4056" y="208"/>
                </a:lnTo>
                <a:lnTo>
                  <a:pt x="3401" y="214"/>
                </a:lnTo>
                <a:lnTo>
                  <a:pt x="2557" y="203"/>
                </a:lnTo>
                <a:lnTo>
                  <a:pt x="1820" y="171"/>
                </a:lnTo>
                <a:lnTo>
                  <a:pt x="1379" y="142"/>
                </a:lnTo>
                <a:lnTo>
                  <a:pt x="791" y="102"/>
                </a:lnTo>
                <a:lnTo>
                  <a:pt x="27" y="0"/>
                </a:lnTo>
                <a:lnTo>
                  <a:pt x="0" y="2633"/>
                </a:lnTo>
                <a:lnTo>
                  <a:pt x="365" y="2686"/>
                </a:lnTo>
                <a:lnTo>
                  <a:pt x="1280" y="2760"/>
                </a:lnTo>
                <a:lnTo>
                  <a:pt x="3635" y="2821"/>
                </a:lnTo>
                <a:lnTo>
                  <a:pt x="4504" y="2801"/>
                </a:lnTo>
                <a:lnTo>
                  <a:pt x="4849" y="1885"/>
                </a:lnTo>
                <a:lnTo>
                  <a:pt x="4850" y="1884"/>
                </a:lnTo>
                <a:lnTo>
                  <a:pt x="4925" y="188"/>
                </a:lnTo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Group 12"/>
          <p:cNvGrpSpPr/>
          <p:nvPr/>
        </p:nvGrpSpPr>
        <p:grpSpPr>
          <a:xfrm>
            <a:off x="6480" y="5760"/>
            <a:ext cx="9129600" cy="6843960"/>
            <a:chOff x="6480" y="5760"/>
            <a:chExt cx="9129600" cy="6843960"/>
          </a:xfrm>
        </p:grpSpPr>
        <p:sp>
          <p:nvSpPr>
            <p:cNvPr id="62" name="Rectangle 4"/>
            <p:cNvSpPr/>
            <p:nvPr/>
          </p:nvSpPr>
          <p:spPr>
            <a:xfrm>
              <a:off x="6480" y="6480"/>
              <a:ext cx="314280" cy="68421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5"/>
            <p:cNvSpPr/>
            <p:nvPr/>
          </p:nvSpPr>
          <p:spPr>
            <a:xfrm>
              <a:off x="8817120" y="6480"/>
              <a:ext cx="318960" cy="68421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AutoShape 6"/>
            <p:cNvSpPr/>
            <p:nvPr/>
          </p:nvSpPr>
          <p:spPr>
            <a:xfrm flipH="1" flipV="1" rot="10800000">
              <a:off x="6480" y="5400"/>
              <a:ext cx="9129600" cy="291960"/>
            </a:xfrm>
            <a:custGeom>
              <a:avLst/>
              <a:gdLst>
                <a:gd name="textAreaLeft" fmla="*/ 925560 w 9129600"/>
                <a:gd name="textAreaRight" fmla="*/ 8204040 w 9129600"/>
                <a:gd name="textAreaTop" fmla="*/ 29880 h 291960"/>
                <a:gd name="textAreaBottom" fmla="*/ 262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6" y="21600"/>
                  </a:lnTo>
                  <a:lnTo>
                    <a:pt x="2082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7"/>
            <p:cNvSpPr/>
            <p:nvPr/>
          </p:nvSpPr>
          <p:spPr>
            <a:xfrm>
              <a:off x="8826480" y="228600"/>
              <a:ext cx="31680" cy="6391440"/>
            </a:xfrm>
            <a:prstGeom prst="rect">
              <a:avLst/>
            </a:pr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8"/>
            <p:cNvSpPr/>
            <p:nvPr/>
          </p:nvSpPr>
          <p:spPr>
            <a:xfrm>
              <a:off x="257040" y="276120"/>
              <a:ext cx="61920" cy="637704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AutoShape 9"/>
            <p:cNvSpPr/>
            <p:nvPr/>
          </p:nvSpPr>
          <p:spPr>
            <a:xfrm flipV="1">
              <a:off x="6480" y="6557400"/>
              <a:ext cx="9129600" cy="291960"/>
            </a:xfrm>
            <a:custGeom>
              <a:avLst/>
              <a:gdLst>
                <a:gd name="textAreaLeft" fmla="*/ 925560 w 9129600"/>
                <a:gd name="textAreaRight" fmla="*/ 8204040 w 9129600"/>
                <a:gd name="textAreaTop" fmla="*/ 29880 h 291960"/>
                <a:gd name="textAreaBottom" fmla="*/ 262080 h 29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76" y="21600"/>
                  </a:lnTo>
                  <a:lnTo>
                    <a:pt x="20824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0"/>
            <p:cNvSpPr/>
            <p:nvPr/>
          </p:nvSpPr>
          <p:spPr>
            <a:xfrm>
              <a:off x="257040" y="243000"/>
              <a:ext cx="8587080" cy="52200"/>
            </a:xfrm>
            <a:prstGeom prst="rect">
              <a:avLst/>
            </a:prstGeom>
            <a:solidFill>
              <a:srgbClr val="6633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AutoShape 11"/>
            <p:cNvSpPr/>
            <p:nvPr/>
          </p:nvSpPr>
          <p:spPr>
            <a:xfrm flipV="1">
              <a:off x="290520" y="6566760"/>
              <a:ext cx="8553600" cy="25560"/>
            </a:xfrm>
            <a:prstGeom prst="pie">
              <a:avLst/>
            </a:prstGeom>
            <a:solidFill>
              <a:srgbClr val="ecb87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-23400" bIns="-234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Freeform 13"/>
          <p:cNvSpPr/>
          <p:nvPr/>
        </p:nvSpPr>
        <p:spPr>
          <a:xfrm>
            <a:off x="7780320" y="4352760"/>
            <a:ext cx="534960" cy="1425600"/>
          </a:xfrm>
          <a:custGeom>
            <a:avLst/>
            <a:gdLst>
              <a:gd name="textAreaLeft" fmla="*/ 0 w 534960"/>
              <a:gd name="textAreaRight" fmla="*/ 535320 w 53496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337" h="898">
                <a:moveTo>
                  <a:pt x="336" y="0"/>
                </a:moveTo>
                <a:lnTo>
                  <a:pt x="11" y="897"/>
                </a:lnTo>
                <a:lnTo>
                  <a:pt x="29" y="809"/>
                </a:lnTo>
                <a:lnTo>
                  <a:pt x="33" y="761"/>
                </a:lnTo>
                <a:lnTo>
                  <a:pt x="38" y="680"/>
                </a:lnTo>
                <a:lnTo>
                  <a:pt x="32" y="556"/>
                </a:lnTo>
                <a:lnTo>
                  <a:pt x="15" y="462"/>
                </a:lnTo>
                <a:lnTo>
                  <a:pt x="0" y="367"/>
                </a:lnTo>
                <a:lnTo>
                  <a:pt x="250" y="144"/>
                </a:lnTo>
                <a:lnTo>
                  <a:pt x="336" y="0"/>
                </a:lnTo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9FA1-E104-4F35-A420-460F9A8C9E3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44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</a:rPr>
              <a:t>Т</a:t>
            </a: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аня и </a:t>
            </a: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Д</a:t>
            </a: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аня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rcRect l="0" t="7630" r="0" b="7630"/>
          <a:stretch/>
        </p:blipFill>
        <p:spPr>
          <a:xfrm>
            <a:off x="2050920" y="62064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ФРАЗЕОЛОГИЗМЫ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Объект 5" descr=""/>
          <p:cNvPicPr/>
          <p:nvPr/>
        </p:nvPicPr>
        <p:blipFill>
          <a:blip r:embed="rId1"/>
          <a:stretch/>
        </p:blipFill>
        <p:spPr>
          <a:xfrm>
            <a:off x="1530360" y="1822320"/>
            <a:ext cx="6016680" cy="4084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92440" y="48988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63640" y="494172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80808"/>
                </a:solidFill>
                <a:latin typeface="Arial"/>
              </a:rPr>
              <a:t>Работать не покладая ру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16" descr="https://media.istockphoto.com/vectors/illustration-material-business-suit-woman-work-pc-multitasking-vector-id532263812"/>
          <p:cNvPicPr/>
          <p:nvPr/>
        </p:nvPicPr>
        <p:blipFill>
          <a:blip r:embed="rId1"/>
          <a:srcRect l="6621" t="0" r="6621" b="0"/>
          <a:stretch/>
        </p:blipFill>
        <p:spPr>
          <a:xfrm>
            <a:off x="1792440" y="765000"/>
            <a:ext cx="5486400" cy="4032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1"/>
          <p:cNvSpPr txBox="1"/>
          <p:nvPr/>
        </p:nvSpPr>
        <p:spPr>
          <a:xfrm>
            <a:off x="539640" y="0"/>
            <a:ext cx="7128000" cy="216072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Молодец,_x000b_до новых встреч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3"/>
          <a:stretch/>
        </p:blipFill>
        <p:spPr>
          <a:xfrm>
            <a:off x="2124000" y="1844640"/>
            <a:ext cx="4249800" cy="4859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1197000"/>
            <a:ext cx="705636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196640"/>
            <a:ext cx="763272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Мы от простуды вновь страдаем,</a:t>
            </a:r>
            <a:br>
              <a:rPr sz="4400"/>
            </a:b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Его мы на дом вызываем.</a:t>
            </a:r>
            <a:br>
              <a:rPr sz="4400"/>
            </a:b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Он выдаст нам больничный лист.</a:t>
            </a:r>
            <a:br>
              <a:rPr sz="4400"/>
            </a:br>
            <a:r>
              <a:rPr b="1" lang="ru-RU" sz="4400" spc="-1" strike="noStrike">
                <a:solidFill>
                  <a:srgbClr val="080808"/>
                </a:solidFill>
                <a:latin typeface="Arial"/>
              </a:rPr>
              <a:t>А кто он как специалист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Arial"/>
              </a:rPr>
              <a:t>Д</a:t>
            </a:r>
            <a:r>
              <a:rPr b="1" lang="ru-RU" sz="9600" spc="-1" strike="noStrike">
                <a:solidFill>
                  <a:srgbClr val="080808"/>
                </a:solidFill>
                <a:latin typeface="Arial"/>
              </a:rPr>
              <a:t>ОК</a:t>
            </a:r>
            <a:r>
              <a:rPr b="1" lang="ru-RU" sz="9600" spc="-1" strike="noStrike">
                <a:solidFill>
                  <a:srgbClr val="00b050"/>
                </a:solidFill>
                <a:latin typeface="Arial"/>
              </a:rPr>
              <a:t>Т</a:t>
            </a:r>
            <a:r>
              <a:rPr b="1" lang="ru-RU" sz="9600" spc="-1" strike="noStrike">
                <a:solidFill>
                  <a:srgbClr val="080808"/>
                </a:solidFill>
                <a:latin typeface="Arial"/>
              </a:rPr>
              <a:t>ОР</a:t>
            </a:r>
            <a:endParaRPr b="1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Объект 3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4969080" cy="4464000"/>
          </a:xfrm>
          <a:prstGeom prst="rect">
            <a:avLst/>
          </a:prstGeom>
          <a:ln w="0">
            <a:noFill/>
          </a:ln>
        </p:spPr>
      </p:pic>
    </p:spTree>
  </p:cSld>
  <p:transition advTm="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1"/>
          <p:cNvSpPr txBox="1"/>
          <p:nvPr/>
        </p:nvSpPr>
        <p:spPr>
          <a:xfrm>
            <a:off x="755640" y="765000"/>
            <a:ext cx="6912000" cy="792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Характеристика звуков 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1619280" y="1979640"/>
            <a:ext cx="900000" cy="9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 flipH="1">
            <a:off x="6289560" y="1800360"/>
            <a:ext cx="1285920" cy="9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2654280" y="2340000"/>
            <a:ext cx="3419640" cy="72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согласн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1" name="WordArt 6"/>
          <p:cNvSpPr txBox="1"/>
          <p:nvPr/>
        </p:nvSpPr>
        <p:spPr>
          <a:xfrm>
            <a:off x="2068560" y="3240000"/>
            <a:ext cx="5311800" cy="1557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9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твердый или мягкий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32" name="WordArt 8"/>
          <p:cNvSpPr txBox="1"/>
          <p:nvPr/>
        </p:nvSpPr>
        <p:spPr>
          <a:xfrm>
            <a:off x="539640" y="540072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5e11a6"/>
                </a:solidFill>
                <a:latin typeface="Arial Black"/>
              </a:rPr>
              <a:t>звон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5e11a6"/>
              </a:solidFill>
              <a:latin typeface="Arial Black"/>
              <a:ea typeface="Arial Black"/>
            </a:endParaRPr>
          </a:p>
        </p:txBody>
      </p:sp>
      <p:sp>
        <p:nvSpPr>
          <p:cNvPr id="133" name="WordArt 9"/>
          <p:cNvSpPr txBox="1"/>
          <p:nvPr/>
        </p:nvSpPr>
        <p:spPr>
          <a:xfrm>
            <a:off x="6300720" y="5400720"/>
            <a:ext cx="2627280" cy="720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6800">
                  <a:solidFill>
                    <a:srgbClr val="4c1900"/>
                  </a:solidFill>
                  <a:miter/>
                </a:ln>
                <a:solidFill>
                  <a:srgbClr val="3deb3d"/>
                </a:solidFill>
                <a:latin typeface="Arial Black"/>
              </a:rPr>
              <a:t>глухой</a:t>
            </a:r>
            <a:endParaRPr b="0" lang="en-US" sz="1800" spc="1" strike="noStrike">
              <a:ln w="46800">
                <a:solidFill>
                  <a:srgbClr val="4c1900"/>
                </a:solidFill>
                <a:miter/>
              </a:ln>
              <a:solidFill>
                <a:srgbClr val="3deb3d"/>
              </a:solidFill>
              <a:latin typeface="Arial Black"/>
              <a:ea typeface="Arial Black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1079640" y="3419640"/>
            <a:ext cx="179280" cy="19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 flipH="1">
            <a:off x="7722720" y="3600360"/>
            <a:ext cx="568440" cy="17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12" descr=""/>
          <p:cNvPicPr/>
          <p:nvPr/>
        </p:nvPicPr>
        <p:blipFill>
          <a:blip r:embed="rId1"/>
          <a:stretch/>
        </p:blipFill>
        <p:spPr>
          <a:xfrm>
            <a:off x="2720880" y="5400720"/>
            <a:ext cx="1059120" cy="1171440"/>
          </a:xfrm>
          <a:prstGeom prst="rect">
            <a:avLst/>
          </a:prstGeom>
          <a:ln w="0">
            <a:noFill/>
          </a:ln>
        </p:spPr>
      </p:pic>
      <p:sp>
        <p:nvSpPr>
          <p:cNvPr id="137" name="WordArt 13"/>
          <p:cNvSpPr txBox="1"/>
          <p:nvPr/>
        </p:nvSpPr>
        <p:spPr>
          <a:xfrm>
            <a:off x="360360" y="1800360"/>
            <a:ext cx="1440000" cy="1800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8" name="WordArt 14"/>
          <p:cNvSpPr txBox="1"/>
          <p:nvPr/>
        </p:nvSpPr>
        <p:spPr>
          <a:xfrm>
            <a:off x="360360" y="1800360"/>
            <a:ext cx="1440000" cy="1800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WordArt 15"/>
          <p:cNvSpPr txBox="1"/>
          <p:nvPr/>
        </p:nvSpPr>
        <p:spPr>
          <a:xfrm>
            <a:off x="360360" y="1800360"/>
            <a:ext cx="1440000" cy="1800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0" name="WordArt 16"/>
          <p:cNvSpPr txBox="1"/>
          <p:nvPr/>
        </p:nvSpPr>
        <p:spPr>
          <a:xfrm>
            <a:off x="360360" y="1800360"/>
            <a:ext cx="1440000" cy="18000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 Black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 Black"/>
              <a:ea typeface="Arial Black"/>
            </a:endParaRPr>
          </a:p>
        </p:txBody>
      </p:sp>
      <p:sp>
        <p:nvSpPr>
          <p:cNvPr id="141" name="WordArt 17"/>
          <p:cNvSpPr txBox="1"/>
          <p:nvPr/>
        </p:nvSpPr>
        <p:spPr>
          <a:xfrm>
            <a:off x="7559640" y="1619280"/>
            <a:ext cx="1440000" cy="180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48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Arial Black"/>
              </a:rPr>
              <a:t>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Arial Black"/>
              <a:ea typeface="Arial Black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6021360"/>
            <a:ext cx="77724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85800" y="1197000"/>
          <a:ext cx="7772400" cy="38876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00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А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80808"/>
                          </a:solidFill>
                          <a:latin typeface="Arial"/>
                        </a:rPr>
                        <a:t>Х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Л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6633"/>
                    </a:solidFill>
                  </a:tcPr>
                </a:tc>
              </a:tr>
              <a:tr h="934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ДОЖ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Г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КА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d"/>
                    </a:solidFill>
                  </a:tcPr>
                </a:tc>
              </a:tr>
              <a:tr h="93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Г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В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Д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ae8"/>
                    </a:solidFill>
                  </a:tcPr>
                </a:tc>
              </a:tr>
              <a:tr h="1008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ПЕ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Д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80808"/>
                          </a:solidFill>
                          <a:latin typeface="Arial"/>
                          <a:ea typeface="Times New Roman"/>
                        </a:rPr>
                        <a:t>НИ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3cd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Преобразуй слова, заменяя парные согласные Д-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ДОМ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ДАМ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ТЕЛО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ДОЧКА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КАТУШКА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КОТ-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ДРАП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ПЛОДЫ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ДВОРЕЦ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ДАЧКА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ТЕНЬ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Arial"/>
              </a:rPr>
              <a:t>УТОЧКА -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ставь пропущенную парную согласную Д-Т в конце слов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СА…, ПО … ТРУ…, ОБЕ…, ЗОН…, ЛИС…, РЕЦЕП…, ПОХО…, СОСЕ…, ВХО…, ДИКТА…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Запиши словосочетания, вставляя пропущенные парные согласные Д-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рудная за…ач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у…ачная выс…ав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жёл…ый пи….жак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с…арая  ...оск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о….личная о….мет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80808"/>
                </a:solidFill>
                <a:latin typeface="Arial"/>
              </a:rPr>
              <a:t>с……рогий ….у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800" spc="-1" strike="noStrike">
                <a:solidFill>
                  <a:srgbClr val="ff0000"/>
                </a:solidFill>
                <a:latin typeface="Arial"/>
              </a:rPr>
              <a:t>Физминутка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112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л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Мы отважные пилоты. (Руки на поясе)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Водим в небе самолеты. (Имитация)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Над родной землей летаем, (руки в стороны, с наклонами)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Обгоняя птичьи стаи. (Махи руками)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Хоть взлетаем высоко –  (Прыжки на месте)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Приземляемся легко! (Посадка на место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9T15:01:04Z</dcterms:created>
  <dc:creator>Анна</dc:creator>
  <dc:description/>
  <dc:language>en-US</dc:language>
  <cp:lastModifiedBy>Аня</cp:lastModifiedBy>
  <dcterms:modified xsi:type="dcterms:W3CDTF">2019-03-01T11:10:48Z</dcterms:modified>
  <cp:revision>94</cp:revision>
  <dc:subject/>
  <dc:title>РЕШЕНИЕ УРАВНЕНИЙ</dc:title>
</cp:coreProperties>
</file>