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EBC7-1727-48BB-8F50-698FFC1C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89E2-EA45-422A-838A-EB169CB2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4F04-3E48-4A47-BBE7-907CE43C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F6A9-E235-44D3-89AE-4A8AD9A4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820F-7473-49C2-A457-837163B0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CE4C-E609-41BD-9D17-FDAB6AB5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6EFB-0EF4-4193-839B-84B6F38D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8016-705D-40D0-9B3E-A6D1DAFA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55E9-2644-4634-8AE9-E77B3A11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052C-1FE3-452A-A98D-005E5266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8147-4379-41C6-82EB-380EC1D0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FDBE-09E8-4915-8A5A-79BC30C8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8A68-448A-416B-8472-1A4302AE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028A-2057-458C-BCA3-70B29E5A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4EAC-3E22-4F35-9512-D1C5926A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5978-C9B8-405F-8324-7CFE9F7E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780A-B6A4-4BF3-A0CD-71053665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4AE1-F9AA-4FDB-85B0-D7C19D7C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A4768-FFEF-45BC-9DE0-695624B8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D291-3F67-44C9-A3A6-0DCA7630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BBC5-2DCF-4A92-ACCE-A72C8CC0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08CD-CF52-4C9A-94A0-D6B14E3E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D523-3C30-4A71-B0E2-77DF69A4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74A4-0095-4AA1-A6F3-1E855FEB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301A-799E-488D-A01B-63EFD21755C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f0f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3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80840"/>
                </a:gs>
                <a:gs pos="100000">
                  <a:srgbClr val="0000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B6BE-1727-488F-BF68-6988F807C91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revo.pravbeseda.ru/index.php?idpic=271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revo.pravbeseda.ru/index.php?idpic=2416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dd925"/>
                </a:solidFill>
                <a:latin typeface="Script MT Bold"/>
              </a:rPr>
              <a:t>МОУ  Основная общеобразовательная школа  № 12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5000" spc="-1" strike="noStrike">
                <a:solidFill>
                  <a:srgbClr val="ff9933"/>
                </a:solidFill>
                <a:latin typeface="Monotype Corsiva"/>
              </a:rPr>
              <a:t>«Муромский период жизни участника Великой Отечественной войны Патриарха всея Руси Пимена»</a:t>
            </a:r>
            <a:br>
              <a:rPr sz="3400"/>
            </a:br>
            <a:r>
              <a:rPr b="0" lang="ru-RU" sz="3400" spc="-1" strike="noStrike">
                <a:solidFill>
                  <a:srgbClr val="d8f6f8"/>
                </a:solidFill>
                <a:latin typeface="Script MT Bold"/>
              </a:rPr>
              <a:t>  </a:t>
            </a:r>
            <a:endParaRPr b="0" lang="en-US" sz="3400" spc="-1" strike="noStrike">
              <a:solidFill>
                <a:srgbClr val="d8f6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Находясь в Ростове-на-Дону Пимен посвятил муромлянам  стихотворение</a:t>
            </a:r>
            <a:endParaRPr b="0" lang="en-US" sz="36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Рисунок 3" descr="f0656ffc9a62.jpg"/>
          <p:cNvPicPr/>
          <p:nvPr/>
        </p:nvPicPr>
        <p:blipFill>
          <a:blip r:embed="rId1"/>
          <a:stretch/>
        </p:blipFill>
        <p:spPr>
          <a:xfrm>
            <a:off x="685800" y="1447920"/>
            <a:ext cx="79246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«Муромлянам»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 далекого города южног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зовется Ростов-на-Дон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лю привет свой вам теплый,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рдеч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родную мою сторо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поминаю о вас ежеднев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в церковный молитвенный ча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моляю Заступницу наш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 от бед всех спасла Она ва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когда не забыть мне былог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х прекрасных и радостных дней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гда вместе молились мы с ва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мерцанье церковных огн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мню пост, Благовещенье, Вербно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храме «яблочку» негде упаст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тому здесь собралися верн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 к подножью Распятого пасть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забыть никогда первой Пасх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служил я под сводом небе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родных муромлян многолюдь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кружавших меня, словно ле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 слезами меня провожали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я помню и всем дорож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за каждой душою и сердц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оть и издали - все же слежу…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10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10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10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1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1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961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2c67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73356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000" spc="-1" strike="noStrike">
                <a:solidFill>
                  <a:srgbClr val="ddd925"/>
                </a:solidFill>
                <a:latin typeface="Tahoma"/>
              </a:rPr>
              <a:t>Патриар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925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ddd925"/>
                </a:solidFill>
                <a:latin typeface="Tahoma"/>
              </a:rPr>
              <a:t>всея Ру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dd925"/>
                </a:solidFill>
                <a:latin typeface="Tahoma"/>
              </a:rPr>
              <a:t>     </a:t>
            </a:r>
            <a:r>
              <a:rPr b="1" lang="ru-RU" sz="4000" spc="-1" strike="noStrike">
                <a:solidFill>
                  <a:srgbClr val="ddd925"/>
                </a:solidFill>
                <a:latin typeface="Tahoma"/>
              </a:rPr>
              <a:t>ПИМЕ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c676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72c676"/>
                </a:solidFill>
                <a:latin typeface="Tahoma"/>
              </a:rPr>
              <a:t>1971 – 1990 г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Pimen"/>
          <p:cNvPicPr/>
          <p:nvPr/>
        </p:nvPicPr>
        <p:blipFill>
          <a:blip r:embed="rId1"/>
          <a:stretch/>
        </p:blipFill>
        <p:spPr>
          <a:xfrm>
            <a:off x="5029200" y="1447920"/>
            <a:ext cx="2265480" cy="36385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0" y="260280"/>
            <a:ext cx="9144000" cy="6156360"/>
          </a:xfrm>
          <a:custGeom>
            <a:avLst/>
            <a:gdLst>
              <a:gd name="textAreaLeft" fmla="*/ 1338840 w 9144000"/>
              <a:gd name="textAreaRight" fmla="*/ 7805160 w 9144000"/>
              <a:gd name="textAreaTop" fmla="*/ 901440 h 6156360"/>
              <a:gd name="textAreaBottom" fmla="*/ 5254920 h 615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17" y="10800"/>
                </a:moveTo>
                <a:cubicBezTo>
                  <a:pt x="917" y="16258"/>
                  <a:pt x="5342" y="20683"/>
                  <a:pt x="10800" y="20683"/>
                </a:cubicBezTo>
                <a:cubicBezTo>
                  <a:pt x="16258" y="20683"/>
                  <a:pt x="20683" y="16258"/>
                  <a:pt x="20683" y="10800"/>
                </a:cubicBezTo>
                <a:cubicBezTo>
                  <a:pt x="20683" y="5342"/>
                  <a:pt x="16258" y="917"/>
                  <a:pt x="10800" y="917"/>
                </a:cubicBezTo>
                <a:cubicBezTo>
                  <a:pt x="5342" y="917"/>
                  <a:pt x="917" y="5342"/>
                  <a:pt x="917" y="10800"/>
                </a:cubicBez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8256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2124000" y="260280"/>
            <a:ext cx="5181480" cy="5805360"/>
            <a:chOff x="2124000" y="260280"/>
            <a:chExt cx="5181480" cy="5805360"/>
          </a:xfrm>
        </p:grpSpPr>
        <p:pic>
          <p:nvPicPr>
            <p:cNvPr id="132" name="Picture 9" descr="BD20656_"/>
            <p:cNvPicPr/>
            <p:nvPr/>
          </p:nvPicPr>
          <p:blipFill>
            <a:blip r:embed="rId2"/>
            <a:stretch/>
          </p:blipFill>
          <p:spPr>
            <a:xfrm>
              <a:off x="2124000" y="260280"/>
              <a:ext cx="51814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0" descr="BD20657_"/>
            <p:cNvPicPr/>
            <p:nvPr/>
          </p:nvPicPr>
          <p:blipFill>
            <a:blip r:embed="rId3"/>
            <a:stretch/>
          </p:blipFill>
          <p:spPr>
            <a:xfrm>
              <a:off x="2199960" y="5217840"/>
              <a:ext cx="5029200" cy="84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240" y="609120"/>
            <a:ext cx="4267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ил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23 июля 1910 года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городе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городс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Рисунок 5" descr="Богородск.jpg"/>
          <p:cNvPicPr/>
          <p:nvPr/>
        </p:nvPicPr>
        <p:blipFill>
          <a:blip r:embed="rId1"/>
          <a:stretch/>
        </p:blipFill>
        <p:spPr>
          <a:xfrm>
            <a:off x="457200" y="609480"/>
            <a:ext cx="411480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ff0000"/>
                </a:solidFill>
                <a:uFillTx/>
                <a:latin typeface="Tahoma"/>
              </a:rPr>
              <a:t>Июнь 1941 года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Сергей Извеков 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(мирское имя Патриарха Пимена) </a:t>
            </a: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был призван на фро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Содержимое 9" descr="3562a5f4093b7e5edfad33cd7ce.jpg"/>
          <p:cNvPicPr/>
          <p:nvPr/>
        </p:nvPicPr>
        <p:blipFill>
          <a:blip r:embed="rId1"/>
          <a:stretch/>
        </p:blipFill>
        <p:spPr>
          <a:xfrm>
            <a:off x="4495680" y="1981080"/>
            <a:ext cx="4402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141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«Во время войны полк, где воевал будущий Патриарх Пимен, попал в окружение, где люди были обречены.    В полку знали, что среди солдат есть иеромонах, и, не боясь уже ничего, кроме смерти, упали ему в ноги: «Батя, молись. Куда нам идти?». У иеромонаха была запрятана икона Божьей Матери, и теперь под огнем он слезно молился пред ней. И сжалилась Пресвятая Богородица над гибнущим воинством – все увидели как ожила вдруг икона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14120"/>
            <a:ext cx="82296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761760"/>
            <a:ext cx="426708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Божья Матерь  протянула руку, указав путь на проры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к спасс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60948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3581280" y="533520"/>
            <a:ext cx="5191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22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52640" y="456840"/>
            <a:ext cx="464796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В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944 г.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будучи уже на территории Германии Пимен был арестован  и этапирован в Россию, где его ждал скорый суд и ссылка в сталинский концлагерь в Ворку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игум. Пимен (Извеков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02320" y="457200"/>
            <a:ext cx="4155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1edf1"/>
                </a:solidFill>
                <a:latin typeface="Monotype Corsiva"/>
              </a:rPr>
              <a:t>В 1945 году Пимен приезжает в Муром</a:t>
            </a:r>
            <a:endParaRPr b="0" lang="en-US" sz="4000" spc="-1" strike="noStrike">
              <a:solidFill>
                <a:srgbClr val="d8f6f8"/>
              </a:solidFill>
              <a:latin typeface="Tahoma"/>
            </a:endParaRPr>
          </a:p>
        </p:txBody>
      </p:sp>
      <p:pic>
        <p:nvPicPr>
          <p:cNvPr id="151" name="Picture 8" descr="Еп. Пимен (Извеков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066680"/>
            <a:ext cx="3809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В течение года служит в Благовещенском соборе</a:t>
            </a:r>
            <a:endParaRPr b="0" lang="en-US" sz="3200" spc="-1" strike="noStrike">
              <a:solidFill>
                <a:srgbClr val="d8f6f8"/>
              </a:solidFill>
              <a:latin typeface="Tahoma"/>
            </a:endParaRPr>
          </a:p>
        </p:txBody>
      </p:sp>
      <p:pic>
        <p:nvPicPr>
          <p:cNvPr id="153" name="Picture 2" descr="Cher2_07"/>
          <p:cNvPicPr/>
          <p:nvPr/>
        </p:nvPicPr>
        <p:blipFill>
          <a:blip r:embed="rId1"/>
          <a:stretch/>
        </p:blipFill>
        <p:spPr>
          <a:xfrm>
            <a:off x="762120" y="1600200"/>
            <a:ext cx="75801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9-04-15T17:14:3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