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6EFB-1D7A-425C-8D02-8BD5DC32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2076-DA70-40D1-9478-E17B6A3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EA4F-51EA-40FF-898D-D379634C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69F46-F20F-431E-9178-287D0850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92E0-25D4-4BE5-8093-31960283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9E3B-A0A0-4553-B6B0-07A16E56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3792-DB4D-4A33-AE53-DB11953B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8635-CC53-4C8C-9FA9-F8D22740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9A8B-F766-4EAB-A60E-395ECFE5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1B1C-A036-42C8-A574-A0C29FBA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6865-C032-42AC-8294-8B2C7473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44FE-4067-4BA8-83F1-3F33551F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3B46-1B1F-474B-8666-0CD11C15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40FA-7D39-4446-834A-46612A7F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5ED9-4D13-43DD-A5D7-29FF3917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769C-877B-4358-A9EA-048D002D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C2D4-CA5B-4DFA-A6D8-1CBBFF96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D560-C1BA-4D34-B8B3-C80729B1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A30B-7669-47E1-ACC7-E51D74B7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A819-C13E-459E-BF9C-D2AC9587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327F-290B-42BF-B850-CADAAFFF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03B3-2A0B-465F-84B3-80C864A3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09AD-8FCA-4C72-B5FA-F0284E4D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7E86-7ADC-49CE-9F04-AA21F44F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06FA-D28D-4746-A7C3-A10031EEAE8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3172-9CBD-4FE5-9BA0-C1E72A7E431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revo.pravbeseda.ru/index.php?idpic=271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revo.pravbeseda.ru/index.php?idpic=241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dd925"/>
                </a:solidFill>
                <a:latin typeface="Script MT Bold"/>
              </a:rPr>
              <a:t>МОУ  Основная общеобразовательная школа  № 12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5000" spc="-1" strike="noStrike">
                <a:solidFill>
                  <a:srgbClr val="ff9933"/>
                </a:solidFill>
                <a:latin typeface="Monotype Corsiva"/>
              </a:rPr>
              <a:t>«Муромский период жизни участника Великой Отечественной войны Патриарха всея Руси Пимена»</a:t>
            </a:r>
            <a:br>
              <a:rPr sz="3400"/>
            </a:br>
            <a:r>
              <a:rPr b="0" lang="ru-RU" sz="3400" spc="-1" strike="noStrike">
                <a:solidFill>
                  <a:srgbClr val="d8f6f8"/>
                </a:solidFill>
                <a:latin typeface="Script MT Bold"/>
              </a:rPr>
              <a:t>  </a:t>
            </a:r>
            <a:endParaRPr b="0" lang="en-US" sz="3400" spc="-1" strike="noStrike">
              <a:solidFill>
                <a:srgbClr val="d8f6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Находясь в Ростове-на-Дону Пимен посвятил муромлянам  стихотворение</a:t>
            </a:r>
            <a:endParaRPr b="0" lang="en-US" sz="36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Рисунок 3" descr="f0656ffc9a62.jpg"/>
          <p:cNvPicPr/>
          <p:nvPr/>
        </p:nvPicPr>
        <p:blipFill>
          <a:blip r:embed="rId1"/>
          <a:stretch/>
        </p:blipFill>
        <p:spPr>
          <a:xfrm>
            <a:off x="685800" y="1447920"/>
            <a:ext cx="79246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«Муромлянам»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 далекого города южног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зовется Ростов-на-До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лю привет свой вам теплый,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деч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одную мою сторо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поминаю о вас ежеднев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 церковный молитвенный ча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оляю Заступницу наш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 от бед всех спасла Она в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гда не забыть мне былог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х прекрасных и радостных дне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вместе молились мы с ва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мерцанье церковных огн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ню пост, Благовещенье, Вербно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храме «яблочку» негде упаст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ому здесь собралися верн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 к подножью Распятого пасть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забыть никогда первой Пасх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служил я под сводом небе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родных муромлян многолюдь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ружавших меня, словно ле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 слезами меня провожали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я помню и всем дорож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за каждой душою и сердц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ть и издали - все же слежу…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10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10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10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1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961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2c67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7335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ddd925"/>
                </a:solidFill>
                <a:latin typeface="Tahoma"/>
              </a:rPr>
              <a:t>Патриар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925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ddd925"/>
                </a:solidFill>
                <a:latin typeface="Tahoma"/>
              </a:rPr>
              <a:t>всея Ру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d925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ddd925"/>
                </a:solidFill>
                <a:latin typeface="Tahoma"/>
              </a:rPr>
              <a:t>ПИМЕ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c67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72c676"/>
                </a:solidFill>
                <a:latin typeface="Tahoma"/>
              </a:rPr>
              <a:t>1971 – 1990 г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imen"/>
          <p:cNvPicPr/>
          <p:nvPr/>
        </p:nvPicPr>
        <p:blipFill>
          <a:blip r:embed="rId1"/>
          <a:stretch/>
        </p:blipFill>
        <p:spPr>
          <a:xfrm>
            <a:off x="5029200" y="1447920"/>
            <a:ext cx="2265480" cy="36385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0" y="260280"/>
            <a:ext cx="9144000" cy="6156360"/>
          </a:xfrm>
          <a:custGeom>
            <a:avLst/>
            <a:gdLst>
              <a:gd name="textAreaLeft" fmla="*/ 1338840 w 9144000"/>
              <a:gd name="textAreaRight" fmla="*/ 7805160 w 9144000"/>
              <a:gd name="textAreaTop" fmla="*/ 901440 h 6156360"/>
              <a:gd name="textAreaBottom" fmla="*/ 5254920 h 615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7" y="10800"/>
                </a:moveTo>
                <a:cubicBezTo>
                  <a:pt x="917" y="16258"/>
                  <a:pt x="5342" y="20683"/>
                  <a:pt x="10800" y="20683"/>
                </a:cubicBezTo>
                <a:cubicBezTo>
                  <a:pt x="16258" y="20683"/>
                  <a:pt x="20683" y="16258"/>
                  <a:pt x="20683" y="10800"/>
                </a:cubicBezTo>
                <a:cubicBezTo>
                  <a:pt x="20683" y="5342"/>
                  <a:pt x="16258" y="917"/>
                  <a:pt x="10800" y="917"/>
                </a:cubicBezTo>
                <a:cubicBezTo>
                  <a:pt x="5342" y="917"/>
                  <a:pt x="917" y="5342"/>
                  <a:pt x="917" y="10800"/>
                </a:cubicBez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2124000" y="260280"/>
            <a:ext cx="5181480" cy="5805360"/>
            <a:chOff x="2124000" y="260280"/>
            <a:chExt cx="5181480" cy="5805360"/>
          </a:xfrm>
        </p:grpSpPr>
        <p:pic>
          <p:nvPicPr>
            <p:cNvPr id="132" name="Picture 9" descr="BD20656_"/>
            <p:cNvPicPr/>
            <p:nvPr/>
          </p:nvPicPr>
          <p:blipFill>
            <a:blip r:embed="rId2"/>
            <a:stretch/>
          </p:blipFill>
          <p:spPr>
            <a:xfrm>
              <a:off x="2124000" y="260280"/>
              <a:ext cx="51814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0" descr="BD20657_"/>
            <p:cNvPicPr/>
            <p:nvPr/>
          </p:nvPicPr>
          <p:blipFill>
            <a:blip r:embed="rId3"/>
            <a:stretch/>
          </p:blipFill>
          <p:spPr>
            <a:xfrm>
              <a:off x="2199960" y="5217840"/>
              <a:ext cx="502920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609120"/>
            <a:ext cx="4267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л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3 июля 1910 год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городе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городс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Рисунок 5" descr="Богородск.jpg"/>
          <p:cNvPicPr/>
          <p:nvPr/>
        </p:nvPicPr>
        <p:blipFill>
          <a:blip r:embed="rId1"/>
          <a:stretch/>
        </p:blipFill>
        <p:spPr>
          <a:xfrm>
            <a:off x="457200" y="609480"/>
            <a:ext cx="411480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ff0000"/>
                </a:solidFill>
                <a:uFillTx/>
                <a:latin typeface="Tahoma"/>
              </a:rPr>
              <a:t>Июнь 1941 года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Сергей Извеков 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(мирское имя Патриарха Пимена) 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был призван на фро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Содержимое 9" descr="3562a5f4093b7e5edfad33cd7ce.jpg"/>
          <p:cNvPicPr/>
          <p:nvPr/>
        </p:nvPicPr>
        <p:blipFill>
          <a:blip r:embed="rId1"/>
          <a:stretch/>
        </p:blipFill>
        <p:spPr>
          <a:xfrm>
            <a:off x="4495680" y="1981080"/>
            <a:ext cx="4402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«Во время войны полк, где воевал будущий Патриарх Пимен, попал в окружение, где люди были обречены.    В полку знали, что среди солдат есть иеромонах, и, не боясь уже ничего, кроме смерти, упали ему в ноги: «Батя, молись. Куда нам идти?». У иеромонаха была запрятана икона Божьей Матери, и теперь под огнем он слезно молился пред ней. И сжалилась Пресвятая Богородица над гибнущим воинством – все увидели как ожила вдруг икона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761760"/>
            <a:ext cx="426708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Божья Матерь  протянула руку, указав путь на проры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к спас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6094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5191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22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52640" y="456840"/>
            <a:ext cx="46479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В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944 г.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будучи уже на территории Германии Пимен был арестован  и этапирован в Россию, где его ждал скорый суд и ссылка в сталинский концлагерь в Ворку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игум. Пимен (Извеков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2320" y="457200"/>
            <a:ext cx="4155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edf1"/>
                </a:solidFill>
                <a:latin typeface="Monotype Corsiva"/>
              </a:rPr>
              <a:t>В 1945 году Пимен приезжает в Муром</a:t>
            </a:r>
            <a:endParaRPr b="0" lang="en-US" sz="4000" spc="-1" strike="noStrike">
              <a:solidFill>
                <a:srgbClr val="d8f6f8"/>
              </a:solidFill>
              <a:latin typeface="Tahoma"/>
            </a:endParaRPr>
          </a:p>
        </p:txBody>
      </p:sp>
      <p:pic>
        <p:nvPicPr>
          <p:cNvPr id="151" name="Picture 8" descr="Еп. Пимен (Извеков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066680"/>
            <a:ext cx="3809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течение года служит в Благовещенском соборе</a:t>
            </a:r>
            <a:endParaRPr b="0" lang="en-US" sz="3200" spc="-1" strike="noStrike">
              <a:solidFill>
                <a:srgbClr val="d8f6f8"/>
              </a:solidFill>
              <a:latin typeface="Tahoma"/>
            </a:endParaRPr>
          </a:p>
        </p:txBody>
      </p:sp>
      <p:pic>
        <p:nvPicPr>
          <p:cNvPr id="153" name="Picture 2" descr="Cher2_07"/>
          <p:cNvPicPr/>
          <p:nvPr/>
        </p:nvPicPr>
        <p:blipFill>
          <a:blip r:embed="rId1"/>
          <a:stretch/>
        </p:blipFill>
        <p:spPr>
          <a:xfrm>
            <a:off x="762120" y="1600200"/>
            <a:ext cx="75801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9-04-15T17:14:3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