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3.jpeg" ContentType="image/jpeg"/>
  <Override PartName="/ppt/media/image30.jpeg" ContentType="image/jpeg"/>
  <Override PartName="/ppt/media/image1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28.png" ContentType="image/png"/>
  <Override PartName="/ppt/media/image31.wmf" ContentType="image/x-wmf"/>
  <Override PartName="/ppt/media/image13.gif" ContentType="image/gif"/>
  <Override PartName="/ppt/media/image4.jpeg" ContentType="image/jpeg"/>
  <Override PartName="/ppt/media/image8.wmf" ContentType="image/x-wmf"/>
  <Override PartName="/ppt/media/image10.gif" ContentType="image/gif"/>
  <Override PartName="/ppt/media/image9.gif" ContentType="image/gif"/>
  <Override PartName="/ppt/media/image12.png" ContentType="image/png"/>
  <Override PartName="/ppt/media/image32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7.jpeg" ContentType="image/jpeg"/>
  <Override PartName="/ppt/media/image16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78A-DAB7-409E-8E6A-5882847B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CAC-3DD2-4732-914D-5C62F03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224-696D-44B3-B725-E268AC3C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637-2CB1-4C21-AF97-F287582A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BD2-7A0F-4BED-A544-C585AB3C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96A-7E37-40B7-A6D8-27E80D42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77C-8C06-4B49-A221-661B0BBA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027-76B6-47CA-B313-D5B9258C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A0E-EA8B-4FE2-90D7-377759C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5A3-A00D-4297-89DB-C27D2E8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C44-118B-490B-8567-5B00C2F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328-4D1C-4062-87E2-274435B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6CD-039F-44F8-935A-0A919F8610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45E-6304-4A9B-97CB-F4EB02DC4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1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image" Target="../media/image1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3357360"/>
            <a:ext cx="3241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дготовила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:     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Ощипко Пол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еница 5-Б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БОУ «Ново-Ямская СОШ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Борина С.А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итель иностранного язы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50920" y="1268280"/>
            <a:ext cx="87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Англоязычная геймерская лексика </a:t>
            </a:r>
            <a:endParaRPr b="1" lang="en-US" sz="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в речи современных подростков</a:t>
            </a:r>
            <a:endParaRPr b="1" lang="en-US" sz="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360" y="3157560"/>
            <a:ext cx="2349360" cy="31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5480" y="3157560"/>
            <a:ext cx="2351160" cy="31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CB6-C382-47BE-89A1-7CABF61CC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116000" y="3254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403280" y="177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116000" y="1628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лова игрового сленга вы употребляете (встречаете) чащ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Диаграмма 16" descr=""/>
          <p:cNvPicPr/>
          <p:nvPr/>
        </p:nvPicPr>
        <p:blipFill>
          <a:blip r:embed="rId2"/>
          <a:stretch/>
        </p:blipFill>
        <p:spPr>
          <a:xfrm>
            <a:off x="1925640" y="2090880"/>
            <a:ext cx="6442200" cy="4341600"/>
          </a:xfrm>
          <a:prstGeom prst="rect">
            <a:avLst/>
          </a:prstGeom>
          <a:ln w="0">
            <a:noFill/>
          </a:ln>
        </p:spPr>
      </p:pic>
      <p:pic>
        <p:nvPicPr>
          <p:cNvPr id="106" name="Диаграмма 8" descr=""/>
          <p:cNvPicPr/>
          <p:nvPr/>
        </p:nvPicPr>
        <p:blipFill>
          <a:blip r:embed="rId3"/>
          <a:stretch/>
        </p:blipFill>
        <p:spPr>
          <a:xfrm>
            <a:off x="1352520" y="2463840"/>
            <a:ext cx="7158240" cy="4111560"/>
          </a:xfrm>
          <a:prstGeom prst="rect">
            <a:avLst/>
          </a:prstGeom>
          <a:ln w="0">
            <a:noFill/>
          </a:ln>
        </p:spPr>
      </p:pic>
      <p:pic>
        <p:nvPicPr>
          <p:cNvPr id="107" name="Диаграмма 9" descr=""/>
          <p:cNvPicPr/>
          <p:nvPr/>
        </p:nvPicPr>
        <p:blipFill>
          <a:blip r:embed="rId4"/>
          <a:stretch/>
        </p:blipFill>
        <p:spPr>
          <a:xfrm>
            <a:off x="633240" y="2730600"/>
            <a:ext cx="7734600" cy="36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K:\Варсопко М. проект\komp\komputeri-498.gif"/>
          <p:cNvPicPr/>
          <p:nvPr/>
        </p:nvPicPr>
        <p:blipFill>
          <a:blip r:embed="rId5"/>
          <a:stretch/>
        </p:blipFill>
        <p:spPr>
          <a:xfrm>
            <a:off x="179280" y="297000"/>
            <a:ext cx="1224000" cy="136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K:\Варсопко М. проект\komp\komputeri-422.gif"/>
          <p:cNvPicPr/>
          <p:nvPr/>
        </p:nvPicPr>
        <p:blipFill>
          <a:blip r:embed="rId6"/>
          <a:stretch/>
        </p:blipFill>
        <p:spPr>
          <a:xfrm>
            <a:off x="7524720" y="136440"/>
            <a:ext cx="13939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B69-7EC8-4579-A6F5-78783E36E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1116000" y="3254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1403280" y="177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116000" y="1628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лова игрового сленга вы употребляете в повседневной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Диаграмма 16" descr=""/>
          <p:cNvPicPr/>
          <p:nvPr/>
        </p:nvPicPr>
        <p:blipFill>
          <a:blip r:embed="rId2"/>
          <a:stretch/>
        </p:blipFill>
        <p:spPr>
          <a:xfrm>
            <a:off x="1925640" y="2090880"/>
            <a:ext cx="6442200" cy="4341600"/>
          </a:xfrm>
          <a:prstGeom prst="rect">
            <a:avLst/>
          </a:prstGeom>
          <a:ln w="0">
            <a:noFill/>
          </a:ln>
        </p:spPr>
      </p:pic>
      <p:pic>
        <p:nvPicPr>
          <p:cNvPr id="117" name="Диаграмма 8" descr=""/>
          <p:cNvPicPr/>
          <p:nvPr/>
        </p:nvPicPr>
        <p:blipFill>
          <a:blip r:embed="rId3"/>
          <a:stretch/>
        </p:blipFill>
        <p:spPr>
          <a:xfrm>
            <a:off x="1352520" y="2463840"/>
            <a:ext cx="7158240" cy="4111560"/>
          </a:xfrm>
          <a:prstGeom prst="rect">
            <a:avLst/>
          </a:prstGeom>
          <a:ln w="0">
            <a:noFill/>
          </a:ln>
        </p:spPr>
      </p:pic>
      <p:pic>
        <p:nvPicPr>
          <p:cNvPr id="118" name="Диаграмма 10" descr=""/>
          <p:cNvPicPr/>
          <p:nvPr/>
        </p:nvPicPr>
        <p:blipFill>
          <a:blip r:embed="rId4"/>
          <a:stretch/>
        </p:blipFill>
        <p:spPr>
          <a:xfrm>
            <a:off x="1065240" y="2801880"/>
            <a:ext cx="7302600" cy="363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:\Варсопко М. проект\komp\komputeri-498.gif"/>
          <p:cNvPicPr/>
          <p:nvPr/>
        </p:nvPicPr>
        <p:blipFill>
          <a:blip r:embed="rId5"/>
          <a:stretch/>
        </p:blipFill>
        <p:spPr>
          <a:xfrm>
            <a:off x="179280" y="297000"/>
            <a:ext cx="1322640" cy="14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:\Варсопко М. проект\komp\komputeri-422.gif"/>
          <p:cNvPicPr/>
          <p:nvPr/>
        </p:nvPicPr>
        <p:blipFill>
          <a:blip r:embed="rId6"/>
          <a:stretch/>
        </p:blipFill>
        <p:spPr>
          <a:xfrm>
            <a:off x="7451640" y="63360"/>
            <a:ext cx="1467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00B-121C-457C-A792-CDC0277D9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116000" y="3254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403280" y="177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116000" y="16286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слова игрового сленга вам понят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Диаграмма 16" descr=""/>
          <p:cNvPicPr/>
          <p:nvPr/>
        </p:nvPicPr>
        <p:blipFill>
          <a:blip r:embed="rId2"/>
          <a:stretch/>
        </p:blipFill>
        <p:spPr>
          <a:xfrm>
            <a:off x="1925640" y="2090880"/>
            <a:ext cx="6442200" cy="4341600"/>
          </a:xfrm>
          <a:prstGeom prst="rect">
            <a:avLst/>
          </a:prstGeom>
          <a:ln w="0">
            <a:noFill/>
          </a:ln>
        </p:spPr>
      </p:pic>
      <p:pic>
        <p:nvPicPr>
          <p:cNvPr id="128" name="Диаграмма 8" descr=""/>
          <p:cNvPicPr/>
          <p:nvPr/>
        </p:nvPicPr>
        <p:blipFill>
          <a:blip r:embed="rId3"/>
          <a:stretch/>
        </p:blipFill>
        <p:spPr>
          <a:xfrm>
            <a:off x="1352520" y="2463840"/>
            <a:ext cx="7158240" cy="411156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11" descr=""/>
          <p:cNvPicPr/>
          <p:nvPr/>
        </p:nvPicPr>
        <p:blipFill>
          <a:blip r:embed="rId4"/>
          <a:stretch/>
        </p:blipFill>
        <p:spPr>
          <a:xfrm>
            <a:off x="1065240" y="2962440"/>
            <a:ext cx="7302600" cy="368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K:\Варсопко М. проект\komp\komputeri-498.gif"/>
          <p:cNvPicPr/>
          <p:nvPr/>
        </p:nvPicPr>
        <p:blipFill>
          <a:blip r:embed="rId5"/>
          <a:stretch/>
        </p:blipFill>
        <p:spPr>
          <a:xfrm>
            <a:off x="179280" y="297000"/>
            <a:ext cx="1322640" cy="14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K:\Варсопко М. проект\komp\komputeri-422.gif"/>
          <p:cNvPicPr/>
          <p:nvPr/>
        </p:nvPicPr>
        <p:blipFill>
          <a:blip r:embed="rId6"/>
          <a:stretch/>
        </p:blipFill>
        <p:spPr>
          <a:xfrm>
            <a:off x="7524720" y="136440"/>
            <a:ext cx="13939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воды практической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539640" y="11970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Геймерская лексика присутствует в общении семиклассников нашей школы и они знают значения этих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енг в целом, и игровой сленг в частности, «засоряет» речь современных молод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учащихся 7 классов нашей школы речь не сильно «засорена» игровым слен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иболее употребительные слова игрового сленга пришли в русский язык из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G:\Варсопко М. проект\компьютер\Рисунок1.jpg"/>
          <p:cNvPicPr/>
          <p:nvPr/>
        </p:nvPicPr>
        <p:blipFill>
          <a:blip r:embed="rId2"/>
          <a:stretch/>
        </p:blipFill>
        <p:spPr>
          <a:xfrm>
            <a:off x="5940360" y="3500280"/>
            <a:ext cx="2879640" cy="2854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:\Варсопко М. проект\компьютер\компьютер.gif"/>
          <p:cNvPicPr/>
          <p:nvPr/>
        </p:nvPicPr>
        <p:blipFill>
          <a:blip r:embed="rId3"/>
          <a:stretch/>
        </p:blipFill>
        <p:spPr>
          <a:xfrm>
            <a:off x="324000" y="373212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родукт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E66-EBC0-4766-9589-9EDE419201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14F-C003-45BA-8619-323F35377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K:\Варсопко М. проект\komp\komputeri-422.gif"/>
          <p:cNvPicPr/>
          <p:nvPr/>
        </p:nvPicPr>
        <p:blipFill>
          <a:blip r:embed="rId1"/>
          <a:stretch/>
        </p:blipFill>
        <p:spPr>
          <a:xfrm>
            <a:off x="7505640" y="115920"/>
            <a:ext cx="1413000" cy="141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Users\Светлана\Desktop\Проект\IMG_8830.jpg"/>
          <p:cNvPicPr/>
          <p:nvPr/>
        </p:nvPicPr>
        <p:blipFill>
          <a:blip r:embed="rId2"/>
          <a:stretch/>
        </p:blipFill>
        <p:spPr>
          <a:xfrm>
            <a:off x="2914560" y="1268280"/>
            <a:ext cx="3218040" cy="4999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 rot="359400">
            <a:off x="5449680" y="1365120"/>
            <a:ext cx="3351240" cy="2419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 rot="537000">
            <a:off x="185400" y="3071520"/>
            <a:ext cx="34099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B44-8E54-453F-9101-F4ACE8320F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E534-28A4-4893-82C7-28BD8FEE8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7" descr="K:\Варсопко М. проект\komp\komputeri-498.gif"/>
          <p:cNvPicPr/>
          <p:nvPr/>
        </p:nvPicPr>
        <p:blipFill>
          <a:blip r:embed="rId1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K:\Варсопко М. проект\komp\komputeri-422.gif"/>
          <p:cNvPicPr/>
          <p:nvPr/>
        </p:nvPicPr>
        <p:blipFill>
          <a:blip r:embed="rId2"/>
          <a:stretch/>
        </p:blipFill>
        <p:spPr>
          <a:xfrm>
            <a:off x="7684920" y="297000"/>
            <a:ext cx="12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3"/>
          <a:stretch/>
        </p:blipFill>
        <p:spPr>
          <a:xfrm>
            <a:off x="1328760" y="1542960"/>
            <a:ext cx="7429320" cy="5315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1547640" y="620640"/>
            <a:ext cx="61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исок литературы и интернет- источ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8AC-B5ED-46A9-8CF6-C558FB7544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61A-D876-4FAA-ADDF-A1087E8D1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Светлана\Desktop\kursi.jpg"/>
          <p:cNvPicPr/>
          <p:nvPr/>
        </p:nvPicPr>
        <p:blipFill>
          <a:blip r:embed="rId1"/>
          <a:stretch/>
        </p:blipFill>
        <p:spPr>
          <a:xfrm>
            <a:off x="4573440" y="2924280"/>
            <a:ext cx="45626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G:\Варсопко М. проект\компьютер\Рисунок1.jpg"/>
          <p:cNvPicPr/>
          <p:nvPr/>
        </p:nvPicPr>
        <p:blipFill>
          <a:blip r:embed="rId1"/>
          <a:stretch/>
        </p:blipFill>
        <p:spPr>
          <a:xfrm>
            <a:off x="6156360" y="2708280"/>
            <a:ext cx="2905200" cy="3324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684360" y="1396440"/>
            <a:ext cx="811044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геймерской лексики в речи современных подростков на примере учащихся 7-х классов МБОУ «Ново-Ямская СОШ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смотреть истоки появления геймерской лек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ь анкету для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ан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анализировать результаты анке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одвести итоги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оставить словарь-справочник англий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мствований,  наиболее часто используемых  в онла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8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и задач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8E32-6D14-447B-B55D-35BCEF43C8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47F8-CC45-411A-B3DF-69A6B0404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Елена\анимашки\анимации новые\x_a89db78c.jpg"/>
          <p:cNvPicPr/>
          <p:nvPr/>
        </p:nvPicPr>
        <p:blipFill>
          <a:blip r:embed="rId2"/>
          <a:stretch/>
        </p:blipFill>
        <p:spPr>
          <a:xfrm>
            <a:off x="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K:\Варсопко М. проект\komp\Рисунокн.jpg"/>
          <p:cNvPicPr/>
          <p:nvPr/>
        </p:nvPicPr>
        <p:blipFill>
          <a:blip r:embed="rId3"/>
          <a:stretch/>
        </p:blipFill>
        <p:spPr>
          <a:xfrm>
            <a:off x="8064360" y="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еписка/ общение подростков во время игр в режиме реального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нглицизмы, используемые в устном и письменном общении подростков в онлайн иг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етоды</a:t>
            </a:r>
            <a:r>
              <a:rPr b="0" lang="ru-RU" sz="24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 и различных источ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FF03-132B-41A4-B848-552BD3299C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009-9A95-480A-911C-BE44352F7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G:\Варсопко М. проект\компьютер\anylizing_computer_10066WHT[1].gif"/>
          <p:cNvPicPr/>
          <p:nvPr/>
        </p:nvPicPr>
        <p:blipFill>
          <a:blip r:embed="rId1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K:\Варсопко М. проект\компьютер\j0404263.wmf"/>
          <p:cNvPicPr/>
          <p:nvPr/>
        </p:nvPicPr>
        <p:blipFill>
          <a:blip r:embed="rId2"/>
          <a:stretch/>
        </p:blipFill>
        <p:spPr>
          <a:xfrm>
            <a:off x="5651640" y="4508640"/>
            <a:ext cx="170964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 раскрыть понятие «геймерств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вопросы истоков появления геймерской лекс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семикласс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ставить словарь-справочник англицизмов из игрового сле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редставить результат проектно-исследовательской работы на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K:\Варсопко М. проект\компьютер\Изображение 142.gif"/>
          <p:cNvPicPr/>
          <p:nvPr/>
        </p:nvPicPr>
        <p:blipFill>
          <a:blip r:embed="rId1"/>
          <a:stretch/>
        </p:blipFill>
        <p:spPr>
          <a:xfrm>
            <a:off x="250920" y="404640"/>
            <a:ext cx="1216080" cy="72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K:\Варсопко М. проект\компьютер\компьютер.gif"/>
          <p:cNvPicPr/>
          <p:nvPr/>
        </p:nvPicPr>
        <p:blipFill>
          <a:blip r:embed="rId2"/>
          <a:stretch/>
        </p:blipFill>
        <p:spPr>
          <a:xfrm>
            <a:off x="7451640" y="4608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467000" y="277920"/>
            <a:ext cx="61293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K:\Варсопко М. проект\компьютер\Рисунок1.png"/>
          <p:cNvPicPr/>
          <p:nvPr/>
        </p:nvPicPr>
        <p:blipFill>
          <a:blip r:embed="rId3"/>
          <a:stretch/>
        </p:blipFill>
        <p:spPr>
          <a:xfrm>
            <a:off x="7351560" y="2852640"/>
            <a:ext cx="1629000" cy="1184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692360" y="47628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лан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340000" y="404280"/>
            <a:ext cx="66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воды теоретической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9C90-9C18-4BDC-9B9B-BCB5335517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744-8DDD-49D6-8597-7F0E9B3DC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K:\Варсопко М. проект\Рисунок3.gif"/>
          <p:cNvPicPr/>
          <p:nvPr/>
        </p:nvPicPr>
        <p:blipFill>
          <a:blip r:embed="rId1"/>
          <a:stretch/>
        </p:blipFill>
        <p:spPr>
          <a:xfrm>
            <a:off x="539640" y="61920"/>
            <a:ext cx="1692360" cy="1308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971640" y="2060640"/>
            <a:ext cx="77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ймерство» произошло от английского слова gamer - игрок. «Геймер - увлеченный специалист в области компьютерных игр». В широком смысле, геймеры - это люди, занимающиеся компьютерными видеоиг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именно английского игрового сленга связывают с появлением массовых онлайн игр, где он стал неотъемлемой частью игрового процесса. В онлайн игры вовлекается большое число пользователей со всего мира, и, оказавшись в одном пространстве, они вынуждены прибегать к некоторому универсальному средству коммуникации. Таким образом, английский игровой сленг выполняет роль способа общения пользователей, являющихся носителями разных язы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K:\Варсопко М. проект\komp\komputeri-498.gif"/>
          <p:cNvPicPr/>
          <p:nvPr/>
        </p:nvPicPr>
        <p:blipFill>
          <a:blip r:embed="rId2"/>
          <a:stretch/>
        </p:blipFill>
        <p:spPr>
          <a:xfrm>
            <a:off x="7211880" y="5157720"/>
            <a:ext cx="1317600" cy="135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4" descr="K:\Варсопко М. проект\komp\hw23.gif"/>
          <p:cNvPicPr/>
          <p:nvPr/>
        </p:nvPicPr>
        <p:blipFill>
          <a:blip r:embed="rId3"/>
          <a:stretch/>
        </p:blipFill>
        <p:spPr>
          <a:xfrm>
            <a:off x="179280" y="5041800"/>
            <a:ext cx="11098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часто вы играете в онлайн игр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уете ли вы во время иг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ечи игровой слен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слова игрового слен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употребляете (встречаете) чаще вс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слова игрового сленга вы употребляе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 ли слова игрового сленга, используемые другими игроками вам понятны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9546-BDBB-48A3-8431-B373C25D00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6596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1AA-FC6E-45CA-ADC1-3419B1A8E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7" descr="G:\Варсопко М. проект\компьютер\komp35.gif"/>
          <p:cNvPicPr/>
          <p:nvPr/>
        </p:nvPicPr>
        <p:blipFill>
          <a:blip r:embed="rId1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G:\Варсопко М. проект\компьютер\ui7i.png"/>
          <p:cNvPicPr/>
          <p:nvPr/>
        </p:nvPicPr>
        <p:blipFill>
          <a:blip r:embed="rId2"/>
          <a:stretch/>
        </p:blipFill>
        <p:spPr>
          <a:xfrm>
            <a:off x="7283520" y="-5076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1285920" y="620640"/>
            <a:ext cx="609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819-7143-400A-9248-C9D21CBF40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928-DFE4-4DEA-89EA-BCC3B7E09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C:\Users\Светлана\Desktop\Проект\IMG_8677.jpg"/>
          <p:cNvPicPr/>
          <p:nvPr/>
        </p:nvPicPr>
        <p:blipFill>
          <a:blip r:embed="rId1"/>
          <a:stretch/>
        </p:blipFill>
        <p:spPr>
          <a:xfrm>
            <a:off x="900000" y="1704960"/>
            <a:ext cx="2622600" cy="407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Светлана\Documents\Downloads\a5ba1352-7931-4da5-b82b-17c3972e4253.JPG"/>
          <p:cNvPicPr/>
          <p:nvPr/>
        </p:nvPicPr>
        <p:blipFill>
          <a:blip r:embed="rId2"/>
          <a:stretch/>
        </p:blipFill>
        <p:spPr>
          <a:xfrm>
            <a:off x="4206960" y="1268280"/>
            <a:ext cx="4492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85E2-756E-4E2E-9E03-DDD1D02D3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1116000" y="3254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403280" y="177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116000" y="1628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часто вы играете в онлайн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Диаграмма 16" descr=""/>
          <p:cNvPicPr/>
          <p:nvPr/>
        </p:nvPicPr>
        <p:blipFill>
          <a:blip r:embed="rId2"/>
          <a:stretch/>
        </p:blipFill>
        <p:spPr>
          <a:xfrm>
            <a:off x="1925640" y="2090880"/>
            <a:ext cx="6442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E60-0A7A-4F6F-B778-CD8A69138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116000" y="3254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403280" y="177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116000" y="1628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е ли вы во время игры в своей речи игровой слен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16" descr=""/>
          <p:cNvPicPr/>
          <p:nvPr/>
        </p:nvPicPr>
        <p:blipFill>
          <a:blip r:embed="rId2"/>
          <a:stretch/>
        </p:blipFill>
        <p:spPr>
          <a:xfrm>
            <a:off x="1925640" y="2090880"/>
            <a:ext cx="6442200" cy="434160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8" descr=""/>
          <p:cNvPicPr/>
          <p:nvPr/>
        </p:nvPicPr>
        <p:blipFill>
          <a:blip r:embed="rId3"/>
          <a:stretch/>
        </p:blipFill>
        <p:spPr>
          <a:xfrm>
            <a:off x="1352520" y="2463840"/>
            <a:ext cx="7158240" cy="411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K:\Варсопко М. проект\komp\komputeri-498.gif"/>
          <p:cNvPicPr/>
          <p:nvPr/>
        </p:nvPicPr>
        <p:blipFill>
          <a:blip r:embed="rId4"/>
          <a:stretch/>
        </p:blipFill>
        <p:spPr>
          <a:xfrm>
            <a:off x="17640" y="115920"/>
            <a:ext cx="1311120" cy="146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K:\Варсопко М. проект\komp\komputeri-422.gif"/>
          <p:cNvPicPr/>
          <p:nvPr/>
        </p:nvPicPr>
        <p:blipFill>
          <a:blip r:embed="rId5"/>
          <a:stretch/>
        </p:blipFill>
        <p:spPr>
          <a:xfrm>
            <a:off x="7524720" y="136440"/>
            <a:ext cx="13939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>Соломаха Е.И.</dc:creator>
  <dc:description>http://aida.ucoz.ru</dc:description>
  <dc:language>en-US</dc:language>
  <cp:lastModifiedBy>Светлана</cp:lastModifiedBy>
  <dcterms:modified xsi:type="dcterms:W3CDTF">2022-03-03T06:32:41Z</dcterms:modified>
  <cp:revision>80</cp:revision>
  <dc:subject/>
  <dc:title>Слайд 1</dc:title>
</cp:coreProperties>
</file>