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C05-E9C4-4F5D-8BCD-CA8529C5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FF4-F682-4D2B-9262-E4DC523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9CF-886D-4BF2-BA52-954F510A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68E-5EAA-4BF7-8DC6-D51FEEB5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367-A9C9-4C3E-B1DE-469EC6A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BC5-D9F4-413A-82F4-39BC339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1F7-8A70-47E2-867C-59614599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586-B1CC-4E86-9EEC-06DEF4E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38B-4D7F-49F9-B4EE-66ABE15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052-B0F8-4441-AC87-BA28297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4E5-2347-4244-91DF-B07F24C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89B-B3A3-42EE-BB41-B56F5E8A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14B-57F3-458C-BD74-AB0FAE44B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ru-static.z-dn.net/files/da3/f65a5395c075030c21941d794cb49d81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8640" y="517680"/>
          <a:ext cx="8196480" cy="3686040"/>
        </p:xfrm>
        <a:graphic>
          <a:graphicData uri="http://schemas.openxmlformats.org/drawingml/2006/table">
            <a:tbl>
              <a:tblPr/>
              <a:tblGrid>
                <a:gridCol w="3579840"/>
                <a:gridCol w="1676520"/>
                <a:gridCol w="1676520"/>
                <a:gridCol w="1263600"/>
              </a:tblGrid>
              <a:tr h="767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№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8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и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учки по 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ластика по 4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заплатили за покупку-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5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86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93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98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01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04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Oval 85"/>
          <p:cNvSpPr/>
          <p:nvPr/>
        </p:nvSpPr>
        <p:spPr>
          <a:xfrm>
            <a:off x="4567320" y="644400"/>
            <a:ext cx="53316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86"/>
          <p:cNvSpPr/>
          <p:nvPr/>
        </p:nvSpPr>
        <p:spPr>
          <a:xfrm>
            <a:off x="6311880" y="660240"/>
            <a:ext cx="517680" cy="55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7"/>
          <p:cNvSpPr/>
          <p:nvPr/>
        </p:nvSpPr>
        <p:spPr>
          <a:xfrm>
            <a:off x="7775640" y="64764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1"/>
          <p:cNvSpPr/>
          <p:nvPr/>
        </p:nvSpPr>
        <p:spPr>
          <a:xfrm>
            <a:off x="2533680" y="4270320"/>
            <a:ext cx="62420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3*6=18 (р.) заплатили за ру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4*4=16 (р.) заплатили за ла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18+16=34 (р.)запл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34 руб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8640" y="517680"/>
          <a:ext cx="8196480" cy="2877840"/>
        </p:xfrm>
        <a:graphic>
          <a:graphicData uri="http://schemas.openxmlformats.org/drawingml/2006/table">
            <a:tbl>
              <a:tblPr/>
              <a:tblGrid>
                <a:gridCol w="3488040"/>
                <a:gridCol w="1350720"/>
                <a:gridCol w="1789200"/>
                <a:gridCol w="1568520"/>
              </a:tblGrid>
              <a:tr h="777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№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0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ндаш- 3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бом -? в 3 руб. </a:t>
                      </a: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оль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1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12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19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24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27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30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Oval 85"/>
          <p:cNvSpPr/>
          <p:nvPr/>
        </p:nvSpPr>
        <p:spPr>
          <a:xfrm>
            <a:off x="435456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6"/>
          <p:cNvSpPr/>
          <p:nvPr/>
        </p:nvSpPr>
        <p:spPr>
          <a:xfrm>
            <a:off x="5951520" y="660240"/>
            <a:ext cx="517680" cy="55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7"/>
          <p:cNvSpPr/>
          <p:nvPr/>
        </p:nvSpPr>
        <p:spPr>
          <a:xfrm>
            <a:off x="7620120" y="66024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1"/>
          <p:cNvSpPr/>
          <p:nvPr/>
        </p:nvSpPr>
        <p:spPr>
          <a:xfrm>
            <a:off x="2540160" y="3906720"/>
            <a:ext cx="6242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*3=90 (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90 рублей стоит аль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990720" y="685800"/>
          <a:ext cx="7162560" cy="1584360"/>
        </p:xfrm>
        <a:graphic>
          <a:graphicData uri="http://schemas.openxmlformats.org/drawingml/2006/table">
            <a:tbl>
              <a:tblPr/>
              <a:tblGrid>
                <a:gridCol w="1904760"/>
                <a:gridCol w="1600200"/>
                <a:gridCol w="2133720"/>
                <a:gridCol w="1523880"/>
              </a:tblGrid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гу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Oval 85"/>
          <p:cNvSpPr/>
          <p:nvPr/>
        </p:nvSpPr>
        <p:spPr>
          <a:xfrm>
            <a:off x="342900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86"/>
          <p:cNvSpPr/>
          <p:nvPr/>
        </p:nvSpPr>
        <p:spPr>
          <a:xfrm>
            <a:off x="5361120" y="685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6" descr="http://skrinshoter.ru/i/200119/2tB1af4p.png"/>
          <p:cNvPicPr/>
          <p:nvPr/>
        </p:nvPicPr>
        <p:blipFill>
          <a:blip r:embed="rId1"/>
          <a:stretch/>
        </p:blipFill>
        <p:spPr>
          <a:xfrm>
            <a:off x="2666880" y="2590920"/>
            <a:ext cx="42735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стный счё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ttp://skrinshoter.ru/i/200119/XwY8M2xl.png"/>
          <p:cNvPicPr/>
          <p:nvPr/>
        </p:nvPicPr>
        <p:blipFill>
          <a:blip r:embed="rId1"/>
          <a:stretch/>
        </p:blipFill>
        <p:spPr>
          <a:xfrm>
            <a:off x="457200" y="1219320"/>
            <a:ext cx="433080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skrinshoter.ru/i/200119/iVO9UuVX.png"/>
          <p:cNvPicPr/>
          <p:nvPr/>
        </p:nvPicPr>
        <p:blipFill>
          <a:blip r:embed="rId2"/>
          <a:stretch/>
        </p:blipFill>
        <p:spPr>
          <a:xfrm>
            <a:off x="3606840" y="3740040"/>
            <a:ext cx="43178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skrinshoter.ru/i/200119/YkC61xlW.png"/>
          <p:cNvPicPr/>
          <p:nvPr/>
        </p:nvPicPr>
        <p:blipFill>
          <a:blip r:embed="rId1"/>
          <a:stretch/>
        </p:blipFill>
        <p:spPr>
          <a:xfrm>
            <a:off x="1066680" y="1523880"/>
            <a:ext cx="32306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skrinshoter.ru/i/200119/z6X6AevF.png"/>
          <p:cNvPicPr/>
          <p:nvPr/>
        </p:nvPicPr>
        <p:blipFill>
          <a:blip r:embed="rId2"/>
          <a:stretch/>
        </p:blipFill>
        <p:spPr>
          <a:xfrm>
            <a:off x="4724280" y="3733920"/>
            <a:ext cx="31435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38080" y="685800"/>
          <a:ext cx="701064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47920"/>
                <a:gridCol w="1371600"/>
                <a:gridCol w="1371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(15-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" name="Group 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2" name="Freeform 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9" name="Arc 1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rc 1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1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4" name="Arc 1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1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7" name="Arc 2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2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0" name="Arc 2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2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Oval 25"/>
          <p:cNvSpPr/>
          <p:nvPr/>
        </p:nvSpPr>
        <p:spPr>
          <a:xfrm>
            <a:off x="411480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3"/>
          <p:cNvSpPr/>
          <p:nvPr/>
        </p:nvSpPr>
        <p:spPr>
          <a:xfrm>
            <a:off x="5562720" y="685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4"/>
          <p:cNvSpPr/>
          <p:nvPr/>
        </p:nvSpPr>
        <p:spPr>
          <a:xfrm>
            <a:off x="69343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3"/>
          <p:cNvSpPr/>
          <p:nvPr/>
        </p:nvSpPr>
        <p:spPr>
          <a:xfrm>
            <a:off x="5048640" y="259236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9-(15-6)=90-9=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838080" y="568440"/>
          <a:ext cx="7162920" cy="1108080"/>
        </p:xfrm>
        <a:graphic>
          <a:graphicData uri="http://schemas.openxmlformats.org/drawingml/2006/table">
            <a:tbl>
              <a:tblPr/>
              <a:tblGrid>
                <a:gridCol w="281952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:(53-4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7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8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85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90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3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6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Oval 85"/>
          <p:cNvSpPr/>
          <p:nvPr/>
        </p:nvSpPr>
        <p:spPr>
          <a:xfrm>
            <a:off x="4027320" y="557280"/>
            <a:ext cx="533520" cy="5331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6"/>
          <p:cNvSpPr/>
          <p:nvPr/>
        </p:nvSpPr>
        <p:spPr>
          <a:xfrm>
            <a:off x="5562720" y="56844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7"/>
          <p:cNvSpPr/>
          <p:nvPr/>
        </p:nvSpPr>
        <p:spPr>
          <a:xfrm>
            <a:off x="7010280" y="5684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1"/>
          <p:cNvSpPr/>
          <p:nvPr/>
        </p:nvSpPr>
        <p:spPr>
          <a:xfrm>
            <a:off x="4343400" y="2743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5:(53-48)=35:5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+4)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3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04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11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16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19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22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0"/>
          <p:cNvGrpSpPr/>
          <p:nvPr/>
        </p:nvGrpSpPr>
        <p:grpSpPr>
          <a:xfrm>
            <a:off x="5486400" y="2895480"/>
            <a:ext cx="3007800" cy="1011960"/>
            <a:chOff x="5486400" y="2895480"/>
            <a:chExt cx="3007800" cy="1011960"/>
          </a:xfrm>
        </p:grpSpPr>
        <p:sp>
          <p:nvSpPr>
            <p:cNvPr id="128" name="Rectangle 91"/>
            <p:cNvSpPr/>
            <p:nvPr/>
          </p:nvSpPr>
          <p:spPr>
            <a:xfrm>
              <a:off x="5561640" y="3386880"/>
              <a:ext cx="293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(6+4)*5=10*5=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2"/>
            <p:cNvSpPr/>
            <p:nvPr/>
          </p:nvSpPr>
          <p:spPr>
            <a:xfrm>
              <a:off x="5486400" y="2895480"/>
              <a:ext cx="17604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990720" y="685800"/>
          <a:ext cx="7162560" cy="110952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+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32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39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44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47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50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2"/>
          <p:cNvSpPr/>
          <p:nvPr/>
        </p:nvSpPr>
        <p:spPr>
          <a:xfrm>
            <a:off x="4271760" y="2773440"/>
            <a:ext cx="42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8+32=(60+30)+(4+2)=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990720" y="685800"/>
          <a:ext cx="7162560" cy="1108080"/>
        </p:xfrm>
        <a:graphic>
          <a:graphicData uri="http://schemas.openxmlformats.org/drawingml/2006/table">
            <a:tbl>
              <a:tblPr/>
              <a:tblGrid>
                <a:gridCol w="2819160"/>
                <a:gridCol w="1409760"/>
                <a:gridCol w="1409760"/>
                <a:gridCol w="152388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:Х=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Group 64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58" name="Freeform 65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6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7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8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9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0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71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65" name="Arc 72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73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74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5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76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70" name="Arc 77"/>
              <p:cNvSpPr/>
              <p:nvPr/>
            </p:nvSpPr>
            <p:spPr>
              <a:xfrm rot="5937000">
                <a:off x="26280" y="9504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rc 78"/>
              <p:cNvSpPr/>
              <p:nvPr/>
            </p:nvSpPr>
            <p:spPr>
              <a:xfrm rot="5937000">
                <a:off x="-21600" y="4824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9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73" name="Arc 80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81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82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76" name="Arc 83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custGeom>
                <a:avLst/>
                <a:gdLst/>
                <a:ahLst/>
                <a:rect l="l" t="t" r="r" b="b"/>
                <a:pathLst>
                  <a:path fill="none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</a:path>
                  <a:path stroke="0" w="22928" h="21600">
                    <a:moveTo>
                      <a:pt x="-1" y="84"/>
                    </a:moveTo>
                    <a:cubicBezTo>
                      <a:pt x="635" y="28"/>
                      <a:pt x="1272" y="0"/>
                      <a:pt x="1910" y="0"/>
                    </a:cubicBezTo>
                    <a:cubicBezTo>
                      <a:pt x="11920" y="0"/>
                      <a:pt x="20618" y="6877"/>
                      <a:pt x="22927" y="16618"/>
                    </a:cubicBezTo>
                    <a:lnTo>
                      <a:pt x="1910" y="21600"/>
                    </a:lnTo>
                    <a:lnTo>
                      <a:pt x="-1" y="84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84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custGeom>
                <a:avLst/>
                <a:gdLst/>
                <a:ahLst/>
                <a:rect l="l" t="t" r="r" b="b"/>
                <a:pathLst>
                  <a:path fill="none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</a:path>
                  <a:path stroke="0" w="25689" h="21600">
                    <a:moveTo>
                      <a:pt x="-1" y="426"/>
                    </a:moveTo>
                    <a:cubicBezTo>
                      <a:pt x="1406" y="142"/>
                      <a:pt x="2837" y="0"/>
                      <a:pt x="4272" y="0"/>
                    </a:cubicBezTo>
                    <a:cubicBezTo>
                      <a:pt x="15115" y="0"/>
                      <a:pt x="24279" y="8040"/>
                      <a:pt x="25688" y="18792"/>
                    </a:cubicBezTo>
                    <a:lnTo>
                      <a:pt x="4272" y="21600"/>
                    </a:lnTo>
                    <a:lnTo>
                      <a:pt x="-1" y="426"/>
                    </a:lnTo>
                    <a:close/>
                  </a:path>
                </a:pathLst>
              </a:cu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Oval 85"/>
          <p:cNvSpPr/>
          <p:nvPr/>
        </p:nvSpPr>
        <p:spPr>
          <a:xfrm>
            <a:off x="4267080" y="685800"/>
            <a:ext cx="533520" cy="5335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6"/>
          <p:cNvSpPr/>
          <p:nvPr/>
        </p:nvSpPr>
        <p:spPr>
          <a:xfrm>
            <a:off x="5715000" y="685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7"/>
          <p:cNvSpPr/>
          <p:nvPr/>
        </p:nvSpPr>
        <p:spPr>
          <a:xfrm>
            <a:off x="7162920" y="6858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6802560" y="2901960"/>
            <a:ext cx="2161800" cy="3098160"/>
            <a:chOff x="6802560" y="2901960"/>
            <a:chExt cx="2161800" cy="3098160"/>
          </a:xfrm>
        </p:grpSpPr>
        <p:sp>
          <p:nvSpPr>
            <p:cNvPr id="182" name="Rectangle 91"/>
            <p:cNvSpPr/>
            <p:nvPr/>
          </p:nvSpPr>
          <p:spPr>
            <a:xfrm>
              <a:off x="6802560" y="2901960"/>
              <a:ext cx="2161800" cy="30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2:Х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42: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Х=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2:7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6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твет:7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3"/>
            <p:cNvSpPr/>
            <p:nvPr/>
          </p:nvSpPr>
          <p:spPr>
            <a:xfrm>
              <a:off x="7010640" y="4459680"/>
              <a:ext cx="97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Владимировна</dc:creator>
  <dc:description/>
  <dc:language>en-US</dc:language>
  <cp:lastModifiedBy>Елена Владмировна</cp:lastModifiedBy>
  <dcterms:modified xsi:type="dcterms:W3CDTF">2019-01-20T16:37:1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