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778-27E8-4D1E-B1E8-48A96F1B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11A-3EF8-4555-B9B9-A7735C0F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BCC-E121-40B2-8030-A7355BB8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5D7-E1AB-4F2E-8761-67022726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7D5-C1C4-4BB2-B7C9-FADAFD08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7A4-B74C-42E0-B378-E3C63379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369-D079-4C1F-A8C3-DF031A8E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D0F-6855-40A2-8BB4-D907A0CC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F84-E9CD-4D26-9C0B-23EEE8C7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EA1-F8D1-4B10-B20F-28BAE365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F96-BCBD-4DE9-A733-D94B5461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F92-32A7-4A08-8BFC-ADC8987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1597-DBAD-47BC-BF9E-B094BCB2D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28600" y="4568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ÐÐ°ÑÑÐ¸Ð½ÐºÐ¸ Ð¿Ð¾ Ð·Ð°Ð¿ÑÐ¾ÑÑ Ð¼Ð°ÑÐµÐ¼Ð°ÑÐ¸ÑÐµÑÐºÐ¸Ðµ Ð²ÑÑÐºÐ°Ð·ÑÐ²Ð°Ð½Ð¸Ñ Ð²ÐµÐ»Ð¸ÐºÐ¸Ñ Ð»ÑÐ´ÐµÐ¹ Ð Ð¼Ð°ÑÐµÐ¼Ð°ÑÐ¸ÐºÐµ"/>
          <p:cNvPicPr/>
          <p:nvPr/>
        </p:nvPicPr>
        <p:blipFill>
          <a:blip r:embed="rId1"/>
          <a:stretch/>
        </p:blipFill>
        <p:spPr>
          <a:xfrm>
            <a:off x="1108080" y="137160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7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08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15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20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23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26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2"/>
          <p:cNvSpPr/>
          <p:nvPr/>
        </p:nvSpPr>
        <p:spPr>
          <a:xfrm>
            <a:off x="6335640" y="297180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-40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+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34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41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46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49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52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2"/>
          <p:cNvSpPr/>
          <p:nvPr/>
        </p:nvSpPr>
        <p:spPr>
          <a:xfrm>
            <a:off x="3844800" y="2900520"/>
            <a:ext cx="43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+32=(10+30)+(2+2)=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Х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9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60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67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72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75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78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0"/>
          <p:cNvGrpSpPr/>
          <p:nvPr/>
        </p:nvGrpSpPr>
        <p:grpSpPr>
          <a:xfrm>
            <a:off x="6918480" y="2895480"/>
            <a:ext cx="1636200" cy="3098160"/>
            <a:chOff x="6918480" y="2895480"/>
            <a:chExt cx="1636200" cy="3098160"/>
          </a:xfrm>
        </p:grpSpPr>
        <p:sp>
          <p:nvSpPr>
            <p:cNvPr id="284" name="Rectangle 91"/>
            <p:cNvSpPr/>
            <p:nvPr/>
          </p:nvSpPr>
          <p:spPr>
            <a:xfrm>
              <a:off x="6918480" y="2895480"/>
              <a:ext cx="1636200" cy="30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-Х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5-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-0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твет:0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3"/>
            <p:cNvSpPr/>
            <p:nvPr/>
          </p:nvSpPr>
          <p:spPr>
            <a:xfrm>
              <a:off x="7011360" y="4460040"/>
              <a:ext cx="97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х=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7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88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95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00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03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06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90"/>
          <p:cNvGrpSpPr/>
          <p:nvPr/>
        </p:nvGrpSpPr>
        <p:grpSpPr>
          <a:xfrm>
            <a:off x="6918480" y="2895480"/>
            <a:ext cx="1636200" cy="3098160"/>
            <a:chOff x="6918480" y="2895480"/>
            <a:chExt cx="1636200" cy="3098160"/>
          </a:xfrm>
        </p:grpSpPr>
        <p:sp>
          <p:nvSpPr>
            <p:cNvPr id="312" name="Rectangle 91"/>
            <p:cNvSpPr/>
            <p:nvPr/>
          </p:nvSpPr>
          <p:spPr>
            <a:xfrm>
              <a:off x="6918480" y="2895480"/>
              <a:ext cx="1636200" cy="30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0-Х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10-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0-4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6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твет:4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93"/>
            <p:cNvSpPr/>
            <p:nvPr/>
          </p:nvSpPr>
          <p:spPr>
            <a:xfrm>
              <a:off x="7011360" y="4460040"/>
              <a:ext cx="97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990720" y="685800"/>
          <a:ext cx="7162560" cy="209700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-50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л 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-15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5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16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23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28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31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34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6"/>
          <p:cNvSpPr/>
          <p:nvPr/>
        </p:nvSpPr>
        <p:spPr>
          <a:xfrm>
            <a:off x="5661000" y="660240"/>
            <a:ext cx="517680" cy="55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1"/>
          <p:cNvSpPr/>
          <p:nvPr/>
        </p:nvSpPr>
        <p:spPr>
          <a:xfrm>
            <a:off x="3049560" y="3125880"/>
            <a:ext cx="900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-15=50-10-5=35(кг) прод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35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Объект 3" descr=""/>
          <p:cNvPicPr/>
          <p:nvPr/>
        </p:nvPicPr>
        <p:blipFill>
          <a:blip r:embed="rId1"/>
          <a:stretch/>
        </p:blipFill>
        <p:spPr>
          <a:xfrm>
            <a:off x="2100240" y="2611440"/>
            <a:ext cx="4943520" cy="359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"/>
          <p:cNvGraphicFramePr/>
          <p:nvPr/>
        </p:nvGraphicFramePr>
        <p:xfrm>
          <a:off x="990720" y="380880"/>
          <a:ext cx="7162560" cy="198144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треугольников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Oval 85"/>
          <p:cNvSpPr/>
          <p:nvPr/>
        </p:nvSpPr>
        <p:spPr>
          <a:xfrm>
            <a:off x="4305240" y="43164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6"/>
          <p:cNvSpPr/>
          <p:nvPr/>
        </p:nvSpPr>
        <p:spPr>
          <a:xfrm>
            <a:off x="5695920" y="43164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87"/>
          <p:cNvSpPr/>
          <p:nvPr/>
        </p:nvSpPr>
        <p:spPr>
          <a:xfrm>
            <a:off x="6980400" y="43164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ый счё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304920" y="2565360"/>
            <a:ext cx="83055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38080" y="685800"/>
          <a:ext cx="7010640" cy="1108080"/>
        </p:xfrm>
        <a:graphic>
          <a:graphicData uri="http://schemas.openxmlformats.org/drawingml/2006/table">
            <a:tbl>
              <a:tblPr/>
              <a:tblGrid>
                <a:gridCol w="2819520"/>
                <a:gridCol w="1447920"/>
                <a:gridCol w="1371600"/>
                <a:gridCol w="13716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" name="Group 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0" name="Freeform 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7" name="Arc 1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rc 1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Freeform 1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1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2" name="Arc 1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rc 1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5" name="Arc 2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rc 2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68" name="Arc 2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rc 2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Oval 25"/>
          <p:cNvSpPr/>
          <p:nvPr/>
        </p:nvSpPr>
        <p:spPr>
          <a:xfrm>
            <a:off x="411480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3"/>
          <p:cNvSpPr/>
          <p:nvPr/>
        </p:nvSpPr>
        <p:spPr>
          <a:xfrm>
            <a:off x="5562720" y="685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4"/>
          <p:cNvSpPr/>
          <p:nvPr/>
        </p:nvSpPr>
        <p:spPr>
          <a:xfrm>
            <a:off x="69343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3"/>
          <p:cNvSpPr/>
          <p:nvPr/>
        </p:nvSpPr>
        <p:spPr>
          <a:xfrm>
            <a:off x="5160600" y="2606760"/>
            <a:ext cx="30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8-8=40+(8-8)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38080" y="568440"/>
          <a:ext cx="7162920" cy="1108080"/>
        </p:xfrm>
        <a:graphic>
          <a:graphicData uri="http://schemas.openxmlformats.org/drawingml/2006/table">
            <a:tbl>
              <a:tblPr/>
              <a:tblGrid>
                <a:gridCol w="281952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+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5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76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83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88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91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94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Oval 85"/>
          <p:cNvSpPr/>
          <p:nvPr/>
        </p:nvSpPr>
        <p:spPr>
          <a:xfrm>
            <a:off x="4038480" y="498600"/>
            <a:ext cx="533520" cy="5331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6"/>
          <p:cNvSpPr/>
          <p:nvPr/>
        </p:nvSpPr>
        <p:spPr>
          <a:xfrm>
            <a:off x="5562720" y="568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7"/>
          <p:cNvSpPr/>
          <p:nvPr/>
        </p:nvSpPr>
        <p:spPr>
          <a:xfrm>
            <a:off x="7010280" y="5684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1"/>
          <p:cNvSpPr/>
          <p:nvPr/>
        </p:nvSpPr>
        <p:spPr>
          <a:xfrm>
            <a:off x="4343400" y="2743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3+7=40+(3+7)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02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09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14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17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20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90"/>
          <p:cNvGrpSpPr/>
          <p:nvPr/>
        </p:nvGrpSpPr>
        <p:grpSpPr>
          <a:xfrm>
            <a:off x="6019920" y="2819520"/>
            <a:ext cx="2010600" cy="1014840"/>
            <a:chOff x="6019920" y="2819520"/>
            <a:chExt cx="2010600" cy="1014840"/>
          </a:xfrm>
        </p:grpSpPr>
        <p:sp>
          <p:nvSpPr>
            <p:cNvPr id="126" name="Rectangle 91"/>
            <p:cNvSpPr/>
            <p:nvPr/>
          </p:nvSpPr>
          <p:spPr>
            <a:xfrm>
              <a:off x="6334920" y="3313800"/>
              <a:ext cx="16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0-40=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2"/>
            <p:cNvSpPr/>
            <p:nvPr/>
          </p:nvSpPr>
          <p:spPr>
            <a:xfrm>
              <a:off x="6019920" y="2819520"/>
              <a:ext cx="1760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+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30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37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42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45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48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2"/>
          <p:cNvSpPr/>
          <p:nvPr/>
        </p:nvSpPr>
        <p:spPr>
          <a:xfrm>
            <a:off x="4287240" y="27432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+4=30+(6+4)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990720" y="685800"/>
          <a:ext cx="7162560" cy="110952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5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56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63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68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71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74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2"/>
          <p:cNvSpPr/>
          <p:nvPr/>
        </p:nvSpPr>
        <p:spPr>
          <a:xfrm>
            <a:off x="4717800" y="2801880"/>
            <a:ext cx="30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9-9=50+(9-9)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+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82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89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94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97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00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2"/>
          <p:cNvSpPr/>
          <p:nvPr/>
        </p:nvSpPr>
        <p:spPr>
          <a:xfrm>
            <a:off x="342900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+15=(20+10)+(5+5)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Владимировна</dc:creator>
  <dc:description/>
  <dc:language>en-US</dc:language>
  <cp:lastModifiedBy>Елена Владмировна</cp:lastModifiedBy>
  <dcterms:modified xsi:type="dcterms:W3CDTF">2019-04-08T15:43:2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