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41D-CC63-4AF1-8735-AE69CAEB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D00-A5A7-45C0-9B85-5D7BFFDC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D01-C852-457A-8E0B-98FC0519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02B-1682-40CB-BF76-6EC7475B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3A3-7186-464F-9AEC-C8AB6C0C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986-660E-422E-A50A-B0B80A51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C29-696C-4B60-A6C2-94DFDD9F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6CF0-1720-434F-B8BA-C1C6E477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667B-516E-4D04-8A69-217D581A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88D-C964-457E-B7BD-6D09A06F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0D4-A36D-4E5E-B971-03269A84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B5E-9433-4335-A6A6-154D6E62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E8AE-2231-44DE-B545-C22E0BCCC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28600" y="4568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ÐÐ°ÑÑÐ¸Ð½ÐºÐ¸ Ð¿Ð¾ Ð·Ð°Ð¿ÑÐ¾ÑÑ Ð¼Ð°ÑÐµÐ¼Ð°ÑÐ¸ÑÐµÑÐºÐ¸Ðµ Ð²ÑÑÐºÐ°Ð·ÑÐ²Ð°Ð½Ð¸Ñ Ð²ÐµÐ»Ð¸ÐºÐ¸Ñ Ð»ÑÐ´ÐµÐ¹ Ð Ð¼Ð°ÑÐµÐ¼Ð°ÑÐ¸ÐºÐµ"/>
          <p:cNvPicPr/>
          <p:nvPr/>
        </p:nvPicPr>
        <p:blipFill>
          <a:blip r:embed="rId1"/>
          <a:stretch/>
        </p:blipFill>
        <p:spPr>
          <a:xfrm>
            <a:off x="1330200" y="1496880"/>
            <a:ext cx="64836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+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4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85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92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97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00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03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2"/>
          <p:cNvSpPr/>
          <p:nvPr/>
        </p:nvSpPr>
        <p:spPr>
          <a:xfrm>
            <a:off x="3429000" y="2743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+15=(20+10)+(5+5)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-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0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11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18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23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26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29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2"/>
          <p:cNvSpPr/>
          <p:nvPr/>
        </p:nvSpPr>
        <p:spPr>
          <a:xfrm>
            <a:off x="6335640" y="297180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-40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+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6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37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44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49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52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55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2"/>
          <p:cNvSpPr/>
          <p:nvPr/>
        </p:nvSpPr>
        <p:spPr>
          <a:xfrm>
            <a:off x="3844800" y="2900520"/>
            <a:ext cx="43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+32=(10+30)+(2+2)=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Х=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63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70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75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78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81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0"/>
          <p:cNvGrpSpPr/>
          <p:nvPr/>
        </p:nvGrpSpPr>
        <p:grpSpPr>
          <a:xfrm>
            <a:off x="6918480" y="2895480"/>
            <a:ext cx="1636200" cy="3098160"/>
            <a:chOff x="6918480" y="2895480"/>
            <a:chExt cx="1636200" cy="3098160"/>
          </a:xfrm>
        </p:grpSpPr>
        <p:sp>
          <p:nvSpPr>
            <p:cNvPr id="287" name="Rectangle 91"/>
            <p:cNvSpPr/>
            <p:nvPr/>
          </p:nvSpPr>
          <p:spPr>
            <a:xfrm>
              <a:off x="6918480" y="2895480"/>
              <a:ext cx="1636200" cy="30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-Х=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=5-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=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-0=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=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твет:0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93"/>
            <p:cNvSpPr/>
            <p:nvPr/>
          </p:nvSpPr>
          <p:spPr>
            <a:xfrm>
              <a:off x="7011360" y="4460040"/>
              <a:ext cx="97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х=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0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91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98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303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306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309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90"/>
          <p:cNvGrpSpPr/>
          <p:nvPr/>
        </p:nvGrpSpPr>
        <p:grpSpPr>
          <a:xfrm>
            <a:off x="6918480" y="2895480"/>
            <a:ext cx="1636200" cy="3098160"/>
            <a:chOff x="6918480" y="2895480"/>
            <a:chExt cx="1636200" cy="3098160"/>
          </a:xfrm>
        </p:grpSpPr>
        <p:sp>
          <p:nvSpPr>
            <p:cNvPr id="315" name="Rectangle 91"/>
            <p:cNvSpPr/>
            <p:nvPr/>
          </p:nvSpPr>
          <p:spPr>
            <a:xfrm>
              <a:off x="6918480" y="2895480"/>
              <a:ext cx="1636200" cy="30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0-Х=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=10-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0-4=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6=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твет:4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93"/>
            <p:cNvSpPr/>
            <p:nvPr/>
          </p:nvSpPr>
          <p:spPr>
            <a:xfrm>
              <a:off x="7011360" y="4460040"/>
              <a:ext cx="97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990720" y="685800"/>
          <a:ext cx="7162560" cy="209700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-50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л -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ось-15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8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319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326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331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334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337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86"/>
          <p:cNvSpPr/>
          <p:nvPr/>
        </p:nvSpPr>
        <p:spPr>
          <a:xfrm>
            <a:off x="5661000" y="660240"/>
            <a:ext cx="517680" cy="55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1"/>
          <p:cNvSpPr/>
          <p:nvPr/>
        </p:nvSpPr>
        <p:spPr>
          <a:xfrm>
            <a:off x="3049560" y="3125880"/>
            <a:ext cx="9007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-15=50-10-5=35(кг) прод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35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990720" y="274680"/>
          <a:ext cx="7162560" cy="192564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 здесь треугольников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Oval 85"/>
          <p:cNvSpPr/>
          <p:nvPr/>
        </p:nvSpPr>
        <p:spPr>
          <a:xfrm>
            <a:off x="4213080" y="27144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86"/>
          <p:cNvSpPr/>
          <p:nvPr/>
        </p:nvSpPr>
        <p:spPr>
          <a:xfrm>
            <a:off x="5662440" y="27144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87"/>
          <p:cNvSpPr/>
          <p:nvPr/>
        </p:nvSpPr>
        <p:spPr>
          <a:xfrm>
            <a:off x="7175520" y="27144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2617920" y="2611440"/>
            <a:ext cx="43653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стный счё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304920" y="2565360"/>
            <a:ext cx="83055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76320" y="1417680"/>
            <a:ext cx="5351400" cy="21477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3925800" y="4038480"/>
            <a:ext cx="47466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8080" y="685800"/>
          <a:ext cx="7010640" cy="1108080"/>
        </p:xfrm>
        <a:graphic>
          <a:graphicData uri="http://schemas.openxmlformats.org/drawingml/2006/table">
            <a:tbl>
              <a:tblPr/>
              <a:tblGrid>
                <a:gridCol w="2819520"/>
                <a:gridCol w="1447920"/>
                <a:gridCol w="1371600"/>
                <a:gridCol w="137160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" name="Group 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53" name="Freeform 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60" name="Arc 1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rc 1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Freeform 1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1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65" name="Arc 1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Arc 1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1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68" name="Arc 2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rc 2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2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71" name="Arc 2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rc 2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Oval 25"/>
          <p:cNvSpPr/>
          <p:nvPr/>
        </p:nvSpPr>
        <p:spPr>
          <a:xfrm>
            <a:off x="411480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3"/>
          <p:cNvSpPr/>
          <p:nvPr/>
        </p:nvSpPr>
        <p:spPr>
          <a:xfrm>
            <a:off x="5562720" y="6858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94"/>
          <p:cNvSpPr/>
          <p:nvPr/>
        </p:nvSpPr>
        <p:spPr>
          <a:xfrm>
            <a:off x="69343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3"/>
          <p:cNvSpPr/>
          <p:nvPr/>
        </p:nvSpPr>
        <p:spPr>
          <a:xfrm>
            <a:off x="5160600" y="2606760"/>
            <a:ext cx="30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8-8=40+(8-8)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838080" y="568440"/>
          <a:ext cx="7162920" cy="1108080"/>
        </p:xfrm>
        <a:graphic>
          <a:graphicData uri="http://schemas.openxmlformats.org/drawingml/2006/table">
            <a:tbl>
              <a:tblPr/>
              <a:tblGrid>
                <a:gridCol w="281952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+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8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79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86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91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94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97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Oval 85"/>
          <p:cNvSpPr/>
          <p:nvPr/>
        </p:nvSpPr>
        <p:spPr>
          <a:xfrm>
            <a:off x="4038480" y="498600"/>
            <a:ext cx="533520" cy="5331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86"/>
          <p:cNvSpPr/>
          <p:nvPr/>
        </p:nvSpPr>
        <p:spPr>
          <a:xfrm>
            <a:off x="5562720" y="56844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87"/>
          <p:cNvSpPr/>
          <p:nvPr/>
        </p:nvSpPr>
        <p:spPr>
          <a:xfrm>
            <a:off x="7010280" y="5684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1"/>
          <p:cNvSpPr/>
          <p:nvPr/>
        </p:nvSpPr>
        <p:spPr>
          <a:xfrm>
            <a:off x="4343400" y="27432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3+7=40+(3+7)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4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05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12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17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20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23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90"/>
          <p:cNvGrpSpPr/>
          <p:nvPr/>
        </p:nvGrpSpPr>
        <p:grpSpPr>
          <a:xfrm>
            <a:off x="6019920" y="2819520"/>
            <a:ext cx="2010600" cy="1014840"/>
            <a:chOff x="6019920" y="2819520"/>
            <a:chExt cx="2010600" cy="1014840"/>
          </a:xfrm>
        </p:grpSpPr>
        <p:sp>
          <p:nvSpPr>
            <p:cNvPr id="129" name="Rectangle 91"/>
            <p:cNvSpPr/>
            <p:nvPr/>
          </p:nvSpPr>
          <p:spPr>
            <a:xfrm>
              <a:off x="6334920" y="3313800"/>
              <a:ext cx="169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90-40=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92"/>
            <p:cNvSpPr/>
            <p:nvPr/>
          </p:nvSpPr>
          <p:spPr>
            <a:xfrm>
              <a:off x="6019920" y="2819520"/>
              <a:ext cx="17604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+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2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33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40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45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48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51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2"/>
          <p:cNvSpPr/>
          <p:nvPr/>
        </p:nvSpPr>
        <p:spPr>
          <a:xfrm>
            <a:off x="4287240" y="274320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+4=30+(6+4)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990720" y="685800"/>
          <a:ext cx="7162560" cy="110952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8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59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66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71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74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77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2"/>
          <p:cNvSpPr/>
          <p:nvPr/>
        </p:nvSpPr>
        <p:spPr>
          <a:xfrm>
            <a:off x="4717800" y="2801880"/>
            <a:ext cx="30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9-9=50+(9-9)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 Владимировна</dc:creator>
  <dc:description/>
  <dc:language>en-US</dc:language>
  <cp:lastModifiedBy>Елена Владмировна</cp:lastModifiedBy>
  <dcterms:modified xsi:type="dcterms:W3CDTF">2019-04-08T15:51:4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