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93B-F9F8-4C60-A8D4-CB02848A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753-9DD9-41E8-9D59-5FC7F346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534B-8D78-40AC-B2B7-3B99BC41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05C9-5AD4-4F4D-8CB4-0E22F87C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953E-F0E1-4FAA-A199-CE19E4C1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631D-D493-434E-A978-331D6305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2DB-178B-48B9-849C-D4D6EAE8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A30-3003-4091-8873-81524CC8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996E-3AFC-4E89-B89B-9EC857F9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6624-7489-42A2-84E0-C12563C8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7F7-9F83-42C9-89D4-65A3C59B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7D02-7E3D-4226-8736-9DE00219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7BE0-49AD-4C0E-9D71-68E768B623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28600" y="4568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304920" y="1811160"/>
            <a:ext cx="86248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990720" y="685800"/>
          <a:ext cx="7162560" cy="110808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+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5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86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93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98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201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204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2"/>
          <p:cNvSpPr/>
          <p:nvPr/>
        </p:nvSpPr>
        <p:spPr>
          <a:xfrm>
            <a:off x="3429000" y="2743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5+15=(20+10)+(5+5)=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990720" y="685800"/>
          <a:ext cx="7162560" cy="110808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Х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1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212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219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224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227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230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90"/>
          <p:cNvGrpSpPr/>
          <p:nvPr/>
        </p:nvGrpSpPr>
        <p:grpSpPr>
          <a:xfrm>
            <a:off x="6802560" y="2901960"/>
            <a:ext cx="2161800" cy="3098160"/>
            <a:chOff x="6802560" y="2901960"/>
            <a:chExt cx="2161800" cy="3098160"/>
          </a:xfrm>
        </p:grpSpPr>
        <p:sp>
          <p:nvSpPr>
            <p:cNvPr id="236" name="Rectangle 91"/>
            <p:cNvSpPr/>
            <p:nvPr/>
          </p:nvSpPr>
          <p:spPr>
            <a:xfrm>
              <a:off x="6802560" y="2901960"/>
              <a:ext cx="2161800" cy="30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2-Х=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Х=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Х=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2-8=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4=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твет:8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93"/>
            <p:cNvSpPr/>
            <p:nvPr/>
          </p:nvSpPr>
          <p:spPr>
            <a:xfrm>
              <a:off x="7010640" y="4459680"/>
              <a:ext cx="97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5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990720" y="685800"/>
          <a:ext cx="7162560" cy="110808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+10=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9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240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247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252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255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258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90"/>
          <p:cNvGrpSpPr/>
          <p:nvPr/>
        </p:nvGrpSpPr>
        <p:grpSpPr>
          <a:xfrm>
            <a:off x="5570280" y="2819520"/>
            <a:ext cx="1856520" cy="3098160"/>
            <a:chOff x="5570280" y="2819520"/>
            <a:chExt cx="1856520" cy="3098160"/>
          </a:xfrm>
        </p:grpSpPr>
        <p:sp>
          <p:nvSpPr>
            <p:cNvPr id="264" name="Rectangle 91"/>
            <p:cNvSpPr/>
            <p:nvPr/>
          </p:nvSpPr>
          <p:spPr>
            <a:xfrm>
              <a:off x="5570280" y="2819520"/>
              <a:ext cx="1834200" cy="30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а+10=2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у=28-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у=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8+10=2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28=2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твет:18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93"/>
            <p:cNvSpPr/>
            <p:nvPr/>
          </p:nvSpPr>
          <p:spPr>
            <a:xfrm>
              <a:off x="5734800" y="4422240"/>
              <a:ext cx="16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990720" y="685800"/>
          <a:ext cx="7162560" cy="110808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 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7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268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275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280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283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286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2"/>
          <p:cNvSpPr/>
          <p:nvPr/>
        </p:nvSpPr>
        <p:spPr>
          <a:xfrm>
            <a:off x="3429000" y="2743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  4= 2+2+2+2=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Умножение 1"/>
          <p:cNvSpPr/>
          <p:nvPr/>
        </p:nvSpPr>
        <p:spPr>
          <a:xfrm>
            <a:off x="2362320" y="1371600"/>
            <a:ext cx="152280" cy="228600"/>
          </a:xfrm>
          <a:custGeom>
            <a:avLst/>
            <a:gdLst/>
            <a:ahLst/>
            <a:rect l="l" t="t" r="r" b="b"/>
            <a:pathLst>
              <a:path w="152400" h="228600">
                <a:moveTo>
                  <a:pt x="21690" y="64845"/>
                </a:moveTo>
                <a:lnTo>
                  <a:pt x="51515" y="44963"/>
                </a:lnTo>
                <a:lnTo>
                  <a:pt x="76200" y="81990"/>
                </a:lnTo>
                <a:lnTo>
                  <a:pt x="100885" y="44963"/>
                </a:lnTo>
                <a:lnTo>
                  <a:pt x="130710" y="64845"/>
                </a:lnTo>
                <a:lnTo>
                  <a:pt x="97740" y="114300"/>
                </a:lnTo>
                <a:lnTo>
                  <a:pt x="130710" y="163755"/>
                </a:lnTo>
                <a:lnTo>
                  <a:pt x="100885" y="183637"/>
                </a:lnTo>
                <a:lnTo>
                  <a:pt x="76200" y="146610"/>
                </a:lnTo>
                <a:lnTo>
                  <a:pt x="51515" y="183637"/>
                </a:lnTo>
                <a:lnTo>
                  <a:pt x="21690" y="163755"/>
                </a:lnTo>
                <a:lnTo>
                  <a:pt x="54660" y="114300"/>
                </a:lnTo>
                <a:lnTo>
                  <a:pt x="21690" y="64845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Умножение 29"/>
          <p:cNvSpPr/>
          <p:nvPr/>
        </p:nvSpPr>
        <p:spPr>
          <a:xfrm>
            <a:off x="3733920" y="2857680"/>
            <a:ext cx="152280" cy="228600"/>
          </a:xfrm>
          <a:custGeom>
            <a:avLst/>
            <a:gdLst/>
            <a:ahLst/>
            <a:rect l="l" t="t" r="r" b="b"/>
            <a:pathLst>
              <a:path w="152400" h="228600">
                <a:moveTo>
                  <a:pt x="21690" y="64845"/>
                </a:moveTo>
                <a:lnTo>
                  <a:pt x="51515" y="44963"/>
                </a:lnTo>
                <a:lnTo>
                  <a:pt x="76200" y="81990"/>
                </a:lnTo>
                <a:lnTo>
                  <a:pt x="100885" y="44963"/>
                </a:lnTo>
                <a:lnTo>
                  <a:pt x="130710" y="64845"/>
                </a:lnTo>
                <a:lnTo>
                  <a:pt x="97740" y="114300"/>
                </a:lnTo>
                <a:lnTo>
                  <a:pt x="130710" y="163755"/>
                </a:lnTo>
                <a:lnTo>
                  <a:pt x="100885" y="183637"/>
                </a:lnTo>
                <a:lnTo>
                  <a:pt x="76200" y="146610"/>
                </a:lnTo>
                <a:lnTo>
                  <a:pt x="51515" y="183637"/>
                </a:lnTo>
                <a:lnTo>
                  <a:pt x="21690" y="163755"/>
                </a:lnTo>
                <a:lnTo>
                  <a:pt x="54660" y="114300"/>
                </a:lnTo>
                <a:lnTo>
                  <a:pt x="21690" y="64845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458640" y="517680"/>
          <a:ext cx="8196480" cy="2877840"/>
        </p:xfrm>
        <a:graphic>
          <a:graphicData uri="http://schemas.openxmlformats.org/drawingml/2006/table">
            <a:tbl>
              <a:tblPr/>
              <a:tblGrid>
                <a:gridCol w="3488040"/>
                <a:gridCol w="1350720"/>
                <a:gridCol w="1789200"/>
                <a:gridCol w="1568520"/>
              </a:tblGrid>
              <a:tr h="777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0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-76 кг сах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али -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ось-21к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5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296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303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308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311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314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6" name="Oval 85"/>
          <p:cNvSpPr/>
          <p:nvPr/>
        </p:nvSpPr>
        <p:spPr>
          <a:xfrm>
            <a:off x="435456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86"/>
          <p:cNvSpPr/>
          <p:nvPr/>
        </p:nvSpPr>
        <p:spPr>
          <a:xfrm>
            <a:off x="5951520" y="660240"/>
            <a:ext cx="517680" cy="55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87"/>
          <p:cNvSpPr/>
          <p:nvPr/>
        </p:nvSpPr>
        <p:spPr>
          <a:xfrm>
            <a:off x="7620120" y="66024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91"/>
          <p:cNvSpPr/>
          <p:nvPr/>
        </p:nvSpPr>
        <p:spPr>
          <a:xfrm>
            <a:off x="2540160" y="3906720"/>
            <a:ext cx="62420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6-21=(70-20)+(6-1)=55(кг) прод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55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250" autoRev="1" fill="hold"/>
                                        <p:tgtEl>
                                          <p:spTgt spid="3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ометрический матери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Картинки по запросу острые тупые прямые углы"/>
          <p:cNvPicPr/>
          <p:nvPr/>
        </p:nvPicPr>
        <p:blipFill>
          <a:blip r:embed="rId1"/>
          <a:stretch/>
        </p:blipFill>
        <p:spPr>
          <a:xfrm>
            <a:off x="442800" y="2133720"/>
            <a:ext cx="808524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990720" y="685800"/>
          <a:ext cx="7162560" cy="1108080"/>
        </p:xfrm>
        <a:graphic>
          <a:graphicData uri="http://schemas.openxmlformats.org/drawingml/2006/table">
            <a:tbl>
              <a:tblPr/>
              <a:tblGrid>
                <a:gridCol w="1904760"/>
                <a:gridCol w="1600200"/>
                <a:gridCol w="213372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я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п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Oval 85"/>
          <p:cNvSpPr/>
          <p:nvPr/>
        </p:nvSpPr>
        <p:spPr>
          <a:xfrm>
            <a:off x="342900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86"/>
          <p:cNvSpPr/>
          <p:nvPr/>
        </p:nvSpPr>
        <p:spPr>
          <a:xfrm>
            <a:off x="5361120" y="6858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Похожее изображение"/>
          <p:cNvPicPr/>
          <p:nvPr/>
        </p:nvPicPr>
        <p:blipFill>
          <a:blip r:embed="rId1"/>
          <a:stretch/>
        </p:blipFill>
        <p:spPr>
          <a:xfrm>
            <a:off x="1374840" y="2362320"/>
            <a:ext cx="6858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5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990720" y="685800"/>
          <a:ext cx="7162560" cy="1108080"/>
        </p:xfrm>
        <a:graphic>
          <a:graphicData uri="http://schemas.openxmlformats.org/drawingml/2006/table">
            <a:tbl>
              <a:tblPr/>
              <a:tblGrid>
                <a:gridCol w="1904760"/>
                <a:gridCol w="1600200"/>
                <a:gridCol w="213372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ям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Oval 85"/>
          <p:cNvSpPr/>
          <p:nvPr/>
        </p:nvSpPr>
        <p:spPr>
          <a:xfrm>
            <a:off x="342900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86"/>
          <p:cNvSpPr/>
          <p:nvPr/>
        </p:nvSpPr>
        <p:spPr>
          <a:xfrm>
            <a:off x="5361120" y="6858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Картинки по запросу углы в прямоугольнике"/>
          <p:cNvPicPr/>
          <p:nvPr/>
        </p:nvPicPr>
        <p:blipFill>
          <a:blip r:embed="rId1"/>
          <a:stretch/>
        </p:blipFill>
        <p:spPr>
          <a:xfrm>
            <a:off x="1295280" y="2743200"/>
            <a:ext cx="6697800" cy="307512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ая соединительная линия 6"/>
          <p:cNvSpPr/>
          <p:nvPr/>
        </p:nvSpPr>
        <p:spPr>
          <a:xfrm>
            <a:off x="1143000" y="1295280"/>
            <a:ext cx="6480" cy="40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14"/>
          <p:cNvSpPr/>
          <p:nvPr/>
        </p:nvSpPr>
        <p:spPr>
          <a:xfrm>
            <a:off x="1143000" y="1703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250" autoRev="1" fill="hold"/>
                                        <p:tgtEl>
                                          <p:spTgt spid="3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Устный счё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Картинки по запросу ребусы с числами"/>
          <p:cNvPicPr/>
          <p:nvPr/>
        </p:nvPicPr>
        <p:blipFill>
          <a:blip r:embed="rId1"/>
          <a:stretch/>
        </p:blipFill>
        <p:spPr>
          <a:xfrm>
            <a:off x="477720" y="1432080"/>
            <a:ext cx="3753000" cy="144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Похожее изображение"/>
          <p:cNvPicPr/>
          <p:nvPr/>
        </p:nvPicPr>
        <p:blipFill>
          <a:blip r:embed="rId2"/>
          <a:stretch/>
        </p:blipFill>
        <p:spPr>
          <a:xfrm>
            <a:off x="4265640" y="3657600"/>
            <a:ext cx="38862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Картинки по запросу ребусы с числами"/>
          <p:cNvPicPr/>
          <p:nvPr/>
        </p:nvPicPr>
        <p:blipFill>
          <a:blip r:embed="rId1"/>
          <a:stretch/>
        </p:blipFill>
        <p:spPr>
          <a:xfrm>
            <a:off x="304920" y="1417680"/>
            <a:ext cx="4762440" cy="1905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Картинки по запросу ребусы с числами"/>
          <p:cNvPicPr/>
          <p:nvPr/>
        </p:nvPicPr>
        <p:blipFill>
          <a:blip r:embed="rId2"/>
          <a:stretch/>
        </p:blipFill>
        <p:spPr>
          <a:xfrm>
            <a:off x="3711600" y="3886200"/>
            <a:ext cx="49482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838080" y="685800"/>
          <a:ext cx="7010640" cy="1108080"/>
        </p:xfrm>
        <a:graphic>
          <a:graphicData uri="http://schemas.openxmlformats.org/drawingml/2006/table">
            <a:tbl>
              <a:tblPr/>
              <a:tblGrid>
                <a:gridCol w="2819520"/>
                <a:gridCol w="1447920"/>
                <a:gridCol w="1371600"/>
                <a:gridCol w="137160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3" name="Group 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54" name="Freeform 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61" name="Arc 1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Arc 1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Freeform 1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66" name="Arc 1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Arc 1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1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69" name="Arc 2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Arc 2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72" name="Arc 2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rc 2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" name="Oval 25"/>
          <p:cNvSpPr/>
          <p:nvPr/>
        </p:nvSpPr>
        <p:spPr>
          <a:xfrm>
            <a:off x="411480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93"/>
          <p:cNvSpPr/>
          <p:nvPr/>
        </p:nvSpPr>
        <p:spPr>
          <a:xfrm>
            <a:off x="5562720" y="6858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94"/>
          <p:cNvSpPr/>
          <p:nvPr/>
        </p:nvSpPr>
        <p:spPr>
          <a:xfrm>
            <a:off x="69343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3"/>
          <p:cNvSpPr/>
          <p:nvPr/>
        </p:nvSpPr>
        <p:spPr>
          <a:xfrm>
            <a:off x="5049000" y="2592360"/>
            <a:ext cx="32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0-3=40+(10-3)=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838080" y="568440"/>
          <a:ext cx="7162920" cy="1108080"/>
        </p:xfrm>
        <a:graphic>
          <a:graphicData uri="http://schemas.openxmlformats.org/drawingml/2006/table">
            <a:tbl>
              <a:tblPr/>
              <a:tblGrid>
                <a:gridCol w="281952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+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9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80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87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92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95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98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Oval 85"/>
          <p:cNvSpPr/>
          <p:nvPr/>
        </p:nvSpPr>
        <p:spPr>
          <a:xfrm>
            <a:off x="4027320" y="557280"/>
            <a:ext cx="533520" cy="5331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86"/>
          <p:cNvSpPr/>
          <p:nvPr/>
        </p:nvSpPr>
        <p:spPr>
          <a:xfrm>
            <a:off x="5562720" y="56844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7"/>
          <p:cNvSpPr/>
          <p:nvPr/>
        </p:nvSpPr>
        <p:spPr>
          <a:xfrm>
            <a:off x="7010280" y="5684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1"/>
          <p:cNvSpPr/>
          <p:nvPr/>
        </p:nvSpPr>
        <p:spPr>
          <a:xfrm>
            <a:off x="4343400" y="27432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7+3=70+(7+3)=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990720" y="685800"/>
          <a:ext cx="7162560" cy="110808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5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06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13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18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121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124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90"/>
          <p:cNvGrpSpPr/>
          <p:nvPr/>
        </p:nvGrpSpPr>
        <p:grpSpPr>
          <a:xfrm>
            <a:off x="6019920" y="2819520"/>
            <a:ext cx="2250720" cy="1014840"/>
            <a:chOff x="6019920" y="2819520"/>
            <a:chExt cx="2250720" cy="1014840"/>
          </a:xfrm>
        </p:grpSpPr>
        <p:sp>
          <p:nvSpPr>
            <p:cNvPr id="130" name="Rectangle 91"/>
            <p:cNvSpPr/>
            <p:nvPr/>
          </p:nvSpPr>
          <p:spPr>
            <a:xfrm>
              <a:off x="6377040" y="3313800"/>
              <a:ext cx="189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00-40=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92"/>
            <p:cNvSpPr/>
            <p:nvPr/>
          </p:nvSpPr>
          <p:spPr>
            <a:xfrm>
              <a:off x="6019920" y="2819520"/>
              <a:ext cx="17604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990720" y="685800"/>
          <a:ext cx="7162560" cy="110808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+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3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34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41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46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149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152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2"/>
          <p:cNvSpPr/>
          <p:nvPr/>
        </p:nvSpPr>
        <p:spPr>
          <a:xfrm>
            <a:off x="4278600" y="274320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+60=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87"/>
          <p:cNvSpPr/>
          <p:nvPr/>
        </p:nvSpPr>
        <p:spPr>
          <a:xfrm>
            <a:off x="7156440" y="6984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990720" y="685800"/>
          <a:ext cx="7162560" cy="110952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+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9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60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67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72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175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178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2"/>
          <p:cNvSpPr/>
          <p:nvPr/>
        </p:nvSpPr>
        <p:spPr>
          <a:xfrm>
            <a:off x="4624200" y="2819520"/>
            <a:ext cx="427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4+43=(20+40)+(4+3)=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25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 Владимировна</dc:creator>
  <dc:description/>
  <dc:language>en-US</dc:language>
  <cp:lastModifiedBy>Елена Владмировна</cp:lastModifiedBy>
  <dcterms:modified xsi:type="dcterms:W3CDTF">2018-02-25T10:01:52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