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6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F9F-B886-407F-AA51-87D7BE2F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1D2-BA55-4ABB-B39F-AE125A08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CB1-AC85-4449-8157-4F97A248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476-0B16-44C6-959F-3C313FB6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0A54-5177-4236-B409-C7EFF2E4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6D14-A804-4FBD-B1FE-C70433A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B036-42A8-46A7-92C5-83AB7C8F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5B7F-9796-4340-A996-7C3F84D0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585D-A3E2-4176-97FA-EB425E94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FA2-5CF7-4C30-91BD-136E2248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D53F-0559-430B-9CC3-FBDF958B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F26-B71A-4642-A010-1C76F49D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675-353A-4174-A2EF-06E0A45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870-611C-4F5D-B110-FB2B7B0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7EC7-3DD1-4A65-9059-68E82DD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3EDF-18CE-4437-95D8-0C75A08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9BD7-5B78-4976-A5A9-57EF6D28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C86-28DA-4251-9245-0E966896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257-9710-4FD2-8A30-AB9FCF03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919-BAC9-4CBF-A250-E2CB7D36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4AC-F32C-4873-B517-2C93BC88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BE3-D62E-485E-A9A8-85BC454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6E7-CB1B-4D82-A23E-D2E75649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E89-116B-4B77-AE9B-DFDD7DD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2182-D971-41DF-BAEF-92B43DA177C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F76-5A9F-498C-BCF5-A92F264FF89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17.jpeg"/><Relationship Id="rId13" Type="http://schemas.openxmlformats.org/officeDocument/2006/relationships/image" Target="../media/image42.jpeg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4640" y="620640"/>
            <a:ext cx="88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 WE LEARN ENGLISH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eduk-100x133-english-student_experiences-owen_li[1]"/>
          <p:cNvPicPr/>
          <p:nvPr/>
        </p:nvPicPr>
        <p:blipFill>
          <a:blip r:embed="rId1"/>
          <a:stretch/>
        </p:blipFill>
        <p:spPr>
          <a:xfrm>
            <a:off x="0" y="2205000"/>
            <a:ext cx="146520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mages[1]"/>
          <p:cNvPicPr/>
          <p:nvPr/>
        </p:nvPicPr>
        <p:blipFill>
          <a:blip r:embed="rId2"/>
          <a:stretch/>
        </p:blipFill>
        <p:spPr>
          <a:xfrm>
            <a:off x="7740720" y="4437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hast3_360"/>
          <p:cNvPicPr/>
          <p:nvPr/>
        </p:nvPicPr>
        <p:blipFill>
          <a:blip r:embed="rId3"/>
          <a:stretch/>
        </p:blipFill>
        <p:spPr>
          <a:xfrm>
            <a:off x="4788000" y="5113440"/>
            <a:ext cx="1873080" cy="174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altynbayev"/>
          <p:cNvPicPr/>
          <p:nvPr/>
        </p:nvPicPr>
        <p:blipFill>
          <a:blip r:embed="rId4"/>
          <a:stretch/>
        </p:blipFill>
        <p:spPr>
          <a:xfrm>
            <a:off x="1403280" y="4292640"/>
            <a:ext cx="1522440" cy="2263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25b4648c41df3dcef64e35ee3b4b207c_full[1]"/>
          <p:cNvPicPr/>
          <p:nvPr/>
        </p:nvPicPr>
        <p:blipFill>
          <a:blip r:embed="rId5"/>
          <a:stretch/>
        </p:blipFill>
        <p:spPr>
          <a:xfrm>
            <a:off x="3132000" y="1844640"/>
            <a:ext cx="2106720" cy="264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99"/>
          <p:cNvPicPr/>
          <p:nvPr/>
        </p:nvPicPr>
        <p:blipFill>
          <a:blip r:embed="rId6"/>
          <a:stretch/>
        </p:blipFill>
        <p:spPr>
          <a:xfrm>
            <a:off x="1476360" y="2997360"/>
            <a:ext cx="1584360" cy="121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789"/>
          <p:cNvPicPr/>
          <p:nvPr/>
        </p:nvPicPr>
        <p:blipFill>
          <a:blip r:embed="rId7"/>
          <a:stretch/>
        </p:blipFill>
        <p:spPr>
          <a:xfrm>
            <a:off x="6804000" y="5646600"/>
            <a:ext cx="1944720" cy="121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images[28]"/>
          <p:cNvPicPr/>
          <p:nvPr/>
        </p:nvPicPr>
        <p:blipFill>
          <a:blip r:embed="rId8"/>
          <a:stretch/>
        </p:blipFill>
        <p:spPr>
          <a:xfrm>
            <a:off x="2916360" y="4508640"/>
            <a:ext cx="1649160" cy="11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images[29]"/>
          <p:cNvPicPr/>
          <p:nvPr/>
        </p:nvPicPr>
        <p:blipFill>
          <a:blip r:embed="rId9"/>
          <a:stretch/>
        </p:blipFill>
        <p:spPr>
          <a:xfrm>
            <a:off x="7210440" y="3141720"/>
            <a:ext cx="1933560" cy="128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images[35]"/>
          <p:cNvPicPr/>
          <p:nvPr/>
        </p:nvPicPr>
        <p:blipFill>
          <a:blip r:embed="rId10"/>
          <a:stretch/>
        </p:blipFill>
        <p:spPr>
          <a:xfrm>
            <a:off x="5292720" y="3645000"/>
            <a:ext cx="180036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images[39]"/>
          <p:cNvPicPr/>
          <p:nvPr/>
        </p:nvPicPr>
        <p:blipFill>
          <a:blip r:embed="rId11"/>
          <a:stretch/>
        </p:blipFill>
        <p:spPr>
          <a:xfrm>
            <a:off x="7343640" y="1989000"/>
            <a:ext cx="1800360" cy="112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images[57]"/>
          <p:cNvPicPr/>
          <p:nvPr/>
        </p:nvPicPr>
        <p:blipFill>
          <a:blip r:embed="rId12"/>
          <a:stretch/>
        </p:blipFill>
        <p:spPr>
          <a:xfrm>
            <a:off x="0" y="5873760"/>
            <a:ext cx="1419120" cy="98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images[62]"/>
          <p:cNvPicPr/>
          <p:nvPr/>
        </p:nvPicPr>
        <p:blipFill>
          <a:blip r:embed="rId13"/>
          <a:stretch/>
        </p:blipFill>
        <p:spPr>
          <a:xfrm>
            <a:off x="1476360" y="1916280"/>
            <a:ext cx="1548000" cy="102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images[51]"/>
          <p:cNvPicPr/>
          <p:nvPr/>
        </p:nvPicPr>
        <p:blipFill>
          <a:blip r:embed="rId14"/>
          <a:stretch/>
        </p:blipFill>
        <p:spPr>
          <a:xfrm>
            <a:off x="2771640" y="5754600"/>
            <a:ext cx="165600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images[2000]"/>
          <p:cNvPicPr/>
          <p:nvPr/>
        </p:nvPicPr>
        <p:blipFill>
          <a:blip r:embed="rId15"/>
          <a:stretch/>
        </p:blipFill>
        <p:spPr>
          <a:xfrm>
            <a:off x="5219640" y="1844640"/>
            <a:ext cx="208908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images[47]"/>
          <p:cNvPicPr/>
          <p:nvPr/>
        </p:nvPicPr>
        <p:blipFill>
          <a:blip r:embed="rId16"/>
          <a:stretch/>
        </p:blipFill>
        <p:spPr>
          <a:xfrm>
            <a:off x="0" y="4149720"/>
            <a:ext cx="14288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84464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7523640" y="522936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80360" y="602136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975320" y="285264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556720" y="23493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876360" y="458136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350000" y="54936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552920" y="227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481280" y="249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968560" y="321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3041640" y="3427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112920" y="37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752200" y="3571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256920" y="349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98900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4479480" y="249084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80360" y="5877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046960" y="29973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412000" y="24922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876360" y="4724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947280" y="544500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638720" y="62064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35744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2896920" y="335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2968560" y="3571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2989080" y="37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680920" y="3571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3133080" y="357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ontur-World-Map01"/>
          <p:cNvPicPr/>
          <p:nvPr/>
        </p:nvPicPr>
        <p:blipFill>
          <a:blip r:embed="rId1"/>
          <a:stretch/>
        </p:blipFill>
        <p:spPr>
          <a:xfrm>
            <a:off x="971640" y="1989000"/>
            <a:ext cx="7619760" cy="45482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292720" y="2924280"/>
            <a:ext cx="647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356000" y="27813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80360" y="5734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2046960" y="29973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412000" y="24922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03280" y="479736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947280" y="53737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3995280" y="2421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260360" y="54936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896920" y="335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917800" y="357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2917800" y="37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2609280" y="36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112560" y="3571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ontur-World-Map01"/>
          <p:cNvPicPr/>
          <p:nvPr/>
        </p:nvPicPr>
        <p:blipFill>
          <a:blip r:embed="rId1"/>
          <a:stretch/>
        </p:blipFill>
        <p:spPr>
          <a:xfrm>
            <a:off x="971640" y="1844640"/>
            <a:ext cx="7619760" cy="454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01080" y="32846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ham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80360" y="5877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904040" y="285264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2340720" y="23493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732000" y="4653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6802920" y="5300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779280" y="2205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212360" y="256536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404720" y="62064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041640" y="3427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112920" y="3643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752200" y="3571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277800" y="357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ontur-World-Map01"/>
          <p:cNvPicPr/>
          <p:nvPr/>
        </p:nvPicPr>
        <p:blipFill>
          <a:blip r:embed="rId1"/>
          <a:stretch/>
        </p:blipFill>
        <p:spPr>
          <a:xfrm>
            <a:off x="971640" y="1844640"/>
            <a:ext cx="7619760" cy="45482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2988000" y="350028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80360" y="5877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975320" y="29973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2412000" y="23493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732000" y="4653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802920" y="522936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66560" y="2205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428360" y="24922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844000" y="32846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ham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331640" y="54936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041640" y="37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680920" y="349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328560" y="3716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ontur-World-Map01"/>
          <p:cNvPicPr/>
          <p:nvPr/>
        </p:nvPicPr>
        <p:blipFill>
          <a:blip r:embed="rId1"/>
          <a:stretch/>
        </p:blipFill>
        <p:spPr>
          <a:xfrm>
            <a:off x="1116000" y="206064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3132000" y="4005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y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80360" y="5734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975320" y="306864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556720" y="25653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76360" y="479736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876000" y="5516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850920" y="2421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428360" y="27082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3132720" y="35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ham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3059640" y="371628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331640" y="62064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752200" y="36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3493440" y="3860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98900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679480" y="36432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80360" y="580536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75320" y="29973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412000" y="24922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876360" y="4724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6731640" y="5516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3779280" y="234936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4501440" y="2637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2917080" y="32846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ham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2843640" y="3429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059280" y="39337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y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1331640" y="62064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3472920" y="3571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98900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3327120" y="37162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nid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80360" y="5734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264400" y="29973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2485080" y="24922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76360" y="4724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731640" y="544500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779280" y="2205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4428360" y="24922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2917080" y="33577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ham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2843640" y="357336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276720" y="4005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y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268360" y="38606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260360" y="62064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6" descr="кроссворд"/>
          <p:cNvPicPr/>
          <p:nvPr/>
        </p:nvPicPr>
        <p:blipFill>
          <a:blip r:embed="rId1"/>
          <a:stretch/>
        </p:blipFill>
        <p:spPr>
          <a:xfrm>
            <a:off x="5870520" y="1844640"/>
            <a:ext cx="3273480" cy="50133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7"/>
          <p:cNvSpPr/>
          <p:nvPr/>
        </p:nvSpPr>
        <p:spPr>
          <a:xfrm>
            <a:off x="6226920" y="414972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   N   G   L   I    S   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6227640" y="450864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6588000" y="3357720"/>
            <a:ext cx="43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6588000" y="4508640"/>
            <a:ext cx="36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8102520" y="3716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1095480" y="6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2"/>
          <p:cNvSpPr/>
          <p:nvPr/>
        </p:nvSpPr>
        <p:spPr>
          <a:xfrm>
            <a:off x="1332000" y="476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CROSS-W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3" descr="_MG_4740"/>
          <p:cNvPicPr/>
          <p:nvPr/>
        </p:nvPicPr>
        <p:blipFill>
          <a:blip r:embed="rId2"/>
          <a:stretch/>
        </p:blipFill>
        <p:spPr>
          <a:xfrm>
            <a:off x="468360" y="1341360"/>
            <a:ext cx="2270160" cy="1513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4" descr="372867"/>
          <p:cNvPicPr/>
          <p:nvPr/>
        </p:nvPicPr>
        <p:blipFill>
          <a:blip r:embed="rId3"/>
          <a:stretch/>
        </p:blipFill>
        <p:spPr>
          <a:xfrm>
            <a:off x="2700360" y="5199120"/>
            <a:ext cx="1658880" cy="1658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5" descr="australia_kangaroo"/>
          <p:cNvPicPr/>
          <p:nvPr/>
        </p:nvPicPr>
        <p:blipFill>
          <a:blip r:embed="rId4"/>
          <a:stretch/>
        </p:blipFill>
        <p:spPr>
          <a:xfrm>
            <a:off x="179280" y="2924280"/>
            <a:ext cx="2171880" cy="1955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6" descr="bahamas01"/>
          <p:cNvPicPr/>
          <p:nvPr/>
        </p:nvPicPr>
        <p:blipFill>
          <a:blip r:embed="rId5"/>
          <a:stretch/>
        </p:blipFill>
        <p:spPr>
          <a:xfrm>
            <a:off x="250920" y="4997520"/>
            <a:ext cx="2479680" cy="1860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7" descr="canada2"/>
          <p:cNvPicPr/>
          <p:nvPr/>
        </p:nvPicPr>
        <p:blipFill>
          <a:blip r:embed="rId6"/>
          <a:stretch/>
        </p:blipFill>
        <p:spPr>
          <a:xfrm>
            <a:off x="5364000" y="1197000"/>
            <a:ext cx="1636920" cy="1895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8" descr="Hram-Gayane"/>
          <p:cNvPicPr/>
          <p:nvPr/>
        </p:nvPicPr>
        <p:blipFill>
          <a:blip r:embed="rId7"/>
          <a:stretch/>
        </p:blipFill>
        <p:spPr>
          <a:xfrm>
            <a:off x="2916360" y="3357720"/>
            <a:ext cx="2214360" cy="1663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9" descr="USA"/>
          <p:cNvPicPr/>
          <p:nvPr/>
        </p:nvPicPr>
        <p:blipFill>
          <a:blip r:embed="rId8"/>
          <a:stretch/>
        </p:blipFill>
        <p:spPr>
          <a:xfrm>
            <a:off x="4284720" y="4941720"/>
            <a:ext cx="1976400" cy="1581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0" descr="standardCover-Australia"/>
          <p:cNvPicPr/>
          <p:nvPr/>
        </p:nvPicPr>
        <p:blipFill>
          <a:blip r:embed="rId9"/>
          <a:stretch/>
        </p:blipFill>
        <p:spPr>
          <a:xfrm>
            <a:off x="2268360" y="213372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1" descr="eire1"/>
          <p:cNvPicPr/>
          <p:nvPr/>
        </p:nvPicPr>
        <p:blipFill>
          <a:blip r:embed="rId10"/>
          <a:stretch/>
        </p:blipFill>
        <p:spPr>
          <a:xfrm>
            <a:off x="3348000" y="1197000"/>
            <a:ext cx="202104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057680" y="476280"/>
            <a:ext cx="758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nglish language belongs to all of 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erever  we came from originall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t has never been fixed. Its richne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prings from its absorption of n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ords from around the worl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ichael Howar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michaelhoward_narrowweb__200x256"/>
          <p:cNvPicPr/>
          <p:nvPr/>
        </p:nvPicPr>
        <p:blipFill>
          <a:blip r:embed="rId1"/>
          <a:stretch/>
        </p:blipFill>
        <p:spPr>
          <a:xfrm>
            <a:off x="1258920" y="3573360"/>
            <a:ext cx="2557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004760" y="353880"/>
            <a:ext cx="768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With what phrase begins the conver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etween two people that speak different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anguages and want to find a common langu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128643_01"/>
          <p:cNvPicPr/>
          <p:nvPr/>
        </p:nvPicPr>
        <p:blipFill>
          <a:blip r:embed="rId1"/>
          <a:stretch/>
        </p:blipFill>
        <p:spPr>
          <a:xfrm>
            <a:off x="2700360" y="2060640"/>
            <a:ext cx="5002200" cy="3638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 rot="1083000">
            <a:off x="152640" y="184464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stellar"/>
              </a:rPr>
              <a:t>Do you speak English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20468400">
            <a:off x="6924600" y="19159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stellar"/>
              </a:rPr>
              <a:t>Yes I 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images[87]"/>
          <p:cNvPicPr/>
          <p:nvPr/>
        </p:nvPicPr>
        <p:blipFill>
          <a:blip r:embed="rId1"/>
          <a:stretch/>
        </p:blipFill>
        <p:spPr>
          <a:xfrm>
            <a:off x="179280" y="1413000"/>
            <a:ext cx="1871640" cy="127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7518_1_o"/>
          <p:cNvPicPr/>
          <p:nvPr/>
        </p:nvPicPr>
        <p:blipFill>
          <a:blip r:embed="rId2"/>
          <a:stretch/>
        </p:blipFill>
        <p:spPr>
          <a:xfrm>
            <a:off x="7373880" y="4454640"/>
            <a:ext cx="1770120" cy="2403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images[96]"/>
          <p:cNvPicPr/>
          <p:nvPr/>
        </p:nvPicPr>
        <p:blipFill>
          <a:blip r:embed="rId3"/>
          <a:stretch/>
        </p:blipFill>
        <p:spPr>
          <a:xfrm>
            <a:off x="6732720" y="2852640"/>
            <a:ext cx="1904760" cy="1762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41556[1]"/>
          <p:cNvPicPr/>
          <p:nvPr/>
        </p:nvPicPr>
        <p:blipFill>
          <a:blip r:embed="rId4"/>
          <a:stretch/>
        </p:blipFill>
        <p:spPr>
          <a:xfrm rot="19990800">
            <a:off x="4500720" y="5896080"/>
            <a:ext cx="666720" cy="961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CA94NA3R"/>
          <p:cNvPicPr/>
          <p:nvPr/>
        </p:nvPicPr>
        <p:blipFill>
          <a:blip r:embed="rId5"/>
          <a:stretch/>
        </p:blipFill>
        <p:spPr>
          <a:xfrm>
            <a:off x="179280" y="5253120"/>
            <a:ext cx="1944720" cy="1461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IMG_3482"/>
          <p:cNvPicPr/>
          <p:nvPr/>
        </p:nvPicPr>
        <p:blipFill>
          <a:blip r:embed="rId6"/>
          <a:stretch/>
        </p:blipFill>
        <p:spPr>
          <a:xfrm>
            <a:off x="179280" y="2781360"/>
            <a:ext cx="2256120" cy="1698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002_shine_big"/>
          <p:cNvPicPr/>
          <p:nvPr/>
        </p:nvPicPr>
        <p:blipFill>
          <a:blip r:embed="rId7"/>
          <a:stretch/>
        </p:blipFill>
        <p:spPr>
          <a:xfrm>
            <a:off x="2195640" y="1484280"/>
            <a:ext cx="1598400" cy="2497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_44120239_doctors_bbc203[1]"/>
          <p:cNvPicPr/>
          <p:nvPr/>
        </p:nvPicPr>
        <p:blipFill>
          <a:blip r:embed="rId8"/>
          <a:stretch/>
        </p:blipFill>
        <p:spPr>
          <a:xfrm>
            <a:off x="2124000" y="541008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multipointt"/>
          <p:cNvPicPr/>
          <p:nvPr/>
        </p:nvPicPr>
        <p:blipFill>
          <a:blip r:embed="rId9"/>
          <a:stretch/>
        </p:blipFill>
        <p:spPr>
          <a:xfrm>
            <a:off x="3492360" y="3213000"/>
            <a:ext cx="3267360" cy="2162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CAWHO90J"/>
          <p:cNvPicPr/>
          <p:nvPr/>
        </p:nvPicPr>
        <p:blipFill>
          <a:blip r:embed="rId10"/>
          <a:stretch/>
        </p:blipFill>
        <p:spPr>
          <a:xfrm rot="1406400">
            <a:off x="6227280" y="5971680"/>
            <a:ext cx="885960" cy="885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4" descr="CAAB833C"/>
          <p:cNvPicPr/>
          <p:nvPr/>
        </p:nvPicPr>
        <p:blipFill>
          <a:blip r:embed="rId11"/>
          <a:stretch/>
        </p:blipFill>
        <p:spPr>
          <a:xfrm>
            <a:off x="5219640" y="5419800"/>
            <a:ext cx="1005120" cy="1438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128643_01"/>
          <p:cNvPicPr/>
          <p:nvPr/>
        </p:nvPicPr>
        <p:blipFill>
          <a:blip r:embed="rId12"/>
          <a:stretch/>
        </p:blipFill>
        <p:spPr>
          <a:xfrm>
            <a:off x="6012000" y="981000"/>
            <a:ext cx="2730240" cy="19861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6"/>
          <p:cNvSpPr/>
          <p:nvPr/>
        </p:nvSpPr>
        <p:spPr>
          <a:xfrm>
            <a:off x="604800" y="333360"/>
            <a:ext cx="75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What are reasons for learning English langu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3708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8" descr="индия2"/>
          <p:cNvPicPr/>
          <p:nvPr/>
        </p:nvPicPr>
        <p:blipFill>
          <a:blip r:embed="rId13"/>
          <a:stretch/>
        </p:blipFill>
        <p:spPr>
          <a:xfrm>
            <a:off x="3995640" y="1052640"/>
            <a:ext cx="1781280" cy="21207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9"/>
          <p:cNvSpPr/>
          <p:nvPr/>
        </p:nvSpPr>
        <p:spPr>
          <a:xfrm>
            <a:off x="412164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0" descr="Kondi01[1]"/>
          <p:cNvPicPr/>
          <p:nvPr/>
        </p:nvPicPr>
        <p:blipFill>
          <a:blip r:embed="rId14"/>
          <a:stretch/>
        </p:blipFill>
        <p:spPr>
          <a:xfrm>
            <a:off x="1908000" y="3500280"/>
            <a:ext cx="1498680" cy="1944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1"/>
          <p:cNvSpPr/>
          <p:nvPr/>
        </p:nvSpPr>
        <p:spPr>
          <a:xfrm>
            <a:off x="210528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2341800" y="15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Match the two parts to form complete statement.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There are lots of peopl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A person can hardly hope to be up to dat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At present science and technical knowledg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Learning a third foreign languag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b3e21"/>
                </a:solidFill>
                <a:latin typeface="Tahoma"/>
              </a:rPr>
              <a:t>Success in foreign language learning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66320" y="41144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is not connected just a person’s natural talent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who speak more then one 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much easier than learning the second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are progressing very fa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if he can’t use a computer and speak a foreign language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3"/>
          <p:cNvSpPr/>
          <p:nvPr/>
        </p:nvSpPr>
        <p:spPr>
          <a:xfrm>
            <a:off x="1045440" y="215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9800" y="2133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jo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46080" y="2133720"/>
            <a:ext cx="53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cabulary by listening to songs in Engli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948360" y="2205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7098120" y="213372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’t m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042920" y="2492280"/>
            <a:ext cx="14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996920" y="2492280"/>
            <a:ext cx="58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ongs several times and writing the words down. I of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7740720" y="249228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050480" y="2852640"/>
            <a:ext cx="244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look up words in th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434040" y="2852640"/>
            <a:ext cx="555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ionaries and sometimes, when I get stuck, I ask m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2343600" y="321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off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3564000" y="3213000"/>
            <a:ext cx="3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861000" y="3213000"/>
            <a:ext cx="28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with me on a song if 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4790880" y="35733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57000" y="357336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word or line, sh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3135600" y="393372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of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>
            <a:off x="7814520" y="35733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050120" y="39337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 to understand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4213800" y="39337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5001120" y="3933720"/>
            <a:ext cx="41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 listen to one bit a few times. She on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045440" y="42926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u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1918080" y="429264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listen to hip hop. If 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4503960" y="4292640"/>
            <a:ext cx="6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9"/>
          <p:cNvSpPr/>
          <p:nvPr/>
        </p:nvSpPr>
        <p:spPr>
          <a:xfrm>
            <a:off x="5156280" y="429264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do the same as me, I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7527240" y="429264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1054440" y="4626000"/>
            <a:ext cx="52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ing to singers like David Gray and Norah J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981000" y="4941720"/>
            <a:ext cx="32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ly hear the words. I don’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4142160" y="49417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i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4921920" y="4941720"/>
            <a:ext cx="42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to listen to heavy metal because th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1052280" y="53006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yrics often don’t mean much and yo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4859280" y="530064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5373000" y="5300640"/>
            <a:ext cx="350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rning incorrect grammar form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1045800" y="32130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. S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6594480" y="3213000"/>
            <a:ext cx="21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’t have the lyric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1054800" y="357336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listen to the song together and if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6283080" y="46245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ause you 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1090080" y="6093000"/>
            <a:ext cx="69976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se words: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isk, enjoy, don’t mind, advise, makes, need, has offered, fail,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lps, refuses, want, sugg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5"/>
          <p:cNvSpPr/>
          <p:nvPr/>
        </p:nvSpPr>
        <p:spPr>
          <a:xfrm>
            <a:off x="1187280" y="22050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7380360" y="22050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7667280" y="256536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8"/>
          <p:cNvSpPr/>
          <p:nvPr/>
        </p:nvSpPr>
        <p:spPr>
          <a:xfrm>
            <a:off x="2627280" y="3284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4572000" y="36450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7812000" y="36450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1187280" y="4365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00720" y="4365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3"/>
          <p:cNvSpPr/>
          <p:nvPr/>
        </p:nvSpPr>
        <p:spPr>
          <a:xfrm>
            <a:off x="7667640" y="4365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4"/>
          <p:cNvSpPr/>
          <p:nvPr/>
        </p:nvSpPr>
        <p:spPr>
          <a:xfrm>
            <a:off x="4211640" y="50133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5"/>
          <p:cNvSpPr/>
          <p:nvPr/>
        </p:nvSpPr>
        <p:spPr>
          <a:xfrm>
            <a:off x="4788000" y="5373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4284720" y="40053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7"/>
          <p:cNvSpPr/>
          <p:nvPr/>
        </p:nvSpPr>
        <p:spPr>
          <a:xfrm>
            <a:off x="576720" y="476280"/>
            <a:ext cx="595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John gives us the information about learn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English. What are the strategies he u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o learn English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8" descr="eduk-100x133-english-student_experiences-owen_li[1]"/>
          <p:cNvPicPr/>
          <p:nvPr/>
        </p:nvPicPr>
        <p:blipFill>
          <a:blip r:embed="rId1"/>
          <a:stretch/>
        </p:blipFill>
        <p:spPr>
          <a:xfrm>
            <a:off x="7596360" y="189000"/>
            <a:ext cx="1292040" cy="17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347120" y="549360"/>
            <a:ext cx="68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s it  necessary to know a foreign langu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13_zaodnim"/>
          <p:cNvPicPr/>
          <p:nvPr/>
        </p:nvPicPr>
        <p:blipFill>
          <a:blip r:embed="rId1"/>
          <a:stretch/>
        </p:blipFill>
        <p:spPr>
          <a:xfrm>
            <a:off x="2268360" y="2492280"/>
            <a:ext cx="5112000" cy="3834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438280" y="155736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stellar"/>
              </a:rPr>
              <a:t>Knowledge is pow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116000" y="476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Use these word combi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42200" y="2060640"/>
            <a:ext cx="660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knowledge of foreig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widely spoke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mother ton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 communicate with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necessary for success in bus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urist 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urist attr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 overestimate the importance of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 be up-to-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 be better quali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189080" y="409716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189080" y="438480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044720" y="47242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260000" y="503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333440" y="5321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atch the words and their definition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ther ton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fficial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di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riginal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 group of words with a special  mea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ople who live in the country, city, etc., not tour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language which is spoken on radio, TV, and by official people, and usually by most of the people in the cou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language which a child  learning naturally, in his/ her family, not as a foreign languag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ople who had lived in the country before it got its present nam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98900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>
            <a:hlinkClick r:id="rId2" action="ppaction://hlinksldjump"/>
          </p:cNvPr>
          <p:cNvSpPr/>
          <p:nvPr/>
        </p:nvSpPr>
        <p:spPr>
          <a:xfrm>
            <a:off x="2465280" y="241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>
            <a:hlinkClick r:id="rId4" action="ppaction://hlinksldjump"/>
          </p:cNvPr>
          <p:cNvSpPr/>
          <p:nvPr/>
        </p:nvSpPr>
        <p:spPr>
          <a:xfrm>
            <a:off x="2536560" y="29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309440" y="479736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66000" y="5227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>
            <a:hlinkClick r:id="rId8" action="ppaction://hlinksldjump"/>
          </p:cNvPr>
          <p:cNvSpPr/>
          <p:nvPr/>
        </p:nvSpPr>
        <p:spPr>
          <a:xfrm>
            <a:off x="4501800" y="2492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9" action="ppaction://hlinksldjump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42908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10" action="ppaction://hlinksldjump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989080" y="3357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11" action="ppaction://hlinksldjump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112920" y="3571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12" action="ppaction://hlinksldjump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12920" y="378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13" action="ppaction://hlinksldjump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772720" y="3716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14" action="ppaction://hlinksldjump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401640" y="3716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15" action="ppaction://hlinksldjump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971640" y="404640"/>
            <a:ext cx="75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916280"/>
            <a:ext cx="7620120" cy="4547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392920" y="25639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11280" y="28526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80360" y="5877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331640" y="47628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536560" y="29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7289640" y="479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866000" y="5227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552920" y="249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50180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041640" y="335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041640" y="3498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3112920" y="37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825280" y="36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3349080" y="357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ntur-World-Map01"/>
          <p:cNvPicPr/>
          <p:nvPr/>
        </p:nvPicPr>
        <p:blipFill>
          <a:blip r:embed="rId1"/>
          <a:stretch/>
        </p:blipFill>
        <p:spPr>
          <a:xfrm>
            <a:off x="900000" y="198900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954800" y="29955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80360" y="5877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392920" y="249084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31640" y="47628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360920" y="479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866000" y="5227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429080" y="2421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896920" y="335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2917800" y="364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2968560" y="385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628360" y="3645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277800" y="3645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428616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ntur-World-Map01"/>
          <p:cNvPicPr/>
          <p:nvPr/>
        </p:nvPicPr>
        <p:blipFill>
          <a:blip r:embed="rId1"/>
          <a:stretch/>
        </p:blipFill>
        <p:spPr>
          <a:xfrm>
            <a:off x="1042920" y="1989000"/>
            <a:ext cx="7620120" cy="45482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7000200" y="48672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80360" y="5950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485080" y="25653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46960" y="2997360"/>
            <a:ext cx="22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549080" y="47628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nd countries where English is spoken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fist languag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7866000" y="529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552920" y="249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01800" y="2781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968560" y="335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968560" y="3571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60360" y="38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680920" y="3716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3277800" y="3645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1:00:11Z</dcterms:created>
  <dc:creator>OLEYNIKI</dc:creator>
  <dc:description/>
  <dc:language>en-US</dc:language>
  <cp:lastModifiedBy>User</cp:lastModifiedBy>
  <dcterms:modified xsi:type="dcterms:W3CDTF">2025-03-03T05:54:36Z</dcterms:modified>
  <cp:revision>21</cp:revision>
  <dc:subject/>
  <dc:title>Слайд 1</dc:title>
</cp:coreProperties>
</file>