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6.png" ContentType="image/png"/>
  <Override PartName="/ppt/media/image29.png" ContentType="image/png"/>
  <Override PartName="/ppt/media/image22.jpeg" ContentType="image/jpeg"/>
  <Override PartName="/ppt/media/image9.png" ContentType="image/png"/>
  <Override PartName="/ppt/media/image18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AF6-6F78-4A34-B3DD-7B397AAB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35A-DF88-4442-BBFF-A9679DCA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498-E07B-410C-8739-39E07C9E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915-31F6-4F5C-A73E-B2E72F3D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67FC-7CEF-41A0-9393-7FA03612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D890-0DE7-4BA1-8E69-5FE5C599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CB8F-F5E0-4137-A746-EEB91202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3B19-A981-4718-9D22-7F4ED358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5A6B-FC16-4E81-88B9-A40C3867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34CF-F4EE-4F27-8CF6-29861C73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4A84-9B6C-4C03-93CF-BF8A2A26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AC1-2A1C-4646-9C68-963DA74E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152A-9F0E-43A6-A2A5-C424F93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8FBF-A733-4ED8-AFFE-10822EA8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28E4-DF31-4624-95AB-C737CF83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68B5-1710-4A14-AD8D-063B3EE1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7998-44B2-416A-B98F-D7F17B87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D592-425D-405A-96FF-3959E5D9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1262-0352-40E8-9628-C8D1E565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C117-CDE6-4459-818B-C61E8E94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ED8C-7D35-4390-94CF-3EBF6706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589A6-FCC4-4577-96E7-160A4F7C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D98-A1C8-4915-BFFC-B3C02C32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EE2B-C9D3-4D0F-AD9C-CA7891B5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EBC2-94BB-4B84-B93B-E9310BFB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EB7F-8DDF-4588-9128-616D7A4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2B7E-153A-455B-848B-658911D2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90429-17FB-47F3-BE1E-C59A4C61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9E1F-C318-4A74-A8FC-B406567E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3BE06-21A0-4F4D-84F2-BE0441B4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8C44D-E5F6-4111-AFE0-77674748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3684-5514-42FA-A419-D192C195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969A0-81B7-4F21-957B-F9FA2D0A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486-85DA-4483-AFAB-C061A45D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451C-F95D-4622-867A-3887A796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D0919-7B82-4059-821A-EFB55E7F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23346-22D5-484A-99B4-79F8222F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ADDDC-A2E6-49EC-B049-40391A8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D168-A05E-4737-BEE4-794123D9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6F35E-AF40-4770-B518-C16A3C7D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3014B-4144-467F-B9AF-29AB52C8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8BE7-AA10-4CB4-A734-302BD56A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E1A27-5309-4CF1-8FE4-408C541C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23E39-5882-44F7-A2AE-F1808D92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BCC-1C96-4AF9-8320-FF5245BE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AB05E-C5AD-4D41-A157-73466C65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2B3D-D99B-4C06-8F53-1464D979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FFC60-B65B-4614-B89F-C23E2611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57A8E-053B-49B9-8BCC-3FB63CD1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9CB8-3FBB-4AFD-BEC9-7F842A44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72EE6-FFA5-4DE2-A3F8-85E36461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176DC-F5F7-41F7-A139-39E07BED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87D34-C629-4905-BC0C-83FE72C7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C9370-5475-4610-B96D-CE4D407E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76DF8-DB3C-4D21-A09C-2C28A673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8C4-CE33-48A5-A8E6-AD221E0A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E4071-3CF6-4C2D-8ED4-BF35BB7C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847-F5E7-497B-BFB7-652BA064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E48-B03E-4649-B674-82E4F94F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F24-9A3F-40C5-A2C5-48317B12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899-8516-462B-85CF-78B8393F22AC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BAE4-7E36-4648-8110-F85ED8132C7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8621-6533-4D07-B13D-63922F5084CE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CD88-6B5C-41B7-A9D5-9D80D3DD9AD0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C9FB-175F-404B-9112-6CB82533713F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EA1B-9ED3-46B4-91C7-63E2F7BEB2A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651B-EDAA-4AD0-B3A3-986CA9FE1BBE}" type="datetime">
              <a:rPr b="0" lang="en-US" sz="1000" spc="-1" strike="noStrike">
                <a:solidFill>
                  <a:srgbClr val="f4e7ed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604F-C168-4C5F-84C7-A5B1598BF7B8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D9C3-367A-41F6-B533-2E0137103F3E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78CA-FCD6-47B2-BFA9-DA0028BBA85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791240" y="281160"/>
            <a:ext cx="4468680" cy="3211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072040" y="3643200"/>
            <a:ext cx="3929040" cy="321480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Долбилина Варвар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Савченко Матвей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Ученики 1 класса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МОУ «ООШ с. Успенка»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Руководитель: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пасеева Олеся Петровна,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ОУ «ООШ с. Успенка»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5" descr="D:\фото 2\DSC02428.JPG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12600" y="255600"/>
            <a:ext cx="8253360" cy="11095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85480" y="5429160"/>
            <a:ext cx="800100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ольшинство ребят знают, что жевать резинку не культурно по отношению к другим людям, но не всегда это правило выполняют в жизн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835812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2C08-E523-49BC-9449-A4946F79E742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5840" y="2142720"/>
            <a:ext cx="741024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иаграмм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Диаграмма 8" descr=""/>
          <p:cNvPicPr/>
          <p:nvPr/>
        </p:nvPicPr>
        <p:blipFill>
          <a:blip r:embed="rId2"/>
          <a:stretch/>
        </p:blipFill>
        <p:spPr>
          <a:xfrm>
            <a:off x="1285920" y="2571840"/>
            <a:ext cx="5643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2600" y="182520"/>
            <a:ext cx="8253360" cy="1109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273672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сконечное жевание превращается в дурную, а в некоторых случаях и вредную привычку, так как дети постоянно вытаскивают жвачку изо рта, затем снова начинают жевать, или, что вообще недопустимо, дают попробовать друг другу, занося с грязных рук массу микроб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Номер слайда 4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4E8F-D3F7-48B5-A174-5E43E15BA60D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D:\фото 2\DSC02429.JPG"/>
          <p:cNvPicPr/>
          <p:nvPr/>
        </p:nvPicPr>
        <p:blipFill>
          <a:blip r:embed="rId2"/>
          <a:stretch/>
        </p:blipFill>
        <p:spPr>
          <a:xfrm>
            <a:off x="3071880" y="1428840"/>
            <a:ext cx="58291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182520" y="-219240"/>
            <a:ext cx="7182000" cy="1047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285840" y="1000080"/>
            <a:ext cx="4286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Жевательная резинка нравится младшим школьникам, потому что она сладкая и вкусна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амая любимая жевательная резинка – это «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rbit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Жевательные резинки «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rbit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», «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rol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», «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ubba Bubba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» имеют в своём составе вещества, вызывающие различные заболевани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Употребление жевательной резинки во время математического счёта мешает звукопроизношению и замедляет мыслительные процесс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Чтобы уберечь себя от нежелательных последствий, следует соблюдать основные правила пользования жевательной резинкой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спользовать её могут только люди со здоровыми зубами и дёснами в течение 5-10 минут после ед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2920" y="1285920"/>
            <a:ext cx="35211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евательная резинка наносит больше вреда организму ребёнка, чем пользы, а жевание её неэтично по отношению к окружающи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2"/>
          <a:stretch/>
        </p:blipFill>
        <p:spPr>
          <a:xfrm>
            <a:off x="4857840" y="3929040"/>
            <a:ext cx="3016080" cy="2714760"/>
          </a:xfrm>
          <a:prstGeom prst="rect">
            <a:avLst/>
          </a:prstGeom>
          <a:ln w="0">
            <a:noFill/>
          </a:ln>
        </p:spPr>
      </p:pic>
      <p:sp>
        <p:nvSpPr>
          <p:cNvPr id="272" name="Номер слайда 5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A94B-4E1B-4FCA-85B1-27322AA6546F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7767720" cy="1176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000320" y="1571400"/>
            <a:ext cx="4214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уй  жевательную резинку только после еды в течение 5-10 мину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жуй на голодный желудок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давай предпочтение жевательным резинкам с сахарозаменителя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используй жевательную резинку с красителя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Не заглатыв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й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жевательную резинк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мните! Никакая жевательная резинка не сможет заменить полноценную чистку зубов зубной пастой и полоскание полости рта после ед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571680" y="1428840"/>
            <a:ext cx="3446280" cy="5000400"/>
          </a:xfrm>
          <a:prstGeom prst="rect">
            <a:avLst/>
          </a:prstGeom>
          <a:ln w="0">
            <a:noFill/>
          </a:ln>
        </p:spPr>
      </p:pic>
      <p:sp>
        <p:nvSpPr>
          <p:cNvPr id="276" name="Номер слайда 4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4420-9494-4715-8BC9-0022DA72B0DF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3822840" cy="871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356760" y="1356840"/>
            <a:ext cx="37861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ольшая детская энциклопедия «Всё обо всём», изд. Москва АСТ, 2000 г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«Почемучка», А. Дитрих, Г. Юрмин М.: ООО «Издательство Астрель», 2002 г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Я познаю мир: Детская энциклопедия: История вещей. Составители Н. Ю. Буянова и др. - М.: ООО «Издательство АСТ – ЛТД», 1998 – 480 с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4143240" y="714240"/>
            <a:ext cx="1928880" cy="2347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6215040" y="2214720"/>
            <a:ext cx="1905120" cy="2495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4071960" y="3448080"/>
            <a:ext cx="1954080" cy="3124080"/>
          </a:xfrm>
          <a:prstGeom prst="rect">
            <a:avLst/>
          </a:prstGeom>
          <a:ln w="0">
            <a:noFill/>
          </a:ln>
        </p:spPr>
      </p:pic>
      <p:sp>
        <p:nvSpPr>
          <p:cNvPr id="282" name="Номер слайда 6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9B4C-AE5A-4E35-856F-4B3A17C4E660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5469120" cy="938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356760" y="1642680"/>
            <a:ext cx="69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тернет-ресурс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http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:/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www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genon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тернет-ресурс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http://ast752.ru/poleznii-sovet.php?id=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F359-BFD3-402A-80B1-2A213BF145A6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420840" y="0"/>
            <a:ext cx="6699240" cy="8478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4240" y="928800"/>
            <a:ext cx="6858000" cy="11001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зучение влияния жевательной резинки на организм младшего школьник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Содержимое 3" descr="C:\Users\SONY\AppData\Local\Microsoft\Windows\Temporary Internet Files\Content.Word\DSC03899.jpg"/>
          <p:cNvPicPr/>
          <p:nvPr/>
        </p:nvPicPr>
        <p:blipFill>
          <a:blip r:embed="rId2"/>
          <a:stretch/>
        </p:blipFill>
        <p:spPr>
          <a:xfrm>
            <a:off x="1116000" y="1817640"/>
            <a:ext cx="6735600" cy="4780080"/>
          </a:xfrm>
          <a:prstGeom prst="rect">
            <a:avLst/>
          </a:prstGeom>
          <a:ln w="0">
            <a:noFill/>
          </a:ln>
        </p:spPr>
      </p:pic>
      <p:sp>
        <p:nvSpPr>
          <p:cNvPr id="226" name="Номер слайда 4"/>
          <p:cNvSpPr/>
          <p:nvPr/>
        </p:nvSpPr>
        <p:spPr>
          <a:xfrm>
            <a:off x="835812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4688-E5CA-489E-8948-7264D702796F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12600" y="55440"/>
            <a:ext cx="7547040" cy="846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213840" y="1143000"/>
            <a:ext cx="44290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Узнать, что такое жевательная резинка, и когда она появилась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Изучить состав жевательной резинки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ыявить пользу и вред жевательной резинк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Содержимое 2"/>
          <p:cNvSpPr/>
          <p:nvPr/>
        </p:nvSpPr>
        <p:spPr>
          <a:xfrm>
            <a:off x="4143240" y="3714840"/>
            <a:ext cx="428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ыяснить, как относятся к жевательной резинке ученики младших классов нашей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Разработать правила пользования жевательной резинкой в общест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Оформить букл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6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2BD7-B662-45B1-BBDD-CF3441893486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2" descr="D:\фото 2\DSC02374.JPG"/>
          <p:cNvPicPr/>
          <p:nvPr/>
        </p:nvPicPr>
        <p:blipFill>
          <a:blip r:embed="rId2"/>
          <a:stretch/>
        </p:blipFill>
        <p:spPr>
          <a:xfrm>
            <a:off x="785880" y="3929040"/>
            <a:ext cx="3000240" cy="2440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4" descr="D:\фото 2\DSC02365.JPG"/>
          <p:cNvPicPr/>
          <p:nvPr/>
        </p:nvPicPr>
        <p:blipFill>
          <a:blip r:embed="rId3"/>
          <a:stretch/>
        </p:blipFill>
        <p:spPr>
          <a:xfrm>
            <a:off x="4214880" y="857160"/>
            <a:ext cx="352116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566120" cy="920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6840" y="1213920"/>
            <a:ext cx="7472520" cy="8859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Жевательная резинка имеет свою историю и уходит своими корнями вглубь веков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2"/>
          <a:stretch/>
        </p:blipFill>
        <p:spPr>
          <a:xfrm>
            <a:off x="4357800" y="2643120"/>
            <a:ext cx="3616200" cy="2857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3"/>
          <a:stretch/>
        </p:blipFill>
        <p:spPr>
          <a:xfrm>
            <a:off x="357120" y="2214720"/>
            <a:ext cx="3859200" cy="4071960"/>
          </a:xfrm>
          <a:prstGeom prst="rect">
            <a:avLst/>
          </a:prstGeom>
          <a:ln w="0">
            <a:noFill/>
          </a:ln>
        </p:spPr>
      </p:pic>
      <p:sp>
        <p:nvSpPr>
          <p:cNvPr id="237" name="Номер слайда 5"/>
          <p:cNvSpPr/>
          <p:nvPr/>
        </p:nvSpPr>
        <p:spPr>
          <a:xfrm>
            <a:off x="828684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84E3-DBD2-461E-8321-748FAD6883D9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55600" y="55440"/>
            <a:ext cx="7931160" cy="1597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760" y="5071680"/>
            <a:ext cx="757224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5 человек не употребляют, 11 человека – 1 штуку в день, 3 человека  жуют 2-3штуки в день, а 1 человека – 10 штук.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Содержимое 5" descr=""/>
          <p:cNvPicPr/>
          <p:nvPr/>
        </p:nvPicPr>
        <p:blipFill>
          <a:blip r:embed="rId2"/>
          <a:stretch/>
        </p:blipFill>
        <p:spPr>
          <a:xfrm>
            <a:off x="1352520" y="1779480"/>
            <a:ext cx="5797440" cy="3157560"/>
          </a:xfrm>
          <a:prstGeom prst="rect">
            <a:avLst/>
          </a:prstGeom>
          <a:ln w="0">
            <a:noFill/>
          </a:ln>
        </p:spPr>
      </p:pic>
      <p:sp>
        <p:nvSpPr>
          <p:cNvPr id="241" name="Номер слайда 4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B742-D5F6-44BF-A1AC-51D534161CDD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55600" y="36360"/>
            <a:ext cx="7791480" cy="11098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28760" y="5000400"/>
            <a:ext cx="757224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3 ребятам  нравится жевательная резинка, потому что она сладкая и вкусная, а 6 человек не знают почему она им нравиться, только одному ребенку она нравится, потому что ее можно надуть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Содержимое 5" descr=""/>
          <p:cNvPicPr/>
          <p:nvPr/>
        </p:nvPicPr>
        <p:blipFill>
          <a:blip r:embed="rId2"/>
          <a:stretch/>
        </p:blipFill>
        <p:spPr>
          <a:xfrm>
            <a:off x="633240" y="1494000"/>
            <a:ext cx="6231240" cy="3369960"/>
          </a:xfrm>
          <a:prstGeom prst="rect">
            <a:avLst/>
          </a:prstGeom>
          <a:ln w="0">
            <a:noFill/>
          </a:ln>
        </p:spPr>
      </p:pic>
      <p:sp>
        <p:nvSpPr>
          <p:cNvPr id="245" name="Номер слайда 4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36FF-4946-4066-87B3-B9780170970F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55600" y="36360"/>
            <a:ext cx="7754760" cy="1109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28760" y="5214600"/>
            <a:ext cx="7572240" cy="121428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0-ти ребятам нравится «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rbit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, 1 человеку - «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rol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, 5-ти ребятам – разные жевательные резинки, в том числе и «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ubba Bubba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, а 3 человеа – не жуют жевательные резин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Содержимое 6" descr=""/>
          <p:cNvPicPr/>
          <p:nvPr/>
        </p:nvPicPr>
        <p:blipFill>
          <a:blip r:embed="rId2"/>
          <a:stretch/>
        </p:blipFill>
        <p:spPr>
          <a:xfrm>
            <a:off x="420840" y="1279440"/>
            <a:ext cx="7254720" cy="3872160"/>
          </a:xfrm>
          <a:prstGeom prst="rect">
            <a:avLst/>
          </a:prstGeom>
          <a:ln w="0">
            <a:noFill/>
          </a:ln>
        </p:spPr>
      </p:pic>
      <p:sp>
        <p:nvSpPr>
          <p:cNvPr id="249" name="Номер слайда 4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405D-2174-448C-B684-4EE211E36629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-133200" y="-49320"/>
            <a:ext cx="8643960" cy="16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214200" y="1214280"/>
          <a:ext cx="4214880" cy="5322960"/>
        </p:xfrm>
        <a:graphic>
          <a:graphicData uri="http://schemas.openxmlformats.org/drawingml/2006/table">
            <a:tbl>
              <a:tblPr/>
              <a:tblGrid>
                <a:gridCol w="1656000"/>
                <a:gridCol w="752400"/>
                <a:gridCol w="903240"/>
                <a:gridCol w="903240"/>
              </a:tblGrid>
              <a:tr h="67500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ста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r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Di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ubba Bub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3152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иновая ос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8924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сласт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8888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ицер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9032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густ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8924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9032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щеп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8888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оматиз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8924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зу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9032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хар (глюкоз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52" name=""/>
          <p:cNvSpPr txBox="1"/>
          <p:nvPr/>
        </p:nvSpPr>
        <p:spPr>
          <a:xfrm>
            <a:off x="4572000" y="1285920"/>
            <a:ext cx="3643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лавной составляющей жевательной резинки является резиновая осн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составе детской жевательной резинки «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ubba Bubba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» содержится сахар, а при контакте с зубами,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 известно, он вызывает кариес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Рисунок 7" descr="C:\Users\SONY\AppData\Local\Microsoft\Windows\Temporary Internet Files\Content.Word\DSC03888.jpg"/>
          <p:cNvPicPr/>
          <p:nvPr/>
        </p:nvPicPr>
        <p:blipFill>
          <a:blip r:embed="rId2"/>
          <a:stretch/>
        </p:blipFill>
        <p:spPr>
          <a:xfrm>
            <a:off x="4929120" y="4214880"/>
            <a:ext cx="3113280" cy="2411280"/>
          </a:xfrm>
          <a:prstGeom prst="rect">
            <a:avLst/>
          </a:prstGeom>
          <a:ln w="0">
            <a:noFill/>
          </a:ln>
        </p:spPr>
      </p:pic>
      <p:sp>
        <p:nvSpPr>
          <p:cNvPr id="254" name="Номер слайда 5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BDAA-F81A-43CF-AEEC-D4207318AED6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7699680" cy="11098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13840" y="521460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8 человек считают, что жевательная резинка освежает дыхание, 2 человека, что отбеливает зубы, 2 человека не знают о пользе и вреде жевательной резинки, 2 человек не видят в жевании резинки пользы, поэтому её не используют, а 6 человек считают что из-за нее болит желудо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Содержимое 6" descr=""/>
          <p:cNvPicPr/>
          <p:nvPr/>
        </p:nvPicPr>
        <p:blipFill>
          <a:blip r:embed="rId2"/>
          <a:stretch/>
        </p:blipFill>
        <p:spPr>
          <a:xfrm>
            <a:off x="1206360" y="1133640"/>
            <a:ext cx="6297840" cy="3809880"/>
          </a:xfrm>
          <a:prstGeom prst="rect">
            <a:avLst/>
          </a:prstGeom>
          <a:ln w="0">
            <a:noFill/>
          </a:ln>
        </p:spPr>
      </p:pic>
      <p:sp>
        <p:nvSpPr>
          <p:cNvPr id="258" name="Номер слайда 4"/>
          <p:cNvSpPr/>
          <p:nvPr/>
        </p:nvSpPr>
        <p:spPr>
          <a:xfrm>
            <a:off x="835812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D6A3-D543-4C9C-B17B-9CF48BE6E62C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8:38:52Z</dcterms:created>
  <dc:creator>Admin</dc:creator>
  <dc:description/>
  <dc:language>en-US</dc:language>
  <cp:lastModifiedBy>user</cp:lastModifiedBy>
  <dcterms:modified xsi:type="dcterms:W3CDTF">2015-01-11T17:17:01Z</dcterms:modified>
  <cp:revision>239</cp:revision>
  <dc:subject/>
  <dc:title>Влияние жевательной резинки на организм школьника</dc:title>
</cp:coreProperties>
</file>