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6.png" ContentType="image/png"/>
  <Override PartName="/ppt/media/image29.png" ContentType="image/png"/>
  <Override PartName="/ppt/media/image22.jpeg" ContentType="image/jpeg"/>
  <Override PartName="/ppt/media/image9.png" ContentType="image/png"/>
  <Override PartName="/ppt/media/image18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4.jpeg" ContentType="image/jpeg"/>
  <Override PartName="/ppt/media/image25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5CB-A071-45C5-A837-1B78B4E9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636-5DEE-4F2C-82F0-C4156F18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C30-FA46-4363-AC77-C91A62FE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7AC-C8FF-4346-BF74-C9778F07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6F2B-8C57-40B1-A6C6-28064556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D5E5-752E-49FB-BE3D-1945016B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C94E-0AAC-4C2C-8D01-3B2B8458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25FE-E4B5-4DF8-8502-5F61646D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FB71-13EE-42FE-A58E-51B5390E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8A9F-2B69-44DF-810A-12C522E7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E473-CD72-4D78-8269-C4F55AB2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4AB-44F7-4571-A22A-ED3AD50D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A0D7-1796-4102-A7FC-86D2ED7A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8BE3-3341-4CC3-AABA-79F2E733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23D1-09E6-40AD-BA60-E73D8CDD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0E77-1343-49DD-B4F1-C191C2B3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ABF1-D7AC-4E67-8323-629BA47C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488F2-BD41-4C44-8709-9F7999A3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D54C7-0369-48B2-AEDC-D9397F89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25CEF-3009-4604-8AAD-9308CFD8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F2C8E-70DE-4494-A79D-57585D98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DF9D-9585-4488-8C2B-9F04FCEF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85B8-95F1-405F-942A-829D72C0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0CF57-DE4F-474D-A439-CE2371F3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F9B84-D333-48EB-97F6-C0A78BB4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CF2C6-EAC0-4B61-91B5-7B8E5D52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3E0A-99FF-40D8-8753-ADF87787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52E23-AA7A-42CE-B8D5-F9DB3B64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CEA22-B1CB-4D6F-B3B6-C6DE8D26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492A-098C-44B0-829A-AEE6E43E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40EBD-17BC-4613-9760-14B5FB24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5F31E-957F-4B67-A738-91C53D43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70B7C-1F27-4958-870B-6D276DD8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769-8887-43E1-B08A-BE10D071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AC33C-591E-478C-A1A4-CD1715B5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B55CE-3362-4998-80EF-45074B43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C573F-1249-4769-B8E5-5D38BBA2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365A4-ADAF-4061-95A3-D1DB139C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41B6C-08F0-49AA-8680-4255563C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0A94A-0257-43EC-A585-A1C2CD41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5D054-E367-419F-AD7A-7DDD9FC9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DC993-635D-4757-B6F1-0747C6AD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BB61C-C829-4B06-B35B-AEB4977B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63D76-50C5-4CEB-B56E-7635F4C7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C67-420F-47DE-980F-6E6D3EBC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581AF-A7D9-448B-A445-C01B2D46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F169C-BE73-486C-8456-12E5F50A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FD74E-1AE7-4EF6-868F-3EB0E873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9E6F7-CB7B-468D-8F3E-AC9D38C8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E7F22-D5A1-4CD6-8983-04BC0077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DDCCD-6502-4128-86FC-2A9B2513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88484-16D5-41FC-8C13-1EA2DB61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F80A7-049C-49BE-B5C2-15790427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04968-D5E4-4024-BF15-E43858CA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FDBC1-155E-4EE7-AE79-E2C570E7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D04-C37C-4AEB-8886-3C619557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8DB76-0210-42FD-B0F4-F3E71A4D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1DB-368B-4402-84C7-D0FEBEE2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BA5-F531-4BD8-BA1C-97AFBD26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623E-A6A5-4876-9ACF-72EBF7A5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3C09-19BE-4A42-AD9F-663E6FEF8615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9A23-7A70-43BF-9164-90BF89B2A7D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021F-F421-45BF-B6C5-4D0BD79FF9F8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072D-90A2-40CA-892D-AEFC91EB25B2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DF10-951A-4827-BBDF-8CE4491BB974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318D-5DCB-4251-A379-68F8F233798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571D-FBF4-40C6-A170-60A0A2623109}" type="datetime">
              <a:rPr b="0" lang="en-US" sz="1000" spc="-1" strike="noStrike">
                <a:solidFill>
                  <a:srgbClr val="f4e7ed"/>
                </a:solidFill>
                <a:latin typeface="Trebuchet MS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A00E-357A-4144-BBF1-8C3A22DD76FF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3169-ED7F-4B69-9AF4-741A285FBDE8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D629-4F7E-45FD-B355-92C5BF81014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4791240" y="281160"/>
            <a:ext cx="4468680" cy="3211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072040" y="3643200"/>
            <a:ext cx="3929040" cy="321480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Долбилина Варвар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Савченко Матвей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Ученики 1 класса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МОУ «ООШ с. Успенка»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Руководитель: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пасеева Олеся Петровна,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учитель начальных классов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ОУ «ООШ с. Успенка»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Picture 5" descr="D:\фото 2\DSC02428.JPG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12600" y="255600"/>
            <a:ext cx="8253360" cy="11095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85480" y="5429160"/>
            <a:ext cx="8001000" cy="121464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ольшинство ребят знают, что жевать резинку не культурно по отношению к другим людям, но не всегда это правило выполняют в жизн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Номер слайда 4"/>
          <p:cNvSpPr/>
          <p:nvPr/>
        </p:nvSpPr>
        <p:spPr>
          <a:xfrm>
            <a:off x="835812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C163-C9B4-423E-A00C-985EB3FB50FD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85840" y="2142720"/>
            <a:ext cx="741024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Диаграмм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Диаграмма 8" descr=""/>
          <p:cNvPicPr/>
          <p:nvPr/>
        </p:nvPicPr>
        <p:blipFill>
          <a:blip r:embed="rId2"/>
          <a:stretch/>
        </p:blipFill>
        <p:spPr>
          <a:xfrm>
            <a:off x="1285920" y="2571840"/>
            <a:ext cx="5643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12600" y="182520"/>
            <a:ext cx="8253360" cy="11098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273672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сконечное жевание превращается в дурную, а в некоторых случаях и вредную привычку, так как дети постоянно вытаскивают жвачку изо рта, затем снова начинают жевать, или, что вообще недопустимо, дают попробовать друг другу, занося с грязных рук массу микробо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Номер слайда 4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DB76-6FAF-41B5-949A-142F0C8B7418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D:\фото 2\DSC02429.JPG"/>
          <p:cNvPicPr/>
          <p:nvPr/>
        </p:nvPicPr>
        <p:blipFill>
          <a:blip r:embed="rId2"/>
          <a:stretch/>
        </p:blipFill>
        <p:spPr>
          <a:xfrm>
            <a:off x="3071880" y="1428840"/>
            <a:ext cx="58291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182520" y="-219240"/>
            <a:ext cx="7182000" cy="10479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285840" y="1000080"/>
            <a:ext cx="4286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Жевательная резинка нравится младшим школьникам, потому что она сладкая и вкусная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амая любимая жевательная резинка – это «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Orbit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»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Жевательные резинки «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Orbit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», «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irol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», «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ubba Bubba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» имеют в своём составе вещества, вызывающие различные заболевания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Употребление жевательной резинки во время математического счёта мешает звукопроизношению и замедляет мыслительные процессы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Чтобы уберечь себя от нежелательных последствий, следует соблюдать основные правила пользования жевательной резинкой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спользовать её могут только люди со здоровыми зубами и дёснами в течение 5-10 минут после еды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42920" y="1285920"/>
            <a:ext cx="35211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евательная резинка наносит больше вреда организму ребёнка, чем пользы, а жевание её неэтично по отношению к окружающи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2"/>
          <a:stretch/>
        </p:blipFill>
        <p:spPr>
          <a:xfrm>
            <a:off x="4857840" y="3929040"/>
            <a:ext cx="3016080" cy="2714760"/>
          </a:xfrm>
          <a:prstGeom prst="rect">
            <a:avLst/>
          </a:prstGeom>
          <a:ln w="0">
            <a:noFill/>
          </a:ln>
        </p:spPr>
      </p:pic>
      <p:sp>
        <p:nvSpPr>
          <p:cNvPr id="272" name="Номер слайда 5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10A2-8289-47F4-8DF9-FC1F1464A330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7767720" cy="1176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000320" y="1571400"/>
            <a:ext cx="42145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уй  жевательную резинку только после еды в течение 5-10 минут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 жуй на голодный желудок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тдавай предпочтение жевательным резинкам с сахарозаменителям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 используй жевательную резинку с красителям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Не заглатыв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й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жевательную резинк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мните! Никакая жевательная резинка не сможет заменить полноценную чистку зубов зубной пастой и полоскание полости рта после еды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571680" y="1428840"/>
            <a:ext cx="3446280" cy="5000400"/>
          </a:xfrm>
          <a:prstGeom prst="rect">
            <a:avLst/>
          </a:prstGeom>
          <a:ln w="0">
            <a:noFill/>
          </a:ln>
        </p:spPr>
      </p:pic>
      <p:sp>
        <p:nvSpPr>
          <p:cNvPr id="276" name="Номер слайда 4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E25A-BA81-4E00-9CE0-2B409167F8C3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182520" y="208080"/>
            <a:ext cx="3822840" cy="871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356760" y="1356840"/>
            <a:ext cx="37861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ольшая детская энциклопедия «Всё обо всём», изд. Москва АСТ, 2000 г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«Почемучка», А. Дитрих, Г. Юрмин М.: ООО «Издательство Астрель», 2002 г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Я познаю мир: Детская энциклопедия: История вещей. Составители Н. Ю. Буянова и др. - М.: ООО «Издательство АСТ – ЛТД», 1998 – 480 с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4143240" y="714240"/>
            <a:ext cx="1928880" cy="2347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6215040" y="2214720"/>
            <a:ext cx="1905120" cy="2495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4"/>
          <a:stretch/>
        </p:blipFill>
        <p:spPr>
          <a:xfrm>
            <a:off x="4071960" y="3448080"/>
            <a:ext cx="1954080" cy="3124080"/>
          </a:xfrm>
          <a:prstGeom prst="rect">
            <a:avLst/>
          </a:prstGeom>
          <a:ln w="0">
            <a:noFill/>
          </a:ln>
        </p:spPr>
      </p:pic>
      <p:sp>
        <p:nvSpPr>
          <p:cNvPr id="282" name="Номер слайда 6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7863-A3D6-432B-B431-0CBA38980CB0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82520" y="208080"/>
            <a:ext cx="5469120" cy="9381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356760" y="1642680"/>
            <a:ext cx="69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тернет-ресурс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http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:/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www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genon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тернет-ресурс: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http://ast752.ru/poleznii-sovet.php?id=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3E0C-E68D-4708-B13A-1DE825A783ED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420840" y="0"/>
            <a:ext cx="6699240" cy="8478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14240" y="928800"/>
            <a:ext cx="6858000" cy="11001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 fontScale="9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зучение влияния жевательной резинки на организм младшего школьник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Содержимое 3" descr="C:\Users\SONY\AppData\Local\Microsoft\Windows\Temporary Internet Files\Content.Word\DSC03899.jpg"/>
          <p:cNvPicPr/>
          <p:nvPr/>
        </p:nvPicPr>
        <p:blipFill>
          <a:blip r:embed="rId2"/>
          <a:stretch/>
        </p:blipFill>
        <p:spPr>
          <a:xfrm>
            <a:off x="1116000" y="1817640"/>
            <a:ext cx="6735600" cy="4780080"/>
          </a:xfrm>
          <a:prstGeom prst="rect">
            <a:avLst/>
          </a:prstGeom>
          <a:ln w="0">
            <a:noFill/>
          </a:ln>
        </p:spPr>
      </p:pic>
      <p:sp>
        <p:nvSpPr>
          <p:cNvPr id="226" name="Номер слайда 4"/>
          <p:cNvSpPr/>
          <p:nvPr/>
        </p:nvSpPr>
        <p:spPr>
          <a:xfrm>
            <a:off x="835812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8F61-28E2-4841-AAEC-D9A6BEFAC7BB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-12600" y="55440"/>
            <a:ext cx="7547040" cy="846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213840" y="1143000"/>
            <a:ext cx="44290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Узнать, что такое жевательная резинка, и когда она появилась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Изучить состав жевательной резинки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ыявить пользу и вред жевательной резинк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Содержимое 2"/>
          <p:cNvSpPr/>
          <p:nvPr/>
        </p:nvSpPr>
        <p:spPr>
          <a:xfrm>
            <a:off x="4143240" y="3714840"/>
            <a:ext cx="428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ыяснить, как относятся к жевательной резинке ученики младших классов нашей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Разработать правила пользования жевательной резинкой в обществ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Оформить букл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6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E8C5-927B-4FA1-8EB9-76383B628194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2" descr="D:\фото 2\DSC02374.JPG"/>
          <p:cNvPicPr/>
          <p:nvPr/>
        </p:nvPicPr>
        <p:blipFill>
          <a:blip r:embed="rId2"/>
          <a:stretch/>
        </p:blipFill>
        <p:spPr>
          <a:xfrm>
            <a:off x="785880" y="3929040"/>
            <a:ext cx="3000240" cy="2440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4" descr="D:\фото 2\DSC02365.JPG"/>
          <p:cNvPicPr/>
          <p:nvPr/>
        </p:nvPicPr>
        <p:blipFill>
          <a:blip r:embed="rId3"/>
          <a:stretch/>
        </p:blipFill>
        <p:spPr>
          <a:xfrm>
            <a:off x="4214880" y="857160"/>
            <a:ext cx="352116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566120" cy="920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6840" y="1213920"/>
            <a:ext cx="7472520" cy="8859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 fontScale="97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Жевательная резинка имеет свою историю и уходит своими корнями вглубь веков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2"/>
          <a:stretch/>
        </p:blipFill>
        <p:spPr>
          <a:xfrm>
            <a:off x="4357800" y="2643120"/>
            <a:ext cx="3616200" cy="2857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3"/>
          <a:stretch/>
        </p:blipFill>
        <p:spPr>
          <a:xfrm>
            <a:off x="357120" y="2214720"/>
            <a:ext cx="3859200" cy="4071960"/>
          </a:xfrm>
          <a:prstGeom prst="rect">
            <a:avLst/>
          </a:prstGeom>
          <a:ln w="0">
            <a:noFill/>
          </a:ln>
        </p:spPr>
      </p:pic>
      <p:sp>
        <p:nvSpPr>
          <p:cNvPr id="237" name="Номер слайда 5"/>
          <p:cNvSpPr/>
          <p:nvPr/>
        </p:nvSpPr>
        <p:spPr>
          <a:xfrm>
            <a:off x="828684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979C-AC39-42D3-A0F7-064CF0AC4E9C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55600" y="55440"/>
            <a:ext cx="7931160" cy="1597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760" y="5071680"/>
            <a:ext cx="7572240" cy="16002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5 человек не употребляют, 11 человека – 1 штуку в день, 3 человека  жуют 2-3штуки в день, а 1 человека – 10 штук.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Содержимое 5" descr=""/>
          <p:cNvPicPr/>
          <p:nvPr/>
        </p:nvPicPr>
        <p:blipFill>
          <a:blip r:embed="rId2"/>
          <a:stretch/>
        </p:blipFill>
        <p:spPr>
          <a:xfrm>
            <a:off x="1352520" y="1779480"/>
            <a:ext cx="5797440" cy="3157560"/>
          </a:xfrm>
          <a:prstGeom prst="rect">
            <a:avLst/>
          </a:prstGeom>
          <a:ln w="0">
            <a:noFill/>
          </a:ln>
        </p:spPr>
      </p:pic>
      <p:sp>
        <p:nvSpPr>
          <p:cNvPr id="241" name="Номер слайда 4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3CAE-FE4D-46C5-890E-C9FD9C300C24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55600" y="36360"/>
            <a:ext cx="7791480" cy="11098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28760" y="5000400"/>
            <a:ext cx="7572240" cy="16002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3 ребятам  нравится жевательная резинка, потому что она сладкая и вкусная, а 6 человек не знают почему она им нравиться, только одному ребенку она нравится, потому что ее можно надуть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Содержимое 5" descr=""/>
          <p:cNvPicPr/>
          <p:nvPr/>
        </p:nvPicPr>
        <p:blipFill>
          <a:blip r:embed="rId2"/>
          <a:stretch/>
        </p:blipFill>
        <p:spPr>
          <a:xfrm>
            <a:off x="633240" y="1494000"/>
            <a:ext cx="6231240" cy="3369960"/>
          </a:xfrm>
          <a:prstGeom prst="rect">
            <a:avLst/>
          </a:prstGeom>
          <a:ln w="0">
            <a:noFill/>
          </a:ln>
        </p:spPr>
      </p:pic>
      <p:sp>
        <p:nvSpPr>
          <p:cNvPr id="245" name="Номер слайда 4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9848-C185-4B6B-B1D8-C9DFAF464506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55600" y="36360"/>
            <a:ext cx="7754760" cy="1109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28760" y="5214600"/>
            <a:ext cx="7572240" cy="121428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0-ти ребятам нравится «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rbit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», 1 человеку - «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rol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», 5-ти ребятам – разные жевательные резинки, в том числе и «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ubba Bubba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», а 3 человеа – не жуют жевательные резин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Содержимое 6" descr=""/>
          <p:cNvPicPr/>
          <p:nvPr/>
        </p:nvPicPr>
        <p:blipFill>
          <a:blip r:embed="rId2"/>
          <a:stretch/>
        </p:blipFill>
        <p:spPr>
          <a:xfrm>
            <a:off x="420840" y="1279440"/>
            <a:ext cx="7254720" cy="3872160"/>
          </a:xfrm>
          <a:prstGeom prst="rect">
            <a:avLst/>
          </a:prstGeom>
          <a:ln w="0">
            <a:noFill/>
          </a:ln>
        </p:spPr>
      </p:pic>
      <p:sp>
        <p:nvSpPr>
          <p:cNvPr id="249" name="Номер слайда 4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E12A-92C3-4828-8A82-BF864C79D4B3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-133200" y="-49320"/>
            <a:ext cx="8643960" cy="16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214200" y="1214280"/>
          <a:ext cx="4214880" cy="5322960"/>
        </p:xfrm>
        <a:graphic>
          <a:graphicData uri="http://schemas.openxmlformats.org/drawingml/2006/table">
            <a:tbl>
              <a:tblPr/>
              <a:tblGrid>
                <a:gridCol w="1656000"/>
                <a:gridCol w="752400"/>
                <a:gridCol w="903240"/>
                <a:gridCol w="903240"/>
              </a:tblGrid>
              <a:tr h="67500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ста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Or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Di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ubba Bub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73152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иновая ос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8924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сласт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8888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ицер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9032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густ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8924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9032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щеп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8888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оматиз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8924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зу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90320"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хар (глюкоз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72360" rIns="72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52" name=""/>
          <p:cNvSpPr txBox="1"/>
          <p:nvPr/>
        </p:nvSpPr>
        <p:spPr>
          <a:xfrm>
            <a:off x="4572000" y="1285920"/>
            <a:ext cx="36432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лавной составляющей жевательной резинки является резиновая осно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 составе детской жевательной резинки «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ubba Bubba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» содержится сахар, а при контакте с зубами,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к известно, он вызывает кариес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Рисунок 7" descr="C:\Users\SONY\AppData\Local\Microsoft\Windows\Temporary Internet Files\Content.Word\DSC03888.jpg"/>
          <p:cNvPicPr/>
          <p:nvPr/>
        </p:nvPicPr>
        <p:blipFill>
          <a:blip r:embed="rId2"/>
          <a:stretch/>
        </p:blipFill>
        <p:spPr>
          <a:xfrm>
            <a:off x="4929120" y="4214880"/>
            <a:ext cx="3113280" cy="2411280"/>
          </a:xfrm>
          <a:prstGeom prst="rect">
            <a:avLst/>
          </a:prstGeom>
          <a:ln w="0">
            <a:noFill/>
          </a:ln>
        </p:spPr>
      </p:pic>
      <p:sp>
        <p:nvSpPr>
          <p:cNvPr id="254" name="Номер слайда 5"/>
          <p:cNvSpPr/>
          <p:nvPr/>
        </p:nvSpPr>
        <p:spPr>
          <a:xfrm>
            <a:off x="8358120" y="642924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2142-14EF-4C57-BAFA-ACA8BFD0031B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7699680" cy="11098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13840" y="521460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8 человек считают, что жевательная резинка освежает дыхание, 2 человека, что отбеливает зубы, 2 человека не знают о пользе и вреде жевательной резинки, 2 человек не видят в жевании резинки пользы, поэтому её не используют, а 6 человек считают что из-за нее болит желудок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Содержимое 6" descr=""/>
          <p:cNvPicPr/>
          <p:nvPr/>
        </p:nvPicPr>
        <p:blipFill>
          <a:blip r:embed="rId2"/>
          <a:stretch/>
        </p:blipFill>
        <p:spPr>
          <a:xfrm>
            <a:off x="1206360" y="1133640"/>
            <a:ext cx="6297840" cy="3809880"/>
          </a:xfrm>
          <a:prstGeom prst="rect">
            <a:avLst/>
          </a:prstGeom>
          <a:ln w="0">
            <a:noFill/>
          </a:ln>
        </p:spPr>
      </p:pic>
      <p:sp>
        <p:nvSpPr>
          <p:cNvPr id="258" name="Номер слайда 4"/>
          <p:cNvSpPr/>
          <p:nvPr/>
        </p:nvSpPr>
        <p:spPr>
          <a:xfrm>
            <a:off x="835812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AE2B-E46B-4258-92A0-C8B6FB56F985}" type="slidenum">
              <a:rPr b="0" lang="en-US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08:38:52Z</dcterms:created>
  <dc:creator>Admin</dc:creator>
  <dc:description/>
  <dc:language>en-US</dc:language>
  <cp:lastModifiedBy>user</cp:lastModifiedBy>
  <dcterms:modified xsi:type="dcterms:W3CDTF">2015-01-11T17:17:01Z</dcterms:modified>
  <cp:revision>239</cp:revision>
  <dc:subject/>
  <dc:title>Влияние жевательной резинки на организм школьника</dc:title>
</cp:coreProperties>
</file>