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379-E690-4AB8-9421-048BD519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4E2-C398-40AF-8A70-4E63E59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05F-BAEB-4ADD-A3A5-A2B07447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153-0034-401B-9686-0306A387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86A-190B-43D8-A42F-C9A5E13F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E0A-1A0C-45BF-91E9-6E431F89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4D4-DA99-4799-BCBD-F6403D2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E7E-9875-45E2-8B87-847DEF75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C0C2-4631-46D8-B51F-BA99CD3D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E6F-795E-4ABC-B283-FD3DE98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A66B-333A-456D-A8F6-21B099D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519-6D53-45F5-AF2B-C3907E65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47B-3407-4DF3-BCFE-FD2A21D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B549-3195-44E9-9F75-AEDE763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9DA6-DC8B-4D69-A01C-2E9AAABE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988-1777-41EF-B1E7-645D2F02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B6E3-47B0-483C-B76D-9FF79EC5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65317-3176-467A-B5D2-B6408C7E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86439-C217-48D0-87EA-ADAE7F7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6252E-479F-488A-B760-83B96E48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12DD3-E160-4E99-A568-85FC1D30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3CA40-E2AB-412C-BD8A-57EB32E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92A-9A31-46A3-BD39-360CD8D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34058-326C-4FB1-A76F-622E13D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7DAE2-6F46-49A4-B427-649B90A1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E88F3-CE66-489F-AAAC-852C34B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3F0A0-EF1E-4DD9-948F-5E14DDD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01541-65E1-4CEC-A694-4E31A08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F952C-B3F8-4822-ABB6-B9651F7C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93B77-5F6C-43E9-B59F-7D0E8F27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AA0DA-9B22-464B-B076-5D306185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E42B4-E286-4F06-9582-D5A9086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45947-6C60-4CD2-B486-7A7EA53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2B-11A3-4DCD-A30B-92989E79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A5AA7-1723-488D-BE09-24DA401F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5681A-1EC5-4EBB-8EBF-B604F6D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DA720-1632-479E-BD7C-1D1E54B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F767F5-3C81-48B2-B8F3-67396FB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277D0-48D2-4E3F-AA66-BED508F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BA582-D95B-4D4B-AA79-F543FC5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0D20E-6B65-44B8-9473-67313DA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ADD42-E555-4E66-9DF0-7C0AD22E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61589-B46D-448B-A45B-DD0B8F16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49B61-9070-4249-83C4-C10E55D6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84F-B3A0-4C48-AD18-AACB5242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8D4E0-CE62-40D1-8E84-379B1EC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438E0-88F8-4AC7-84F4-0587D82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0E32F-C174-4B1D-A016-47B5AED6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7E415-1C48-4941-8779-E94268E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251B3-5494-450B-8131-EAA9003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3A4F8-96CC-4D63-B952-B80550FE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2D6A9-DAB8-4125-9DFE-7356B16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03624-FE5C-4B34-BE97-7A05917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0F22D-8E8A-44C0-B69E-6FFADF4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45EBA-5E84-4161-9C6E-ACEEEEB8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2B8-0E43-407E-89DD-F3198399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3BAC7-BADF-4A45-82E9-7E1824A4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E089-8CE5-4C0E-92D2-4BCF6C2E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E414-0C47-4EC9-9880-96C25653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0151-52F1-4D11-84FB-FBD494D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7230-B8A3-41CA-90C5-02AC56B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4BEA-D13F-421C-B031-E217FC2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4250-F01A-4690-AB86-E3A2A13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8D59-0EB1-4FC0-A482-7FE5142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9AD5-16CC-4239-A652-FFCB2C1F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A9612-91CE-4567-9237-B22774A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609-E4BE-45ED-BF90-78DB443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0FFC5-1E78-4DF7-A3C7-AB44F07D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4F920-7C19-48C4-B296-AAEF7986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33FC-BDDB-44F7-A8A7-7CF1E4F9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602E2-6410-4543-8DE0-A961104A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009DF-3B95-4D15-822B-FEBF856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AEAED-9235-4CAB-ABDB-6835ACE1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D6878-18F5-430D-8690-9ACA29F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AB953-7EA8-4E63-8CF6-53EEC38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7D19B-8835-4649-ACF3-327132B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BEDE7-079F-4D55-A238-7C1F9BA3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640-03DE-4FC8-9C61-31076912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28DA7-0859-431A-B4F8-7A12A63D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3E299-BAA4-4D1A-B87E-8A73064C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5B753-797B-48CA-B7F7-0B138A4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E9E5D-A876-461F-A212-E27AD5E2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BF7FA-9A79-496C-A453-5FD6292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30D23-A79D-487F-99AA-7A57CFA8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DB83-D00F-452D-A719-158794D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D0052-BC1B-4974-83A5-FC00BDA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7069-6114-4E83-B93B-D99ECF5B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6C04-3E72-4AB4-A4BF-8652F0DB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771-97D1-4CA8-B4DB-E3EE699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0623-B524-4A25-B05A-343ED97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1209-3CA4-46F2-9E27-B9FA0A7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57C5-C744-4517-B9E0-5236382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25D0-4B87-4F6E-B5C8-0C98A2E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DE90-60C5-4695-AE4D-45515E8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455DF-367B-42EF-90FD-968A8B18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F84E4-51D8-4B35-9DE3-C8D0F14A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515A-82FE-4117-B47D-C226F01E00D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928C-C977-422C-8738-620CA2CC8816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446-BFE4-4828-BD59-3CEAAA52195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FB62-1D8B-41A7-8830-3C0422EC1DC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3FC0-FF17-4198-9FE0-C2A7B72E41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C53A-4F01-4EEE-9266-794F816C2A39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278-4D40-47FF-9D23-54F68FCADA9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4B2F-788F-4AC5-9A64-A9AF61A3B15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bddc3"/>
                </a:solidFill>
                <a:latin typeface="Calibri"/>
              </a:rPr>
              <a:t>ИМЕЮ ПРАВО НА ПРАВА 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жить с родителям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9" name="Picture 4" descr="Картинка 9 из 64000"/>
          <p:cNvPicPr/>
          <p:nvPr/>
        </p:nvPicPr>
        <p:blipFill>
          <a:blip r:embed="rId1"/>
          <a:stretch/>
        </p:blipFill>
        <p:spPr>
          <a:xfrm>
            <a:off x="1476360" y="1844640"/>
            <a:ext cx="648036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на медицинскую помощ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1" name="Picture 2" descr="C:\Users\User\Desktop\права ребёнка\6f53ee11f9e8e32edb5d275bd337bcc21bde43b0.preview[1].jpg"/>
          <p:cNvPicPr/>
          <p:nvPr/>
        </p:nvPicPr>
        <p:blipFill>
          <a:blip r:embed="rId1"/>
          <a:stretch/>
        </p:blipFill>
        <p:spPr>
          <a:xfrm>
            <a:off x="1523880" y="1700280"/>
            <a:ext cx="6096240" cy="4824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ети имеют право на обуч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3" name="Picture 2" descr="C:\Users\User\Desktop\права ребёнка\4BEB436E36539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321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Users\User\Desktop\права ребёнка\p11_9[1].jpg"/>
          <p:cNvPicPr/>
          <p:nvPr/>
        </p:nvPicPr>
        <p:blipFill>
          <a:blip r:embed="rId1"/>
          <a:stretch/>
        </p:blipFill>
        <p:spPr>
          <a:xfrm>
            <a:off x="68436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 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на охрану и защиту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2" descr="C:\Users\User\Desktop\права ребёнка\pravo_10[1].jpg"/>
          <p:cNvPicPr/>
          <p:nvPr/>
        </p:nvPicPr>
        <p:blipFill>
          <a:blip r:embed="rId1"/>
          <a:stretch/>
        </p:blipFill>
        <p:spPr>
          <a:xfrm>
            <a:off x="826920" y="1773360"/>
            <a:ext cx="7561440" cy="4751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ава дете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8" name="Picture 2" descr="C:\Users\User\Desktop\права ребёнка\rebenok-0109[1].jpg"/>
          <p:cNvPicPr/>
          <p:nvPr/>
        </p:nvPicPr>
        <p:blipFill>
          <a:blip r:embed="rId1"/>
          <a:stretch/>
        </p:blipFill>
        <p:spPr>
          <a:xfrm>
            <a:off x="2556000" y="1617840"/>
            <a:ext cx="3744720" cy="5051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Users\User\Desktop\права ребёнка\konstitutciya[1].jpg"/>
          <p:cNvPicPr/>
          <p:nvPr/>
        </p:nvPicPr>
        <p:blipFill>
          <a:blip r:embed="rId1"/>
          <a:stretch/>
        </p:blipFill>
        <p:spPr>
          <a:xfrm>
            <a:off x="2411280" y="765000"/>
            <a:ext cx="4105440" cy="547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БЯЗАННОСТ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блюдать зако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хранять природ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щищать Отечест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ботиться о родител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ать обра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5f55"/>
                </a:solidFill>
                <a:latin typeface="Calibri"/>
              </a:rPr>
              <a:t>« Про  Петю»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3" name="Picture 2" descr="Картинка 291 из 3226"/>
          <p:cNvPicPr/>
          <p:nvPr/>
        </p:nvPicPr>
        <p:blipFill>
          <a:blip r:embed="rId1"/>
          <a:stretch/>
        </p:blipFill>
        <p:spPr>
          <a:xfrm>
            <a:off x="971640" y="1700280"/>
            <a:ext cx="7200720" cy="4753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User\Desktop\права ребёнка\p11_1[1].jpg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640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alibri"/>
              </a:rPr>
              <a:t>Имею право на права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Picture 2" descr="C:\Users\User\Desktop\права ребёнка\deti3[1].gif"/>
          <p:cNvPicPr/>
          <p:nvPr/>
        </p:nvPicPr>
        <p:blipFill>
          <a:blip r:embed="rId1"/>
          <a:stretch/>
        </p:blipFill>
        <p:spPr>
          <a:xfrm>
            <a:off x="2308320" y="2000160"/>
            <a:ext cx="4762440" cy="3695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ланета    Зем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Picture 4" descr="Картинка 28 из 64000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4535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еографическая кар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7" name="Picture 2" descr="Картинка 2 из 463"/>
          <p:cNvPicPr/>
          <p:nvPr/>
        </p:nvPicPr>
        <p:blipFill>
          <a:blip r:embed="rId1"/>
          <a:stretch/>
        </p:blipFill>
        <p:spPr>
          <a:xfrm>
            <a:off x="179280" y="1773360"/>
            <a:ext cx="5472360" cy="324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User\Desktop\права ребёнка\post-229530-1275558050[1].jpg"/>
          <p:cNvPicPr/>
          <p:nvPr/>
        </p:nvPicPr>
        <p:blipFill>
          <a:blip r:embed="rId2"/>
          <a:stretch/>
        </p:blipFill>
        <p:spPr>
          <a:xfrm>
            <a:off x="5398920" y="3762360"/>
            <a:ext cx="3745080" cy="3095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alibri"/>
              </a:rPr>
              <a:t>Р О С С И Я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СИЯ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4" descr="http://i81.beon.ru/45/86/498645/14/13911014/57897.jpeg"/>
          <p:cNvPicPr/>
          <p:nvPr/>
        </p:nvPicPr>
        <p:blipFill>
          <a:blip r:embed="rId1"/>
          <a:stretch/>
        </p:blipFill>
        <p:spPr>
          <a:xfrm>
            <a:off x="2916360" y="1989000"/>
            <a:ext cx="604836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оссия –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многонациональное государ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Картинка 73 из 1771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User\Desktop\права ребёнка\1010974[1].jpg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61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C:\Users\User\Desktop\права ребёнка\289509[1].jpg"/>
          <p:cNvPicPr/>
          <p:nvPr/>
        </p:nvPicPr>
        <p:blipFill>
          <a:blip r:embed="rId1"/>
          <a:stretch/>
        </p:blipFill>
        <p:spPr>
          <a:xfrm>
            <a:off x="2484360" y="404640"/>
            <a:ext cx="4680000" cy="612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User\Desktop\права ребёнка\clip_image007[1].jpg"/>
          <p:cNvPicPr/>
          <p:nvPr/>
        </p:nvPicPr>
        <p:blipFill>
          <a:blip r:embed="rId1"/>
          <a:stretch/>
        </p:blipFill>
        <p:spPr>
          <a:xfrm>
            <a:off x="1835280" y="1844640"/>
            <a:ext cx="4859280" cy="48164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Каждый ребёнок имеет право на имя и граждан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2:36:52Z</dcterms:created>
  <dc:creator>User</dc:creator>
  <dc:description/>
  <dc:language>en-US</dc:language>
  <cp:lastModifiedBy>User</cp:lastModifiedBy>
  <dcterms:modified xsi:type="dcterms:W3CDTF">2019-03-26T16:43:48Z</dcterms:modified>
  <cp:revision>23</cp:revision>
  <dc:subject/>
  <dc:title>Имею право на права</dc:title>
</cp:coreProperties>
</file>