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3571-4756-49BD-9908-AC73250C6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AEC3-2842-4563-84FF-F4E98AF2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19DE-63DF-4FED-BEC3-8DB04D57C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34E9-DAE9-4CE5-8814-F3DEFD8FF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97AE-12C1-44F7-B9A0-28BC14674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3FE4-93C0-4D23-9CB4-4F649F14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A532-6148-4354-8FA5-412F101B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E3CB-B575-4E65-BDD6-E9D96391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2209-F759-4D2F-A738-7603237B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BA4C-75F4-463B-B812-F28470A1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740F-2E1E-42F9-8464-D8BC710C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9513-6609-49D1-8058-247CD443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2A11-D558-47B9-A275-488D3CB1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13AC-B18B-4156-9A86-22A31BEA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F5D1-9C6B-465C-9537-02E3BAC1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C1E1-3751-4E08-AD24-99F8DE030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C614-906F-4D97-B34B-4EF9DEC47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D25BBF-E9C3-4E03-A864-6FF3A034A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BDB8A9-EC66-4BE4-A9C5-BD3A1E37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CAC911-229C-4CC1-8847-9DAF3E91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B3AE63-00F2-4213-95D7-E81A49E7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C0FE3F-4CF4-42AC-BCB9-14955C60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E06D-D9B7-461F-921E-F2798E0C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1FA4CB-4A96-4009-908A-FC9E19C8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82DED4-43CD-49D5-A2D9-4DFD1B3E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7D0082-6F77-453B-BFE2-8CE7DAFA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CBCDA0-408F-4105-80C1-A6ECFD7E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53E410-D2BD-4120-A887-F86CBC21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632728-1A38-418E-8A95-1E3FE3FA7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72FE30-3E0E-4EAC-8D14-9249703C9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DD29ED-3539-417C-B401-C3F5CF08C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90AB2D-B095-4B2F-B3F3-98B4AD4A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0DFA1E-3E53-480B-893C-D7DC6D28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0EAC-FD6C-44A8-B481-175EB3E8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18AC84-7108-4DED-810E-9522DFC1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DF36D2-0053-4F02-A252-8A4F19FE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5EC88D-D138-4DF1-925C-0C7C1DBE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C340CB-8998-4B0B-8D85-D3E812B2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AA675A-253A-4C05-89D6-E7B3E7D1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2BB05C-F599-4B91-8B9F-991FFF0F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DE5968-11E3-4383-B1F2-F2769387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B52B82-AE39-468F-AE24-F2FEB2F6C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6B248F-3ED4-419C-A77E-E4CCC2873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CD9A40-240D-47F8-B7DA-57E761F41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68A4-C501-4F1D-B5B9-5CA9B3C4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74FCAD-EB8C-4DA0-B6FD-671AF01C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3D27E7-264B-4550-B038-D946468E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B3A43E-D8B0-43FE-83C6-308C3121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02183D-1F6D-4434-911B-B1470BE2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1B5868-1DA5-401A-94CC-15019F08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259D7F-134C-413D-8166-B7D66D78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FA8EB1-3FA1-4B49-913E-89CF4B2F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C2CB46-F72A-4129-8D0B-5CE48E48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1A89DC-BBD8-4D7E-A612-28A791FF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51E11B-39A6-43A5-B9A5-993589319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BD8A-D63E-4A34-858F-BF3BA5A6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140AC6-E86D-4ED5-9E54-B8CBE5C4D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21444-2E7A-4883-9FC3-B5837EF08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9E346-7EAD-4C9C-904A-3268CF27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CFFDF-C43B-4347-9A06-CD2C2A2D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3C458-27B2-4023-963F-88B0ACF0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59C9A-E659-4A1F-A221-5E29CB0C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DEC6C-CFDD-421F-BFE3-2E97E22D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F92D5-6B88-490C-97E0-900A360E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14180-2A9B-4ED7-91E8-F90FB226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54888-0A0D-4CD7-BA7F-7EAF8D67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C60C-8A10-4815-9A8B-39B45FDF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F7884-7FF6-47A5-B7ED-318F1DC7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58FE9-917E-4808-8078-6B40A8EB7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1C8DF-5B48-43F5-A8D7-DD97834EF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B145CC-8C11-4354-97B5-8615CAEB8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546DA4-4C17-4E22-8D58-93CD49D0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4D86F6-0150-48BD-BA1A-7C341901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82FFD0-336A-4ED3-BD02-F52DB895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83627C-6DD9-422E-9250-6E4C2BE3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2E32E4-33C4-40D0-9ABB-89B4FCB7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828EA1-A197-4A58-A23F-501AADAE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8834-3828-46BF-BF49-7C6B5C2C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B53C2B-3BEA-4539-A795-008CC660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E84E7E-4F07-4872-9482-7CDDF8AD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39A86D-98DB-42A9-A978-690ADA2D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A5FC1D-3053-46B5-80AD-4090DE02D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F1F97E-A999-4EC4-BDC6-CDA974766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2BBAB-1E27-40D6-AAB8-E72277C32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CBD01-F796-47EF-83F8-077F4E5D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7FC57-2776-4681-9453-61435221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23D46-7E34-4894-9FD7-A6D76231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325D8-3643-471F-A2F0-EEAF4AE9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C07D-4935-44A1-ABA0-9B41BE71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430B7-1454-4A10-978F-028E62CC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24686-4176-4A91-941D-90E8A5C2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A1A98-0041-4A7E-8FA7-910FAD57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28E47-C5E7-4C8C-853F-29FE783F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CDC83-1DAF-4E22-858D-06883247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AB3ED-ADD4-4BCF-8D6D-C2BAFE0E5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52228-85B9-4108-8166-74581C520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1555-BF07-448A-9839-CB85DFAF4F8C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721F-4368-4EA1-A753-8AE07F5371C2}" type="slidenum">
              <a:rPr b="1" lang="ru-RU" sz="1400" spc="-1" strike="noStrike">
                <a:solidFill>
                  <a:srgbClr val="ebddc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8234-B082-41A1-9F0A-4F2F81C4F50D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FD2B-98EC-422B-BD09-C96B93210CA1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7AA1-7815-4BA0-A5C6-510DA09E3CD6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85EC-8B3D-4CF0-892D-33FDAC6BAD93}" type="slidenum">
              <a:rPr b="1" lang="ru-RU" sz="1400" spc="-1" strike="noStrike">
                <a:solidFill>
                  <a:srgbClr val="775f55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A9AC-234B-4755-B96B-3924DF15B6EE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85BE-07D1-4C0D-A3BD-AC46C5030E9B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bddc3"/>
                </a:solidFill>
                <a:latin typeface="Calibri"/>
              </a:rPr>
              <a:t>ИМЕЮ ПРАВО НА ПРАВА </a:t>
            </a:r>
            <a:endParaRPr b="0" lang="en-US" sz="5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Классный час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Дети имеют право</a:t>
            </a:r>
            <a:br>
              <a:rPr sz="4000"/>
            </a:b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 жить с родителями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69" name="Picture 4" descr="Картинка 9 из 64000"/>
          <p:cNvPicPr/>
          <p:nvPr/>
        </p:nvPicPr>
        <p:blipFill>
          <a:blip r:embed="rId1"/>
          <a:stretch/>
        </p:blipFill>
        <p:spPr>
          <a:xfrm>
            <a:off x="1476360" y="1844640"/>
            <a:ext cx="6480360" cy="39607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Дети имеют право</a:t>
            </a:r>
            <a:br>
              <a:rPr sz="4000"/>
            </a:b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 на медицинскую помощь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71" name="Picture 2" descr="C:\Users\User\Desktop\права ребёнка\6f53ee11f9e8e32edb5d275bd337bcc21bde43b0.preview[1].jpg"/>
          <p:cNvPicPr/>
          <p:nvPr/>
        </p:nvPicPr>
        <p:blipFill>
          <a:blip r:embed="rId1"/>
          <a:stretch/>
        </p:blipFill>
        <p:spPr>
          <a:xfrm>
            <a:off x="1523880" y="1700280"/>
            <a:ext cx="6096240" cy="48243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Дети имеют право на обучение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73" name="Picture 2" descr="C:\Users\User\Desktop\права ребёнка\4BEB436E36539[1].jpg"/>
          <p:cNvPicPr/>
          <p:nvPr/>
        </p:nvPicPr>
        <p:blipFill>
          <a:blip r:embed="rId1"/>
          <a:stretch/>
        </p:blipFill>
        <p:spPr>
          <a:xfrm>
            <a:off x="1476360" y="1628640"/>
            <a:ext cx="6335640" cy="43214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C:\Users\User\Desktop\права ребёнка\p11_9[1].jpg"/>
          <p:cNvPicPr/>
          <p:nvPr/>
        </p:nvPicPr>
        <p:blipFill>
          <a:blip r:embed="rId1"/>
          <a:stretch/>
        </p:blipFill>
        <p:spPr>
          <a:xfrm>
            <a:off x="684360" y="692280"/>
            <a:ext cx="7704000" cy="56163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Дети имеют право </a:t>
            </a:r>
            <a:br>
              <a:rPr sz="4000"/>
            </a:b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 на охрану и защиту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76" name="Picture 2" descr="C:\Users\User\Desktop\права ребёнка\pravo_10[1].jpg"/>
          <p:cNvPicPr/>
          <p:nvPr/>
        </p:nvPicPr>
        <p:blipFill>
          <a:blip r:embed="rId1"/>
          <a:stretch/>
        </p:blipFill>
        <p:spPr>
          <a:xfrm>
            <a:off x="826920" y="1773360"/>
            <a:ext cx="7561440" cy="4751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Права детей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78" name="Picture 2" descr="C:\Users\User\Desktop\права ребёнка\rebenok-0109[1].jpg"/>
          <p:cNvPicPr/>
          <p:nvPr/>
        </p:nvPicPr>
        <p:blipFill>
          <a:blip r:embed="rId1"/>
          <a:stretch/>
        </p:blipFill>
        <p:spPr>
          <a:xfrm>
            <a:off x="2556000" y="1617840"/>
            <a:ext cx="3744720" cy="50511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C:\Users\User\Desktop\права ребёнка\konstitutciya[1].jpg"/>
          <p:cNvPicPr/>
          <p:nvPr/>
        </p:nvPicPr>
        <p:blipFill>
          <a:blip r:embed="rId1"/>
          <a:stretch/>
        </p:blipFill>
        <p:spPr>
          <a:xfrm>
            <a:off x="2411280" y="765000"/>
            <a:ext cx="4105440" cy="5472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ОБЯЗАННОСТИ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облюдать закон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Охранять природ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Защищать Отечеств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Заботиться о родителя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олучать образов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75f55"/>
                </a:solidFill>
                <a:latin typeface="Calibri"/>
              </a:rPr>
              <a:t>« Про  Петю»</a:t>
            </a:r>
            <a:endParaRPr b="0" lang="en-US" sz="5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83" name="Picture 2" descr="Картинка 291 из 3226"/>
          <p:cNvPicPr/>
          <p:nvPr/>
        </p:nvPicPr>
        <p:blipFill>
          <a:blip r:embed="rId1"/>
          <a:stretch/>
        </p:blipFill>
        <p:spPr>
          <a:xfrm>
            <a:off x="971640" y="1700280"/>
            <a:ext cx="7200720" cy="47530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C:\Users\User\Desktop\права ребёнка\p11_1[1].jpg"/>
          <p:cNvPicPr/>
          <p:nvPr/>
        </p:nvPicPr>
        <p:blipFill>
          <a:blip r:embed="rId1"/>
          <a:stretch/>
        </p:blipFill>
        <p:spPr>
          <a:xfrm>
            <a:off x="755640" y="260280"/>
            <a:ext cx="7704000" cy="64087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75f55"/>
                </a:solidFill>
                <a:latin typeface="Calibri"/>
              </a:rPr>
              <a:t>Имею право на права</a:t>
            </a:r>
            <a:endParaRPr b="0" lang="en-US" sz="5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53" name="Picture 2" descr="C:\Users\User\Desktop\права ребёнка\deti3[1].gif"/>
          <p:cNvPicPr/>
          <p:nvPr/>
        </p:nvPicPr>
        <p:blipFill>
          <a:blip r:embed="rId1"/>
          <a:stretch/>
        </p:blipFill>
        <p:spPr>
          <a:xfrm>
            <a:off x="2308320" y="2000160"/>
            <a:ext cx="4762440" cy="3695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Планета    Земля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55" name="Picture 4" descr="Картинка 28 из 64000"/>
          <p:cNvPicPr/>
          <p:nvPr/>
        </p:nvPicPr>
        <p:blipFill>
          <a:blip r:embed="rId1"/>
          <a:stretch/>
        </p:blipFill>
        <p:spPr>
          <a:xfrm>
            <a:off x="1979640" y="1773360"/>
            <a:ext cx="5113440" cy="4535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Географическая карт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57" name="Picture 2" descr="Картинка 2 из 463"/>
          <p:cNvPicPr/>
          <p:nvPr/>
        </p:nvPicPr>
        <p:blipFill>
          <a:blip r:embed="rId1"/>
          <a:stretch/>
        </p:blipFill>
        <p:spPr>
          <a:xfrm>
            <a:off x="179280" y="1773360"/>
            <a:ext cx="5472360" cy="32400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C:\Users\User\Desktop\права ребёнка\post-229530-1275558050[1].jpg"/>
          <p:cNvPicPr/>
          <p:nvPr/>
        </p:nvPicPr>
        <p:blipFill>
          <a:blip r:embed="rId2"/>
          <a:stretch/>
        </p:blipFill>
        <p:spPr>
          <a:xfrm>
            <a:off x="5398920" y="3762360"/>
            <a:ext cx="3745080" cy="3095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75f55"/>
                </a:solidFill>
                <a:latin typeface="Calibri"/>
              </a:rPr>
              <a:t>Р О С С И Я</a:t>
            </a:r>
            <a:endParaRPr b="0" lang="en-US" sz="5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ОССИЯНЕ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ГРАЖДАНЕ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4" descr="http://i81.beon.ru/45/86/498645/14/13911014/57897.jpeg"/>
          <p:cNvPicPr/>
          <p:nvPr/>
        </p:nvPicPr>
        <p:blipFill>
          <a:blip r:embed="rId1"/>
          <a:stretch/>
        </p:blipFill>
        <p:spPr>
          <a:xfrm>
            <a:off x="2916360" y="1989000"/>
            <a:ext cx="6048360" cy="4680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Россия –</a:t>
            </a:r>
            <a:br>
              <a:rPr sz="4000"/>
            </a:b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 многонациональное государство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63" name="Picture 2" descr="Картинка 73 из 1771"/>
          <p:cNvPicPr/>
          <p:nvPr/>
        </p:nvPicPr>
        <p:blipFill>
          <a:blip r:embed="rId1"/>
          <a:stretch/>
        </p:blipFill>
        <p:spPr>
          <a:xfrm>
            <a:off x="755640" y="1773360"/>
            <a:ext cx="7632720" cy="4608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C:\Users\User\Desktop\права ребёнка\1010974[1].jpg"/>
          <p:cNvPicPr/>
          <p:nvPr/>
        </p:nvPicPr>
        <p:blipFill>
          <a:blip r:embed="rId1"/>
          <a:stretch/>
        </p:blipFill>
        <p:spPr>
          <a:xfrm>
            <a:off x="1619280" y="476280"/>
            <a:ext cx="6048360" cy="5616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3" descr="C:\Users\User\Desktop\права ребёнка\289509[1].jpg"/>
          <p:cNvPicPr/>
          <p:nvPr/>
        </p:nvPicPr>
        <p:blipFill>
          <a:blip r:embed="rId1"/>
          <a:stretch/>
        </p:blipFill>
        <p:spPr>
          <a:xfrm>
            <a:off x="2484360" y="404640"/>
            <a:ext cx="4680000" cy="612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C:\Users\User\Desktop\права ребёнка\clip_image007[1].jpg"/>
          <p:cNvPicPr/>
          <p:nvPr/>
        </p:nvPicPr>
        <p:blipFill>
          <a:blip r:embed="rId1"/>
          <a:stretch/>
        </p:blipFill>
        <p:spPr>
          <a:xfrm>
            <a:off x="1835280" y="1844640"/>
            <a:ext cx="4859280" cy="481644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Каждый ребёнок имеет право на имя и гражданство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2:36:52Z</dcterms:created>
  <dc:creator>User</dc:creator>
  <dc:description/>
  <dc:language>en-US</dc:language>
  <cp:lastModifiedBy>User</cp:lastModifiedBy>
  <dcterms:modified xsi:type="dcterms:W3CDTF">2019-03-26T16:43:48Z</dcterms:modified>
  <cp:revision>23</cp:revision>
  <dc:subject/>
  <dc:title>Имею право на права</dc:title>
</cp:coreProperties>
</file>