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203-C5CB-4718-9732-0EE0A434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C1B-63B8-454F-BD68-1D0ED1FD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856-0AED-4D3B-B531-8E3E5463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4E8-F585-4037-AACB-50C79E5D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DD8-A728-4F19-815B-04297062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22C-0A2A-4C52-B614-99982025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5BF-8FA8-45D3-977F-6C66C7DB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605-E40B-46CE-94E4-D81B16EE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39B8-B132-4EB7-AA7D-65CE8A0B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24E-38F1-4663-A34D-2E39CCCE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49D-123D-4E57-9821-500B339A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660-551F-4066-AD9D-862F140E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E313-E26B-4890-89EF-1EB8B0894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53;&#1086;&#1074;&#1072;&#1103;%20&#1089;&#1080;&#1089;&#1090;&#1077;&#1084;&#1072;.ppt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000440" y="114300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1362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0" y="1362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18"/>
          <p:cNvSpPr/>
          <p:nvPr/>
        </p:nvSpPr>
        <p:spPr>
          <a:xfrm>
            <a:off x="1643040" y="228600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 совхоза площадью 2,45 га обнесён изгородью длиной 630 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длину и ширину сада, если он имеет прямоугольную фор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8:19Z</dcterms:created>
  <dc:creator>Admin</dc:creator>
  <dc:description/>
  <dc:language>en-US</dc:language>
  <cp:lastModifiedBy>Admin</cp:lastModifiedBy>
  <dcterms:modified xsi:type="dcterms:W3CDTF">2004-01-01T00:18:43Z</dcterms:modified>
  <cp:revision>2</cp:revision>
  <dc:subject/>
  <dc:title>Слайд 1</dc:title>
</cp:coreProperties>
</file>