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50E-F05A-46DF-A060-4B8996AE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368-30AF-4637-9C6E-12604ABD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48E-0CA7-4FC0-B60C-F6DDD562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056-3071-4153-9E52-2324FE2D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4A1-F320-4A1D-9BA4-B6A67046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617-0A78-4AE4-9B8D-BCE51DA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B48-FB01-4C44-A338-572E2A28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35F-ECEF-4A1B-B85D-DBF48FF6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331-A685-4558-A0B6-1A52C9FA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36F-8EC0-4509-8745-AD208A7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19E-1C9F-4C8E-8B4E-2BA5B70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67B-AE94-4E85-B7F7-65D4A7E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1FD7-6711-430F-9BD8-A083412CD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&#1087;&#1088;&#1080;&#1095;&#1080;&#1085;&#1099;%20&#1080;%20&#1074;&#1080;&#1076;&#1099;.ppt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6858000" y="3429000"/>
            <a:ext cx="54288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shablony-dlya-prezentaziy-11-3.jpg"/>
          <p:cNvPicPr/>
          <p:nvPr/>
        </p:nvPicPr>
        <p:blipFill>
          <a:blip r:embed="rId2"/>
          <a:stretch/>
        </p:blipFill>
        <p:spPr>
          <a:xfrm>
            <a:off x="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1026360" y="114300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ест на знание теоретического матер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9" descr="s623309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11880" y="5565600"/>
            <a:ext cx="1724040" cy="1298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94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0" y="1362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1"/>
          <p:cNvSpPr/>
          <p:nvPr/>
        </p:nvSpPr>
        <p:spPr>
          <a:xfrm>
            <a:off x="3357720" y="242892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3:01Z</dcterms:created>
  <dc:creator>Admin</dc:creator>
  <dc:description/>
  <dc:language>en-US</dc:language>
  <cp:lastModifiedBy>Admin</cp:lastModifiedBy>
  <dcterms:modified xsi:type="dcterms:W3CDTF">2004-01-01T00:11:00Z</dcterms:modified>
  <cp:revision>2</cp:revision>
  <dc:subject/>
  <dc:title>Слайд 1</dc:title>
</cp:coreProperties>
</file>