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DE9C-F9DF-4E64-9A2B-0908B3B1B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2843-BA0C-4095-A85D-D26CFEB6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2C8B-88D8-4C07-BF01-D6EA195B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A394-A46F-41F3-A50E-76BD83A1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058D-662E-4A02-9A0D-F0C43C725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0B1B-3041-43E1-87E3-9107498F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022D-7C74-46F6-9613-3F1AB9EB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EE2F-F846-4C2A-9BA0-EC6EA36A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2AF9-A332-44DC-B1C6-C906EA91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2FFB-0E13-489B-A38A-F9DC58CE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256E-D539-46D5-95D3-F5C59CD2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73C2-6EEB-450B-A6FF-9DE1ADFA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5E2D-270A-4189-8D0F-4C1A7602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B8C4-6850-4DE3-927C-2A0D7340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8B57-39DA-4B36-A509-1635CC90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8FAC-C318-465B-AE59-FA7289EC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5697-EA77-4DA5-B683-A35AAA67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F20A-BF60-42FA-B3D4-B5342609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616A-FBD2-48FE-92F1-4D116AD3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8367-E640-45D2-8B56-19DD65A5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5B80-94CB-4ADF-8CDD-72BB7B80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929D-E2E4-483F-8716-01F5F0C6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EDB0-09F9-44C7-BCDC-F999A4DD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7724-A065-4777-A5C5-1DDD2392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91DB-821C-4444-9DEF-410972808D0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2744-F768-447D-A2A9-AD092797FF2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Денежная реформа 1839 – 1843 годов </a:t>
            </a:r>
            <a:br>
              <a:rPr sz="2800"/>
            </a:b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под руководством министра финансов</a:t>
            </a:r>
            <a:br>
              <a:rPr sz="2800"/>
            </a:b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 Е.Ф. Канкрина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 предотвратить постоянное колебание курса соотношения различных видов денег, обращавшихся в России (серебряных монет и ассигнац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В 1840-1843 г. депозитной кассой выпущены билеты получившие хождение наравне с серебряной моне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1"/>
          <a:srcRect l="0" t="0" r="22313" b="11665"/>
          <a:stretch/>
        </p:blipFill>
        <p:spPr>
          <a:xfrm>
            <a:off x="1116000" y="1773360"/>
            <a:ext cx="3600360" cy="1987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2"/>
          <a:srcRect l="0" t="0" r="23374" b="0"/>
          <a:stretch/>
        </p:blipFill>
        <p:spPr>
          <a:xfrm>
            <a:off x="971640" y="3933720"/>
            <a:ext cx="4033800" cy="22114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1:13:22Z</dcterms:created>
  <dc:creator>User</dc:creator>
  <dc:description/>
  <dc:language>en-US</dc:language>
  <cp:lastModifiedBy>Admin</cp:lastModifiedBy>
  <dcterms:modified xsi:type="dcterms:W3CDTF">2003-12-31T22:23:10Z</dcterms:modified>
  <cp:revision>34</cp:revision>
  <dc:subject/>
  <dc:title>Денежные реформы России</dc:title>
</cp:coreProperties>
</file>