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C01-19B7-4242-98E0-463F2BC4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9CC-5966-4D7F-8B7E-E728C599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556-CF16-44F7-B642-97086BDE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9C1-F7E4-4646-A78F-451AC707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E961-B64C-46F7-BEDC-E6397118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0887-C247-44E5-9CC1-106AF0C4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1587-C357-423A-BEE2-07EC73AD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9CA0-4A2E-4D5A-A2D9-4689A7F2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AA92-78C8-4F44-A8BB-EFB044C3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E99A-B99B-47E9-BD66-E74F0C33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0A61-79D3-45A1-AE07-8869940E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516-26C0-46C6-8F0C-3495F193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87D7-BA66-4543-9BBE-FF2BD725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9FF4-1F8C-4207-98CB-A383B5B0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89BD-2186-4714-BA67-20BFD941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7C64-61BE-4734-930E-4ACEAC59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844B-D54D-4E25-8A02-0E141E9A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50D-0ED9-45AF-8E89-074310A5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C2A4-044A-4347-AD12-9C4B7840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8E3-43B7-4E13-82CD-380D00F3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4FD-F7EB-4EE0-B974-2AE82198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C24-C0D1-4D99-91CD-0649C0F1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02F-4362-443D-BC56-B0F8CA07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718-6DE1-4C8E-B12C-7FB49F06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C5DF-0108-436F-8A58-FF28124B98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653C-5571-4464-932F-D7300CE36F2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енежные реформ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43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Денежные реформы – это преобразование денежной системы (полное или частичное), осуществляемое государством с целью упорядочения и стабилизации </a:t>
            </a:r>
            <a:r>
              <a:rPr b="0" i="1" lang="ru-RU" sz="2400" spc="-1" strike="noStrike">
                <a:solidFill>
                  <a:srgbClr val="330033"/>
                </a:solidFill>
                <a:latin typeface="Arial"/>
              </a:rPr>
              <a:t>денежного обращения;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выражение финансово - экономической политики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ичины денежных рефор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Развитие денежной системы в результате инф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Необходимость сжатия излишка денежной массы, в обращение с учетом реальной потребности хозяйственного оборота в день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Изменение политического стро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Создание нового государ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Конфискация доходов, полученных преступным пут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Повышение доверия к национальным деньг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ды денежных рефор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86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Образование новой денежной системы в связи с изменением формы организации денежного обра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Частичное преобразование денежной системы: изменение порядка эмиссии, новое наименование </a:t>
            </a:r>
            <a:r>
              <a:rPr b="0" i="1" lang="ru-RU" sz="2400" spc="-1" strike="noStrike">
                <a:solidFill>
                  <a:srgbClr val="330033"/>
                </a:solidFill>
                <a:latin typeface="Arial"/>
              </a:rPr>
              <a:t>денежной единицы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 и видов денежных зн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Стабилизация денежного обращения с целью сдерживания инфля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Денежные реформы</a:t>
            </a:r>
            <a:br>
              <a:rPr sz="4000"/>
            </a:b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 в отечественной истори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25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В 1535 году была проведена Еленой Глин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654 – 1663 гг. Проведена правительством царя Алексея Михайлови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698 – 1704 гг. – Петр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839 – 1843 гг. Под руководством министра финансов Е.Ф. Канк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895 – 1898 гг. – министр финансов С.Ю. Вит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922- 1924гг.- нарком финансов Г.Я. Со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947- конфискационная денежная рефор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961- министр финансов СССР А.Г. Звер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991- премьер- министр СССР В.С. Пав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1992- 1993гг.- создание новой национальной денежной системы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4:22Z</dcterms:modified>
  <cp:revision>33</cp:revision>
  <dc:subject/>
  <dc:title>Денежные реформы России</dc:title>
</cp:coreProperties>
</file>