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890-EB84-4A86-AFB2-F8A586F0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85B-BA83-4989-A61B-50BE73D2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B8F-0A9E-47F2-AB70-939A3AAE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463-585C-440C-B5E3-2180CF8E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EDC-B8C3-4D19-A9AC-F2DFC25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011-5C8D-4F99-B7AF-779E20C6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9F6-BB6E-44F8-8F1C-063A3EDE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AC1-D8F0-4260-847C-9208EA44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138-CA28-4884-9AB2-A7776B7B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8C5-F283-4C47-8708-BB49927B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66F-CC05-48DC-B7DC-8DF3181F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2C9-6208-4B00-9D55-C0210CB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5716-02D2-4877-AACE-DE3E3B26B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42;&#1080;&#1090;&#1090;&#1077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0240" y="1143000"/>
            <a:ext cx="48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квадратное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5"/>
          <a:stretch/>
        </p:blipFill>
        <p:spPr>
          <a:xfrm>
            <a:off x="1071720" y="2643120"/>
            <a:ext cx="2666880" cy="4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"/>
          <p:cNvPicPr/>
          <p:nvPr/>
        </p:nvPicPr>
        <p:blipFill>
          <a:blip r:embed="rId6"/>
          <a:stretch/>
        </p:blipFill>
        <p:spPr>
          <a:xfrm>
            <a:off x="6072120" y="2643120"/>
            <a:ext cx="2867040" cy="48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"/>
          <p:cNvPicPr/>
          <p:nvPr/>
        </p:nvPicPr>
        <p:blipFill>
          <a:blip r:embed="rId7"/>
          <a:stretch/>
        </p:blipFill>
        <p:spPr>
          <a:xfrm>
            <a:off x="2214720" y="3286080"/>
            <a:ext cx="199800" cy="866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"/>
          <p:cNvPicPr/>
          <p:nvPr/>
        </p:nvPicPr>
        <p:blipFill>
          <a:blip r:embed="rId8"/>
          <a:stretch/>
        </p:blipFill>
        <p:spPr>
          <a:xfrm>
            <a:off x="7429680" y="3286080"/>
            <a:ext cx="199800" cy="8571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8"/>
          <p:cNvSpPr/>
          <p:nvPr/>
        </p:nvSpPr>
        <p:spPr>
          <a:xfrm>
            <a:off x="1928880" y="3286080"/>
            <a:ext cx="78588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2"/>
          <p:cNvSpPr/>
          <p:nvPr/>
        </p:nvSpPr>
        <p:spPr>
          <a:xfrm>
            <a:off x="7143840" y="3286080"/>
            <a:ext cx="78588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6:17Z</dcterms:created>
  <dc:creator>Admin</dc:creator>
  <dc:description/>
  <dc:language>en-US</dc:language>
  <cp:lastModifiedBy>Admin</cp:lastModifiedBy>
  <dcterms:modified xsi:type="dcterms:W3CDTF">2004-01-01T00:16:49Z</dcterms:modified>
  <cp:revision>2</cp:revision>
  <dc:subject/>
  <dc:title>Слайд 1</dc:title>
</cp:coreProperties>
</file>