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0BB-EBC4-40A8-B3E7-F60235C1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FB1-D4F4-48F0-A66C-2909C61D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CE1-FD93-477F-A7C1-501C779B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8E3-12E8-437C-A221-251D9082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5893-1D9D-4BBB-AC67-B9C163C2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3244-8B07-409C-BE9F-1F6F0AC5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91E8-AB99-4DF7-BEF7-52B189CB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3188-DCD1-4E01-9380-546181CB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4762-638B-41E8-A8AB-BBCD00B1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C828-2638-454B-8C5D-58A6ED88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8544-F8FF-40D9-A319-046555D4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C52-F641-45FD-9CF4-C1D3A996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18AA-70C7-489F-AB3B-5EDAA405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FA3B-0F91-48E7-9D71-B8C2E4F3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9E90-FEE6-4591-875C-3CCD950C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87A5-35A4-483D-8167-FCBB0BD9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17DF-F931-46D1-BF3C-47BFF405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F6D-8BC9-46F5-8F4F-337C185B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6C0-A6EB-4B3F-BF70-9340087C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E3F-D9E5-44F8-B42C-CD5183E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22C-5BBD-46CC-A966-FE90F2EC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533-FC67-4118-A4EE-8A2A792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BD5-AEBE-42CC-9FF8-840B3B4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9BA-BF35-4F4D-8BFF-66B0166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1E15-057D-44D6-B0AE-8EEB074019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258D-A9A5-4BC5-8CDF-3D0130ECA7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58804"/>
                </a:solidFill>
                <a:latin typeface="Times New Roman"/>
              </a:rPr>
              <a:t>Денежная реформа 1922 – 1924 год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71600" y="1600200"/>
            <a:ext cx="50720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Направлена на укрепление рубля. Проведена наркомом финансов Г.Я. Сокольник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Выпустили новые денежные знаки основанные на золотом черв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000760" y="4500720"/>
            <a:ext cx="3429000" cy="1741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rcRect l="0" t="51271" r="0" b="0"/>
          <a:stretch/>
        </p:blipFill>
        <p:spPr>
          <a:xfrm>
            <a:off x="1258920" y="1628640"/>
            <a:ext cx="280836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rcRect l="0" t="3854" r="0" b="0"/>
          <a:stretch/>
        </p:blipFill>
        <p:spPr>
          <a:xfrm>
            <a:off x="1187280" y="3716280"/>
            <a:ext cx="2735280" cy="2473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2:40Z</dcterms:modified>
  <cp:revision>36</cp:revision>
  <dc:subject/>
  <dc:title>Денежные реформы России</dc:title>
</cp:coreProperties>
</file>