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81A-B6CE-4FF6-9729-D7E2D4F8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917-2E2C-4486-8679-7180BDCD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BF9-9BD5-4A6B-AB6D-CEF096F8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C2B-8AC7-4B67-8062-9AF111A8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099-DA6C-4D08-ABB1-92FB32B6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1C4-E23B-436A-B500-5D1B7065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870-5699-4602-8F92-A37FAF02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129-98B7-41EF-BAE3-88738F52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BE5-4F48-47DC-8691-3828063F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D24-70CB-46C4-8120-D120ED2B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3E1-C19A-41BF-95AC-812FFED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C5A-FBC2-4819-A156-D3AAEE1F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388C-2CE2-4143-9F06-D9426F9CC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0;&#1072;&#1085;&#1082;&#1088;&#1080;&#1085;&#1072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582920" y="571680"/>
            <a:ext cx="644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етодом выделения полного квад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1143000" y="2714760"/>
            <a:ext cx="2666880" cy="485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6"/>
          <a:stretch/>
        </p:blipFill>
        <p:spPr>
          <a:xfrm>
            <a:off x="6143760" y="2714760"/>
            <a:ext cx="2666880" cy="485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7"/>
          <a:stretch/>
        </p:blipFill>
        <p:spPr>
          <a:xfrm>
            <a:off x="1714680" y="3571920"/>
            <a:ext cx="809280" cy="476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"/>
          <p:cNvPicPr/>
          <p:nvPr/>
        </p:nvPicPr>
        <p:blipFill>
          <a:blip r:embed="rId8"/>
          <a:stretch/>
        </p:blipFill>
        <p:spPr>
          <a:xfrm>
            <a:off x="6786720" y="3571920"/>
            <a:ext cx="80964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2"/>
          <p:cNvSpPr/>
          <p:nvPr/>
        </p:nvSpPr>
        <p:spPr>
          <a:xfrm>
            <a:off x="1500120" y="3357720"/>
            <a:ext cx="1143000" cy="7855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3"/>
          <p:cNvSpPr/>
          <p:nvPr/>
        </p:nvSpPr>
        <p:spPr>
          <a:xfrm>
            <a:off x="6643800" y="3357720"/>
            <a:ext cx="1143000" cy="7855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5:53Z</dcterms:created>
  <dc:creator>Admin</dc:creator>
  <dc:description/>
  <dc:language>en-US</dc:language>
  <cp:lastModifiedBy>Admin</cp:lastModifiedBy>
  <dcterms:modified xsi:type="dcterms:W3CDTF">2004-01-01T00:16:31Z</dcterms:modified>
  <cp:revision>2</cp:revision>
  <dc:subject/>
  <dc:title>Слайд 1</dc:title>
</cp:coreProperties>
</file>