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A5D-C4B1-4BB4-B869-52883380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5D4-C089-41E3-9ABA-E044872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417-9FC8-4D03-9C5E-D49CD724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56D-4BC0-48E9-97B7-3C197835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ED88-C33E-4D88-BC1E-6F255FA1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FC4-6DF4-4472-82FA-255D25C6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E808-2880-4B08-88CB-167A771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70D7-9A2F-4FCA-A15F-2F5D3C6D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027F-4409-4A68-85C6-A209A7E9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143F-015F-4FC7-8178-D58660B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BE78-BA82-4057-9168-48B5F72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4A6-4E3D-4ED8-8C43-F889FEF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171B-53D3-4F49-B3DA-B52B753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8430-318F-456F-BE29-53E33B2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88C5-81AD-4ECD-BF83-7B287496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36CD-CBCD-4312-A26A-7CDDFF6D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B18-4519-4704-99FE-D56400C1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B36-4197-41C7-A53B-A7ABEDFF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BA3-3364-4298-9877-1AD01CA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9E1-DFF9-433C-B56F-5F5C28DA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944-7DE5-46EE-83D7-C37FCD9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BF1-E897-4E1A-A93A-7D872BF8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4B0-DA04-4A69-8E59-B124117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EA2-A2EA-40EF-93C8-76F25A1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8856-A44A-4538-BC71-E4CFE8F686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dd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002-1A10-4B28-A5B9-0DD897D3EE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38cae"/>
                </a:solidFill>
                <a:latin typeface="Times New Roman"/>
              </a:rPr>
              <a:t>Денежная реформа 1991 года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38cae"/>
                </a:solidFill>
                <a:latin typeface="Arial"/>
              </a:rPr>
              <a:t>Реформа 1991 г. получила название «павловской» - по имени премьер –министра СССР В.С. Пав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8cae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638cae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38cae"/>
                </a:solidFill>
                <a:latin typeface="Arial"/>
              </a:rPr>
              <a:t>Предполагалось провести обмен купюр достоинством в 50 и 100 руб. образца 1961 на купюры тех же номиналов образца 1991г в течении 3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3164" t="0" r="0" b="0"/>
          <a:stretch/>
        </p:blipFill>
        <p:spPr>
          <a:xfrm>
            <a:off x="900000" y="1989000"/>
            <a:ext cx="3302280" cy="1676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1:55Z</dcterms:modified>
  <cp:revision>36</cp:revision>
  <dc:subject/>
  <dc:title>Денежные реформы России</dc:title>
</cp:coreProperties>
</file>