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A0A-EFC6-4201-AA2E-AE9DFC49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ADA-FF04-4433-B844-EED0AE15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E6E-B21C-452F-AC07-48685DF1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71C-84AB-4098-A093-05B5E090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8B8-C1AA-43F6-8F15-A79EFC8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050-136E-4DB9-A0E1-459614FC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E9E-C11A-47C6-BF4A-E7905C06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F45-2731-4D98-9BC3-D0200605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A4D-CC10-48EB-8BD9-AB179932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079-5F40-43CF-A865-C25065F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B84-00C3-4991-9AC0-97F86719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414-F915-41D5-9A07-A7FFEE7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7FAB-5735-4B01-B344-8EDF967D3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7;&#1086;&#1082;&#1086;&#1083;&#1100;&#1085;&#1080;&#1082;&#1086;&#1074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0240" y="1143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5"/>
          <a:stretch/>
        </p:blipFill>
        <p:spPr>
          <a:xfrm>
            <a:off x="1071720" y="2714760"/>
            <a:ext cx="286704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6"/>
          <a:stretch/>
        </p:blipFill>
        <p:spPr>
          <a:xfrm>
            <a:off x="6072120" y="2714760"/>
            <a:ext cx="2867040" cy="48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7"/>
          <a:stretch/>
        </p:blipFill>
        <p:spPr>
          <a:xfrm>
            <a:off x="1857240" y="3571920"/>
            <a:ext cx="1200240" cy="866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8"/>
          <a:stretch/>
        </p:blipFill>
        <p:spPr>
          <a:xfrm>
            <a:off x="7215120" y="3571920"/>
            <a:ext cx="542880" cy="857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93"/>
          <p:cNvSpPr/>
          <p:nvPr/>
        </p:nvSpPr>
        <p:spPr>
          <a:xfrm>
            <a:off x="1785960" y="3571920"/>
            <a:ext cx="128592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8"/>
          <p:cNvSpPr/>
          <p:nvPr/>
        </p:nvSpPr>
        <p:spPr>
          <a:xfrm>
            <a:off x="6786720" y="3571920"/>
            <a:ext cx="12855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43Z</dcterms:created>
  <dc:creator>Admin</dc:creator>
  <dc:description/>
  <dc:language>en-US</dc:language>
  <cp:lastModifiedBy>Admin</cp:lastModifiedBy>
  <dcterms:modified xsi:type="dcterms:W3CDTF">2004-01-01T00:17:10Z</dcterms:modified>
  <cp:revision>2</cp:revision>
  <dc:subject/>
  <dc:title>Слайд 1</dc:title>
</cp:coreProperties>
</file>