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27FA-0704-4FEC-B660-B9C4577D4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8A6D-32A1-46FF-B63E-8166F9725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0E3E-0FFE-4EAE-A837-E6A6F9AF2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14CC-1EC7-491A-9B9D-C6FAE479D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95CF0-FF82-4C30-9A3A-312F700EF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5F228-4E04-4175-9010-0A6B943B7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8B8BA-1E39-44D0-A3E8-B95792EB7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5706A-D9A0-4388-AC4E-8ED861264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1BE27-B30F-41CB-8E0F-F3E2A6906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63633-61F9-4433-A931-533BDE6C7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BB626-F319-47AA-8A03-CF7156CB5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7488-79AA-4271-8D16-715D8F8B3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245C0-632C-4986-8EA0-D2F1D29EF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630E1-EBF5-4630-9FB9-41553E501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501AA-00B7-4BE0-A4E6-C8BF836EE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66094-0091-454D-8F32-9AE5BF2D6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E363A-676C-44B8-B397-E2DEF279F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5332-F295-4657-B6E9-E1FB1ADBB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3764-B901-4845-82D1-5B17CCD11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0EB8-FDE4-477D-B009-7B9E77D98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8C07-8CD9-49A9-ACD2-14E548746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8101-D20B-4EE9-91DE-588541D4F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F63C-8BE3-4076-A331-97F6A1A58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240B-B100-4EE6-8C96-76D2EBE80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DB769-AB63-498F-8593-52BBDD2AE12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3DA93-7422-4019-A891-0DEA42981C1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Times New Roman"/>
              </a:rPr>
              <a:t>II</a:t>
            </a:r>
            <a:r>
              <a:rPr b="0" lang="ru-RU" sz="2800" spc="-1" strike="noStrike">
                <a:solidFill>
                  <a:srgbClr val="7f7f7f"/>
                </a:solidFill>
                <a:latin typeface="Times New Roman"/>
              </a:rPr>
              <a:t> Денежная реформа 1654 -1663 годов проведена правительством царя Алексея Михайловича.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98" name="Picture 8" descr=""/>
          <p:cNvPicPr/>
          <p:nvPr/>
        </p:nvPicPr>
        <p:blipFill>
          <a:blip r:embed="rId1"/>
          <a:stretch/>
        </p:blipFill>
        <p:spPr>
          <a:xfrm>
            <a:off x="895320" y="1620720"/>
            <a:ext cx="3305160" cy="491328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858920" y="1628640"/>
            <a:ext cx="38098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2400" spc="-1" strike="noStrike">
                <a:solidFill>
                  <a:srgbClr val="999966"/>
                </a:solidFill>
                <a:latin typeface="Arial"/>
              </a:rPr>
              <a:t>Цель реформы:</a:t>
            </a:r>
            <a:r>
              <a:rPr b="0" lang="ru-RU" sz="2400" spc="-1" strike="noStrike">
                <a:solidFill>
                  <a:srgbClr val="999966"/>
                </a:solidFill>
                <a:latin typeface="Arial"/>
              </a:rPr>
              <a:t> введение в денежное обращение монет крупных номиналов, внедрение меди в качестве монетного метала, начало чеканки рубля, ориентированного на западно - европейский ТАЛЕ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7f7f7f"/>
                </a:solidFill>
                <a:latin typeface="Times New Roman"/>
              </a:rPr>
              <a:t>Последствия реформы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257960" cy="31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999966"/>
                </a:solidFill>
                <a:latin typeface="Arial"/>
              </a:rPr>
              <a:t>В 1654 г. в обращение введен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9966"/>
                </a:solidFill>
                <a:latin typeface="Arial"/>
              </a:rPr>
              <a:t>Серебряные рубли, изготовленные путем перечеканки талер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9966"/>
                </a:solidFill>
                <a:latin typeface="Arial"/>
              </a:rPr>
              <a:t>Полуполтины, из разрубленных на 4 части талер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9966"/>
                </a:solidFill>
                <a:latin typeface="Arial"/>
              </a:rPr>
              <a:t>Медные полтины, весом в талер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9966"/>
                </a:solidFill>
                <a:latin typeface="Arial"/>
              </a:rPr>
              <a:t>Алтины и гроши – 2 коп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1" descr=""/>
          <p:cNvPicPr/>
          <p:nvPr/>
        </p:nvPicPr>
        <p:blipFill>
          <a:blip r:embed="rId1"/>
          <a:srcRect l="0" t="65547" r="0" b="0"/>
          <a:stretch/>
        </p:blipFill>
        <p:spPr>
          <a:xfrm>
            <a:off x="755640" y="4668840"/>
            <a:ext cx="6696000" cy="218916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7T11:13:22Z</dcterms:created>
  <dc:creator>User</dc:creator>
  <dc:description/>
  <dc:language>en-US</dc:language>
  <cp:lastModifiedBy>Admin</cp:lastModifiedBy>
  <dcterms:modified xsi:type="dcterms:W3CDTF">2003-12-31T22:23:41Z</dcterms:modified>
  <cp:revision>35</cp:revision>
  <dc:subject/>
  <dc:title>Денежные реформы России</dc:title>
</cp:coreProperties>
</file>