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092-3491-4452-B338-9955D7B1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3795-B00E-49CE-A286-B9D90171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FC1-A14A-4ED9-BEC4-6C325D3D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F24-F323-4F09-ACD5-5FE7232C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1801-D157-4636-847E-4310E866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7F68-7183-45DB-A0FA-557651AD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11CA-5045-4955-B7EE-DB75A6D3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924C-723D-4685-B9DA-ADF46732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095A-DD35-4AAF-8C79-604CE19C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E734-0A19-4256-8038-F46EE0FD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5FC4-C400-46F2-A7B0-AAF5902C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612-D5C7-43CB-B8F1-FD646DF4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3324-6285-4096-98EF-E3E449C2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ED1C-2F0B-4598-A23B-DF6126F1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E3B4-F241-4675-A2F4-BA40FD11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7774-EB33-4B16-9481-3E131657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4149-76FA-4588-A6C8-7EAC183A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9B76-E137-4195-A928-A0C29065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30B-0FC4-41F2-9D23-4EE8AD8F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66E-D982-40F3-8D4B-BAF7A73D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0602-6098-4279-99B4-D0915A9A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0A1-F64A-46C2-B951-C704BF62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581-618B-4EEB-B033-13E89321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1FE-0E05-470D-B73D-FDB56089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3C0E-91DE-4C67-B3E1-2C3354F635D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F9AD-7CC6-4127-9533-E2A249EF133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58804"/>
                </a:solidFill>
                <a:latin typeface="Times New Roman"/>
              </a:rPr>
              <a:t>I</a:t>
            </a:r>
            <a:r>
              <a:rPr b="0" lang="ru-RU" sz="3800" spc="-1" strike="noStrike">
                <a:solidFill>
                  <a:srgbClr val="958804"/>
                </a:solidFill>
                <a:latin typeface="Times New Roman"/>
              </a:rPr>
              <a:t> денежная реформа 1534 год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rcRect l="14075" t="0" r="0" b="0"/>
          <a:stretch/>
        </p:blipFill>
        <p:spPr>
          <a:xfrm>
            <a:off x="1258920" y="2133720"/>
            <a:ext cx="3286080" cy="2886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ервая денежная реформа была проведена при Иване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Грозном (1534 - 1584) его матерью Еленой Глинской в 1534г., в результате которой на Московском, Новгородском и Псковском денежных дворах стали чеканить единую общегосударственную монету – КОПЕЙ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58804"/>
                </a:solidFill>
                <a:latin typeface="Times New Roman"/>
              </a:rPr>
              <a:t>В виде реальных монет существовал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КОПЕЙКИ – с изображением всадника с копь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«ДЕНГИ» - с изображением всадника  с саб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ПОЛУШКИ – с изображением голуб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1542960" y="1620720"/>
            <a:ext cx="2090880" cy="1629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1468440" y="3852720"/>
            <a:ext cx="2317680" cy="1957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1:13:22Z</dcterms:created>
  <dc:creator>User</dc:creator>
  <dc:description/>
  <dc:language>en-US</dc:language>
  <cp:lastModifiedBy>Admin</cp:lastModifiedBy>
  <dcterms:modified xsi:type="dcterms:W3CDTF">2003-12-31T22:24:02Z</dcterms:modified>
  <cp:revision>34</cp:revision>
  <dc:subject/>
  <dc:title>Денежные реформы России</dc:title>
</cp:coreProperties>
</file>