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5095-3B0C-4A7F-8911-7E20814B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57DB-3EA4-4644-9CB1-FB8A5358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7583-6673-4B2A-9534-9399661CB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EEDD-0431-44C4-947A-E75D68CF0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3859-0EC6-44B3-AA51-3E177FA06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39E5-C848-4549-A044-578B6B13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7204-7AF3-4AAD-8629-8C4358AA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1C7F-88D5-48A6-BAB5-B0FB38A9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3037-77FA-4D34-8AB4-F2DE31C0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F567-0659-4234-8B5B-BEF97E47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1DA2-6E59-4444-BF28-2538C3BA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42F7-C373-479B-925D-276D4348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6845-966B-4094-88EF-ADC25F0C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CE79-03CE-4177-9D9F-15786921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F4D6-4357-4005-A331-E933B350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4031-C081-4E58-95BC-D13A55A7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666C-6882-4904-A5D0-86E5EB571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4F89-F105-40E1-9F96-CF658DC4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2958-CCB6-43B0-AD05-A1EB263B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D6D9-D8D8-458A-9332-FC77DE20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3BB3-5EF2-437A-BA8F-7ABBC501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B283-6630-4946-AAF2-880C5D54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FE25-D121-4E88-8CA2-AE9DFF57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7530-7164-4150-B1EE-0088B289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72a3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90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6a55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363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2a37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03638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7F8A-8F7C-45E3-B281-471A931B4F4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eaeb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72a3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eaeb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90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eaeb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6a55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363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2a37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03638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74BE-E03E-43D0-A7D1-8A3A9CEE0C2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5472b"/>
                </a:solidFill>
                <a:latin typeface="Times New Roman"/>
              </a:rPr>
              <a:t>III</a:t>
            </a:r>
            <a:r>
              <a:rPr b="0" lang="ru-RU" sz="3800" spc="-1" strike="noStrike">
                <a:solidFill>
                  <a:srgbClr val="45472b"/>
                </a:solidFill>
                <a:latin typeface="Times New Roman"/>
              </a:rPr>
              <a:t> Денежная реформа 1698 – 1704 годов </a:t>
            </a:r>
            <a:br>
              <a:rPr sz="3800"/>
            </a:br>
            <a:r>
              <a:rPr b="0" lang="ru-RU" sz="3800" spc="-1" strike="noStrike">
                <a:solidFill>
                  <a:srgbClr val="45472b"/>
                </a:solidFill>
                <a:latin typeface="Times New Roman"/>
              </a:rPr>
              <a:t>      Петр </a:t>
            </a:r>
            <a:r>
              <a:rPr b="0" lang="en-US" sz="3800" spc="-1" strike="noStrike">
                <a:solidFill>
                  <a:srgbClr val="45472b"/>
                </a:solidFill>
                <a:latin typeface="Times New Roman"/>
              </a:rPr>
              <a:t>I</a:t>
            </a:r>
            <a:endParaRPr b="0" lang="en-US" sz="38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76720" y="1599840"/>
            <a:ext cx="361008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527e56"/>
                </a:solidFill>
                <a:latin typeface="Arial"/>
              </a:rPr>
              <a:t>В основу денежной системы был положен единственный принцип – десятичный (действует до сих по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27e5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527e56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527e56"/>
                </a:solidFill>
                <a:latin typeface="Arial"/>
              </a:rPr>
              <a:t>В 1700 - 1804 г. выпущена сер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0363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27e56"/>
                </a:solidFill>
                <a:latin typeface="Arial"/>
              </a:rPr>
              <a:t>Серебряных монет –  1 руб. (весом -28г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0363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27e56"/>
                </a:solidFill>
                <a:latin typeface="Arial"/>
              </a:rPr>
              <a:t>50 коп; 25коп; 10 коп; 5 коп; 3 ко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1"/>
          <a:stretch/>
        </p:blipFill>
        <p:spPr>
          <a:xfrm>
            <a:off x="738360" y="1609560"/>
            <a:ext cx="3925800" cy="2919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"/>
          <p:cNvPicPr/>
          <p:nvPr/>
        </p:nvPicPr>
        <p:blipFill>
          <a:blip r:embed="rId2"/>
          <a:srcRect l="21580" t="60818" r="0" b="4730"/>
          <a:stretch/>
        </p:blipFill>
        <p:spPr>
          <a:xfrm>
            <a:off x="755640" y="4565520"/>
            <a:ext cx="403236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45472b"/>
                </a:solidFill>
                <a:latin typeface="Times New Roman"/>
              </a:rPr>
              <a:t>Новая форма денег </a:t>
            </a:r>
            <a:br>
              <a:rPr sz="3800"/>
            </a:br>
            <a:r>
              <a:rPr b="0" lang="ru-RU" sz="3800" spc="-1" strike="noStrike">
                <a:solidFill>
                  <a:srgbClr val="45472b"/>
                </a:solidFill>
                <a:latin typeface="Times New Roman"/>
              </a:rPr>
              <a:t>при Екатерине </a:t>
            </a:r>
            <a:r>
              <a:rPr b="0" lang="en-US" sz="3800" spc="-1" strike="noStrike">
                <a:solidFill>
                  <a:srgbClr val="45472b"/>
                </a:solidFill>
                <a:latin typeface="Times New Roman"/>
              </a:rPr>
              <a:t>II</a:t>
            </a:r>
            <a:r>
              <a:rPr b="0" lang="ru-RU" sz="3800" spc="-1" strike="noStrike">
                <a:solidFill>
                  <a:srgbClr val="45472b"/>
                </a:solidFill>
                <a:latin typeface="Times New Roman"/>
              </a:rPr>
              <a:t> -1769 год.</a:t>
            </a:r>
            <a:endParaRPr b="0" lang="en-US" sz="38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76560" y="1600200"/>
            <a:ext cx="380988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527e56"/>
                </a:solidFill>
                <a:latin typeface="Arial"/>
              </a:rPr>
              <a:t>В 1769 г. ассигнационными банками в Москве и Санкт - Петербурге в обращение были выпущены первые российские бумажные денежные знаки – </a:t>
            </a:r>
            <a:r>
              <a:rPr b="1" i="1" lang="ru-RU" sz="2400" spc="-1" strike="noStrike" u="sng">
                <a:solidFill>
                  <a:srgbClr val="527e56"/>
                </a:solidFill>
                <a:uFillTx/>
                <a:latin typeface="Arial"/>
              </a:rPr>
              <a:t>ассигн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3441600" cy="4321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1:13:22Z</dcterms:created>
  <dc:creator>User</dc:creator>
  <dc:description/>
  <dc:language>en-US</dc:language>
  <cp:lastModifiedBy>Admin</cp:lastModifiedBy>
  <dcterms:modified xsi:type="dcterms:W3CDTF">2003-12-31T22:24:56Z</dcterms:modified>
  <cp:revision>36</cp:revision>
  <dc:subject/>
  <dc:title>Денежные реформы России</dc:title>
</cp:coreProperties>
</file>