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DB0-E9EC-45EA-BBB1-F4CBF24F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6AE-81C6-468C-AC21-ABB4903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BD9-B9BD-47E6-A2B8-6AEECA3B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48D-BEC8-48B8-823A-821DBF9A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33E3-733C-4AA9-B41E-2C790F2F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E949-4932-4BD8-A0BA-49BCA956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6DF-3F8C-423D-885E-5F980E62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305-14FE-4CCA-8B5B-692AA9A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8004-1006-4046-BBAA-D0FC5924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7320-9A38-4D24-B537-69251027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24C-9827-4694-803A-B38E96F2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B244-4C5B-49DB-A6A0-3DEDE160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3CC4-0AB6-4A87-9CB3-9598C66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124-F688-467D-BA2A-94B2230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EE70-F4D0-4D6D-97FA-EF304C3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7099-52D0-457E-8906-FF8B6D21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EED6-0B08-4BAC-AE5E-1277FC6C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5E4-C57B-4B96-9EC5-A68B2CFE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84C-9F19-4BB9-934C-26CA9264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4D3-F948-4A10-911B-21144DE4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E51-FF55-4875-A2BC-EBE7F3C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36F-54D0-4767-A3EE-FE17E4E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6E6-9784-4D0D-87B4-CA04D5F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1B9-E5F5-49AA-8DB2-B4F8C9E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0CB-C987-43BA-AE8A-A389BC19F5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CA6-255A-4B84-9141-74AE818A06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58804"/>
                </a:solidFill>
                <a:latin typeface="Times New Roman"/>
              </a:rPr>
              <a:t>Денежная реформа 1947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изъятия денежных излишков у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В обращение поступили новые банкн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Госбанка СССР достоинством 100, 50, 25 и 1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азначейские билеты – 5, 3 и 1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Старые наличные деньги обменивались на новые по соотношению 10: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4407" t="0" r="0" b="5657"/>
          <a:stretch/>
        </p:blipFill>
        <p:spPr>
          <a:xfrm>
            <a:off x="971640" y="1628640"/>
            <a:ext cx="3036960" cy="4681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28Z</dcterms:modified>
  <cp:revision>36</cp:revision>
  <dc:subject/>
  <dc:title>Денежные реформы России</dc:title>
</cp:coreProperties>
</file>