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6C7-D45D-4C62-80BF-0AC71167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CD0-018B-432C-9447-865A09CA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167-E60D-4C36-8F3C-863820CB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A58-F548-49D0-AAA3-5FF9D0AE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42F-8BA7-4777-82C4-DDE73033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106-45B2-4085-B150-3CAB0FC7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41F-E79C-49FD-BA70-A24A9EF8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27F-52FE-42CB-987E-9237E990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40A-EBCD-45C4-A104-2FF71C42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C63-832C-4F64-B421-B1617322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960-46C5-44FD-BEBE-2A66EE59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DFB-BB52-47AF-9FFD-8C1B260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CB9A-3EC6-43B0-B1DA-F15213A32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50;&#1086;&#1085;&#1092;&#1080;&#1089;&#1082;&#1072;&#1094;&#1080;&#1086;&#1085;&#1085;&#1072;&#1103;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29600" y="1143000"/>
            <a:ext cx="69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приведённое квадратное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5"/>
          <a:stretch/>
        </p:blipFill>
        <p:spPr>
          <a:xfrm>
            <a:off x="1071720" y="2857680"/>
            <a:ext cx="2476440" cy="485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6"/>
          <a:stretch/>
        </p:blipFill>
        <p:spPr>
          <a:xfrm>
            <a:off x="6143760" y="2857680"/>
            <a:ext cx="2666880" cy="485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7"/>
          <a:stretch/>
        </p:blipFill>
        <p:spPr>
          <a:xfrm>
            <a:off x="1571760" y="3714840"/>
            <a:ext cx="809640" cy="476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3"/>
          <p:cNvSpPr/>
          <p:nvPr/>
        </p:nvSpPr>
        <p:spPr>
          <a:xfrm>
            <a:off x="1428840" y="3500280"/>
            <a:ext cx="128592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8"/>
          <a:stretch/>
        </p:blipFill>
        <p:spPr>
          <a:xfrm>
            <a:off x="6858000" y="3714840"/>
            <a:ext cx="100980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8"/>
          <p:cNvSpPr/>
          <p:nvPr/>
        </p:nvSpPr>
        <p:spPr>
          <a:xfrm>
            <a:off x="6786720" y="3500280"/>
            <a:ext cx="128556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7:06Z</dcterms:created>
  <dc:creator>Admin</dc:creator>
  <dc:description/>
  <dc:language>en-US</dc:language>
  <cp:lastModifiedBy>Admin</cp:lastModifiedBy>
  <dcterms:modified xsi:type="dcterms:W3CDTF">2004-01-01T00:17:29Z</dcterms:modified>
  <cp:revision>2</cp:revision>
  <dc:subject/>
  <dc:title>Слайд 1</dc:title>
</cp:coreProperties>
</file>