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0CC-6814-45A9-B4D0-802222ED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187-CB39-46C1-8BC0-AC7D7C6C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BDB-2D20-4A53-82CD-AB5060B2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57C-909E-4BF5-A5E6-1947189D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68C2-5FA3-49CE-B824-09A29DBF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AA26-E972-4F3D-B6AA-6436EAF6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FA8E-DB6E-4009-9FCD-94B832B7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46F3-7849-42D2-8765-D47BB661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47E3-BB42-4F49-8D77-E23FC6A7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2E91-34D7-436D-A0F9-F0DC4C06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7C12-AD4E-49BF-A6EA-349770E2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EA6-10B7-43A4-9363-FB39691B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6362-A767-4C7B-98B9-6C71BAFE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D6EE-C2C8-4640-8C53-9B6F10A3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955A-E787-4A86-AA71-545D0BA5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930D-381B-4374-B6E3-B948A549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CDFC-35F4-430E-8A54-1ADDEC55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335-33BF-4B8B-89FD-B3EFD25F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F6E-65FA-4ADB-BBEB-BD923420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C68-9005-4667-B225-5E314957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6EB-EE30-4307-958B-80062749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2E1-F799-4464-80CB-4DA2F99A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C80-3640-4C8D-9A0A-76889315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6C9-515C-4091-8D7A-C50D8000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6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dde9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5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b56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7c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b56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004E-2208-4DB0-8583-F0D5FFD484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dde9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dde9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6b56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dde9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6465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b568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27c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b56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27c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3370-DBF0-4474-8EEB-BA688EE183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38cae"/>
                </a:solidFill>
                <a:latin typeface="Times New Roman"/>
              </a:rPr>
              <a:t>Денежная реформа 1961 года</a:t>
            </a:r>
            <a:endParaRPr b="0" lang="en-US" sz="4200" spc="-1" strike="noStrike">
              <a:solidFill>
                <a:srgbClr val="46465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32000" y="1773360"/>
            <a:ext cx="38098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5b7e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525b7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525b7e"/>
                </a:solidFill>
                <a:latin typeface="Arial"/>
              </a:rPr>
              <a:t>Под руководством министра финансов СССР А.Г. Зве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5b7e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525b7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525b7e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525b7e"/>
                </a:solidFill>
                <a:latin typeface="Arial"/>
              </a:rPr>
              <a:t> увеличение денежной 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25b7e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525b7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525b7e"/>
                </a:solidFill>
                <a:latin typeface="Arial"/>
              </a:rPr>
              <a:t>Старые деньги обменены на новые по соотношению 10:1, а масштаб цен соответственно измен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1"/>
          <a:srcRect l="7189" t="17787" r="0" b="7115"/>
          <a:stretch/>
        </p:blipFill>
        <p:spPr>
          <a:xfrm>
            <a:off x="755640" y="1557360"/>
            <a:ext cx="3889440" cy="180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2"/>
          <a:srcRect l="0" t="52410" r="41851" b="23546"/>
          <a:stretch/>
        </p:blipFill>
        <p:spPr>
          <a:xfrm>
            <a:off x="755640" y="3573360"/>
            <a:ext cx="388764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2:09Z</dcterms:modified>
  <cp:revision>36</cp:revision>
  <dc:subject/>
  <dc:title>Денежные реформы России</dc:title>
</cp:coreProperties>
</file>