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4F0-1187-489B-8512-1D66848F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954-FB4D-4042-A196-EB34342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5E68-D4C0-4288-8A65-7D4C3721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903-3ED9-462E-952F-DB1C3F7E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44B6-923B-44C6-9A78-8E1CDE60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66E2-86A8-40CA-88F5-4391AAA8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C027-DD08-4753-94F0-9F184F8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D62-F906-4ACB-B39B-E5562F8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A720-D98E-4C6D-9838-D8EAC3E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0B18-455D-4EFA-9096-9B1FACD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4C52-E80C-472C-89FA-F486D5D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94E-5A50-482B-BA37-0809DAC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509-FBE8-4AFC-B085-A23FACE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BE4F-667A-45AF-B8B1-46D54B76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C5B-A43C-4FB6-88C3-423E0C98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122D-9E18-452B-AC05-D9F315A1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07E4-FBD3-459C-BED4-1EC46DE9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5E5-55FF-48E6-8F37-4FCF680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87A-6F1D-4071-9C6A-E12D342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023-DB46-4235-BA17-C318C71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67F7-7253-432B-A7F6-B9180F3C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EC2-6F73-4CB8-9D79-2D11207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D72-2FAF-4598-8476-5C48CD4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9E9-862A-40C8-832E-ABF27BF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AFB-1C71-4228-901F-A586F17FEA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b83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f4e7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d49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4e7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13f9a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83d6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490c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83d6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39C-696F-4306-9591-8CC54B6E66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Денежная реформа 1992 –1993 годов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создание новой национальной денежной системы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b83d68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В 1992 г в обращение появились банкноты Центрального банка РФ номиналом в 5000 и 10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b83d68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В 1993 г новая серия в 100, 200, 500,1000, 5000, 10000 и 50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0" t="77479" r="39526" b="0"/>
          <a:stretch/>
        </p:blipFill>
        <p:spPr>
          <a:xfrm>
            <a:off x="1042920" y="4149720"/>
            <a:ext cx="3745080" cy="1709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26964" r="39526" b="49755"/>
          <a:stretch/>
        </p:blipFill>
        <p:spPr>
          <a:xfrm>
            <a:off x="1116000" y="2133720"/>
            <a:ext cx="3600360" cy="170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Последствия </a:t>
            </a:r>
            <a:br>
              <a:rPr sz="3800"/>
            </a:br>
            <a:r>
              <a:rPr b="0" lang="ru-RU" sz="3800" spc="-1" strike="noStrike">
                <a:solidFill>
                  <a:srgbClr val="b13f9a"/>
                </a:solidFill>
                <a:latin typeface="Times New Roman"/>
              </a:rPr>
              <a:t>денежной реформы 1993 года</a:t>
            </a:r>
            <a:endParaRPr b="0" lang="en-US" sz="3800" spc="-1" strike="noStrike">
              <a:solidFill>
                <a:srgbClr val="b13f9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844640"/>
            <a:ext cx="3809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490c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Реформа не укрепила курса рубля, инфляция продолжалась, к середине 1990 годов, цены и заработная плата измерялись миллионами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b83d68"/>
                </a:solidFill>
                <a:latin typeface="Arial"/>
              </a:rPr>
              <a:t>С 1998 г осуществлялась деноминация рубля по соотношению 1000:1, срок обмена денег был установлен до 2002 года, затем продлен до 200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28365" b="73681"/>
          <a:stretch/>
        </p:blipFill>
        <p:spPr>
          <a:xfrm>
            <a:off x="826920" y="177336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rcRect l="0" t="61846" r="36459" b="4650"/>
          <a:stretch/>
        </p:blipFill>
        <p:spPr>
          <a:xfrm>
            <a:off x="755640" y="4221000"/>
            <a:ext cx="396072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1:42Z</dcterms:modified>
  <cp:revision>35</cp:revision>
  <dc:subject/>
  <dc:title>Денежные реформы России</dc:title>
</cp:coreProperties>
</file>