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ACE-0C72-428E-9BFE-4CB8124F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C42-92AD-4867-957D-263C9DF7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60E-2D2D-4E9B-BC9E-066575F7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88A-2BD1-4AEA-8591-2D363766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6B3-97E3-414E-9384-1E81CBB6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F88-FEC9-4F1D-A6EA-CFE92873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DE9-7223-4C86-8928-ADCE5542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A8A-B8EB-4242-936B-81052D3B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43D-C494-4CDA-B05F-633D0856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B1C-3457-4955-BE61-4A6B6736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6F8-F690-4C5B-991E-FCCCAD24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44D-CD5F-43EB-9170-757DC251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B201-86F0-45D7-BEA9-7CB8D0BBF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47;&#1074;&#1077;&#1088;&#1077;&#1074;&#1072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60200" y="114300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5"/>
          <a:stretch/>
        </p:blipFill>
        <p:spPr>
          <a:xfrm>
            <a:off x="1071720" y="2786040"/>
            <a:ext cx="2838240" cy="485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6"/>
          <a:stretch/>
        </p:blipFill>
        <p:spPr>
          <a:xfrm>
            <a:off x="6143760" y="2786040"/>
            <a:ext cx="2638440" cy="485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7"/>
          <a:stretch/>
        </p:blipFill>
        <p:spPr>
          <a:xfrm>
            <a:off x="1500120" y="3714840"/>
            <a:ext cx="1781280" cy="476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6"/>
          <p:cNvSpPr/>
          <p:nvPr/>
        </p:nvSpPr>
        <p:spPr>
          <a:xfrm>
            <a:off x="1428840" y="3571920"/>
            <a:ext cx="20714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8"/>
          <a:stretch/>
        </p:blipFill>
        <p:spPr>
          <a:xfrm>
            <a:off x="6357960" y="3714840"/>
            <a:ext cx="1781280" cy="476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93"/>
          <p:cNvSpPr/>
          <p:nvPr/>
        </p:nvSpPr>
        <p:spPr>
          <a:xfrm>
            <a:off x="6215040" y="3571920"/>
            <a:ext cx="20718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7:29Z</dcterms:created>
  <dc:creator>Admin</dc:creator>
  <dc:description/>
  <dc:language>en-US</dc:language>
  <cp:lastModifiedBy>Admin</cp:lastModifiedBy>
  <dcterms:modified xsi:type="dcterms:W3CDTF">2004-01-01T00:17:50Z</dcterms:modified>
  <cp:revision>2</cp:revision>
  <dc:subject/>
  <dc:title>Слайд 1</dc:title>
</cp:coreProperties>
</file>