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FC5-DC00-4CCE-AB3A-1EAE0FCC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F42-7CE8-437C-8FC6-FD9307FE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6CC-4D1A-4ED6-B983-BF904BDA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92F-8F61-444F-8B93-DC16E0CD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FFE-7F3F-4D19-BC65-8A864F65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74D-075B-45EC-B76C-81988276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E1D-7947-46B7-AE18-F5A6AFF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3132-51F4-444F-A398-1D351C96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478-B222-47EA-BF01-4FEFA41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DEF1-9DE7-4AB4-BD37-24871EF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5F2-8459-4CC4-AFBF-8494F58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984-A041-448D-B37D-2E89E7E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5783-D179-4DF5-AE80-6AC0AE1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E421-01BD-42C1-9B9D-398E26B6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C468-D749-4DE3-8C52-92AF2777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D6E-9FA0-49E5-9187-8D2AED99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5B99-E913-423D-A229-790A8346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A0F-469E-4EE7-90B2-28F685AE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795-E8DA-4414-9ABA-4B1F579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FE0-3499-4146-A35B-531CC0B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48-3AC5-4B9F-88A4-83BB6E0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6FC-68AF-4009-A469-E39512F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12A-8C3B-4C57-A311-2B8ACA4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ADF-66D6-42C3-AC29-42BB9F1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E40-28B5-4E77-8562-E57C2715CA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B67B-0557-4E6E-B4CF-BE9D9B41000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395280" y="198900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83000"/>
                  </a:srgbClr>
                </a:solidFill>
                <a:latin typeface="Arial"/>
              </a:rPr>
              <a:t>Математик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83000"/>
                </a:srgbClr>
              </a:solidFill>
              <a:latin typeface="Arial"/>
              <a:ea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6659640" y="4508640"/>
          <a:ext cx="146520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508640"/>
                    <a:ext cx="1465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1116000" y="4653000"/>
          <a:ext cx="1390680" cy="18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653000"/>
                    <a:ext cx="139068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2"/>
          <p:cNvSpPr/>
          <p:nvPr/>
        </p:nvSpPr>
        <p:spPr>
          <a:xfrm>
            <a:off x="3635280" y="497520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 Black"/>
              </a:rPr>
              <a:t>3 + 5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737360" y="6524640"/>
            <a:ext cx="63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Дробаха Ольга Владимировна, учитель начальных классов г. Мурманска, МБОУ МАЛ </a:t>
            </a: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00"/>
                </a:solidFill>
                <a:latin typeface="Comic Sans MS"/>
              </a:rPr>
              <a:t>Поиграем - посчитаем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2060640"/>
          <a:ext cx="8218440" cy="433872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110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66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11"/>
          <p:cNvSpPr/>
          <p:nvPr/>
        </p:nvSpPr>
        <p:spPr>
          <a:xfrm>
            <a:off x="324000" y="62064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А2+В2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Text Box 113"/>
          <p:cNvSpPr/>
          <p:nvPr/>
        </p:nvSpPr>
        <p:spPr>
          <a:xfrm>
            <a:off x="5940360" y="620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Б2+В3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114"/>
          <p:cNvSpPr/>
          <p:nvPr/>
        </p:nvSpPr>
        <p:spPr>
          <a:xfrm>
            <a:off x="2987640" y="620640"/>
            <a:ext cx="266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1+Б3</a:t>
            </a:r>
            <a:endParaRPr b="1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WordArt 115"/>
          <p:cNvSpPr txBox="1"/>
          <p:nvPr/>
        </p:nvSpPr>
        <p:spPr>
          <a:xfrm>
            <a:off x="755640" y="765000"/>
            <a:ext cx="79218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86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  !</a:t>
            </a:r>
            <a:endParaRPr b="1" lang="en-US" sz="4000" spc="1" strike="noStrike">
              <a:ln w="12600">
                <a:solidFill>
                  <a:srgbClr val="993300"/>
                </a:solidFill>
                <a:miter/>
              </a:ln>
              <a:solidFill>
                <a:srgbClr val="ff86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4"/>
          <p:cNvGrpSpPr/>
          <p:nvPr/>
        </p:nvGrpSpPr>
        <p:grpSpPr>
          <a:xfrm>
            <a:off x="-127080" y="907920"/>
            <a:ext cx="9469440" cy="6438960"/>
            <a:chOff x="-127080" y="907920"/>
            <a:chExt cx="9469440" cy="6438960"/>
          </a:xfrm>
        </p:grpSpPr>
        <p:sp>
          <p:nvSpPr>
            <p:cNvPr id="215" name="Freeform 20"/>
            <p:cNvSpPr/>
            <p:nvPr/>
          </p:nvSpPr>
          <p:spPr>
            <a:xfrm>
              <a:off x="-127080" y="2011320"/>
              <a:ext cx="9342360" cy="5054760"/>
            </a:xfrm>
            <a:custGeom>
              <a:avLst/>
              <a:gdLst/>
              <a:ahLst/>
              <a:rect l="l" t="t" r="r" b="b"/>
              <a:pathLst>
                <a:path w="5885" h="3184">
                  <a:moveTo>
                    <a:pt x="70" y="2074"/>
                  </a:moveTo>
                  <a:cubicBezTo>
                    <a:pt x="102" y="1968"/>
                    <a:pt x="88" y="2010"/>
                    <a:pt x="109" y="1949"/>
                  </a:cubicBezTo>
                  <a:cubicBezTo>
                    <a:pt x="116" y="1930"/>
                    <a:pt x="128" y="1891"/>
                    <a:pt x="128" y="1891"/>
                  </a:cubicBezTo>
                  <a:cubicBezTo>
                    <a:pt x="154" y="1716"/>
                    <a:pt x="147" y="1658"/>
                    <a:pt x="157" y="1421"/>
                  </a:cubicBezTo>
                  <a:cubicBezTo>
                    <a:pt x="162" y="1289"/>
                    <a:pt x="180" y="1172"/>
                    <a:pt x="272" y="1075"/>
                  </a:cubicBezTo>
                  <a:cubicBezTo>
                    <a:pt x="286" y="1035"/>
                    <a:pt x="300" y="1034"/>
                    <a:pt x="330" y="1008"/>
                  </a:cubicBezTo>
                  <a:cubicBezTo>
                    <a:pt x="398" y="949"/>
                    <a:pt x="351" y="969"/>
                    <a:pt x="406" y="951"/>
                  </a:cubicBezTo>
                  <a:cubicBezTo>
                    <a:pt x="445" y="912"/>
                    <a:pt x="405" y="946"/>
                    <a:pt x="454" y="922"/>
                  </a:cubicBezTo>
                  <a:cubicBezTo>
                    <a:pt x="464" y="917"/>
                    <a:pt x="474" y="910"/>
                    <a:pt x="483" y="903"/>
                  </a:cubicBezTo>
                  <a:cubicBezTo>
                    <a:pt x="494" y="894"/>
                    <a:pt x="500" y="880"/>
                    <a:pt x="512" y="874"/>
                  </a:cubicBezTo>
                  <a:cubicBezTo>
                    <a:pt x="527" y="867"/>
                    <a:pt x="544" y="867"/>
                    <a:pt x="560" y="864"/>
                  </a:cubicBezTo>
                  <a:cubicBezTo>
                    <a:pt x="576" y="851"/>
                    <a:pt x="591" y="837"/>
                    <a:pt x="608" y="826"/>
                  </a:cubicBezTo>
                  <a:cubicBezTo>
                    <a:pt x="620" y="818"/>
                    <a:pt x="634" y="815"/>
                    <a:pt x="646" y="807"/>
                  </a:cubicBezTo>
                  <a:cubicBezTo>
                    <a:pt x="675" y="788"/>
                    <a:pt x="688" y="770"/>
                    <a:pt x="723" y="759"/>
                  </a:cubicBezTo>
                  <a:cubicBezTo>
                    <a:pt x="742" y="746"/>
                    <a:pt x="768" y="739"/>
                    <a:pt x="781" y="720"/>
                  </a:cubicBezTo>
                  <a:cubicBezTo>
                    <a:pt x="787" y="710"/>
                    <a:pt x="791" y="698"/>
                    <a:pt x="800" y="691"/>
                  </a:cubicBezTo>
                  <a:cubicBezTo>
                    <a:pt x="808" y="685"/>
                    <a:pt x="819" y="685"/>
                    <a:pt x="829" y="682"/>
                  </a:cubicBezTo>
                  <a:cubicBezTo>
                    <a:pt x="837" y="676"/>
                    <a:pt x="917" y="609"/>
                    <a:pt x="934" y="605"/>
                  </a:cubicBezTo>
                  <a:cubicBezTo>
                    <a:pt x="1091" y="566"/>
                    <a:pt x="1256" y="569"/>
                    <a:pt x="1414" y="528"/>
                  </a:cubicBezTo>
                  <a:cubicBezTo>
                    <a:pt x="1453" y="543"/>
                    <a:pt x="1491" y="554"/>
                    <a:pt x="1530" y="567"/>
                  </a:cubicBezTo>
                  <a:cubicBezTo>
                    <a:pt x="1568" y="557"/>
                    <a:pt x="1609" y="554"/>
                    <a:pt x="1645" y="538"/>
                  </a:cubicBezTo>
                  <a:cubicBezTo>
                    <a:pt x="1704" y="512"/>
                    <a:pt x="1769" y="480"/>
                    <a:pt x="1827" y="451"/>
                  </a:cubicBezTo>
                  <a:cubicBezTo>
                    <a:pt x="1897" y="416"/>
                    <a:pt x="1813" y="450"/>
                    <a:pt x="1885" y="403"/>
                  </a:cubicBezTo>
                  <a:cubicBezTo>
                    <a:pt x="1899" y="394"/>
                    <a:pt x="1968" y="385"/>
                    <a:pt x="1971" y="384"/>
                  </a:cubicBezTo>
                  <a:cubicBezTo>
                    <a:pt x="2001" y="376"/>
                    <a:pt x="2028" y="362"/>
                    <a:pt x="2058" y="355"/>
                  </a:cubicBezTo>
                  <a:cubicBezTo>
                    <a:pt x="2071" y="352"/>
                    <a:pt x="2083" y="349"/>
                    <a:pt x="2096" y="346"/>
                  </a:cubicBezTo>
                  <a:cubicBezTo>
                    <a:pt x="2164" y="356"/>
                    <a:pt x="2171" y="362"/>
                    <a:pt x="2250" y="346"/>
                  </a:cubicBezTo>
                  <a:cubicBezTo>
                    <a:pt x="2264" y="343"/>
                    <a:pt x="2275" y="332"/>
                    <a:pt x="2288" y="327"/>
                  </a:cubicBezTo>
                  <a:cubicBezTo>
                    <a:pt x="2303" y="322"/>
                    <a:pt x="2320" y="320"/>
                    <a:pt x="2336" y="317"/>
                  </a:cubicBezTo>
                  <a:cubicBezTo>
                    <a:pt x="2390" y="282"/>
                    <a:pt x="2455" y="268"/>
                    <a:pt x="2518" y="259"/>
                  </a:cubicBezTo>
                  <a:cubicBezTo>
                    <a:pt x="2565" y="228"/>
                    <a:pt x="2603" y="225"/>
                    <a:pt x="2662" y="211"/>
                  </a:cubicBezTo>
                  <a:cubicBezTo>
                    <a:pt x="2810" y="215"/>
                    <a:pt x="3021" y="184"/>
                    <a:pt x="3171" y="259"/>
                  </a:cubicBezTo>
                  <a:cubicBezTo>
                    <a:pt x="3213" y="253"/>
                    <a:pt x="3255" y="248"/>
                    <a:pt x="3296" y="240"/>
                  </a:cubicBezTo>
                  <a:cubicBezTo>
                    <a:pt x="3359" y="228"/>
                    <a:pt x="3290" y="236"/>
                    <a:pt x="3354" y="211"/>
                  </a:cubicBezTo>
                  <a:cubicBezTo>
                    <a:pt x="3434" y="180"/>
                    <a:pt x="3521" y="160"/>
                    <a:pt x="3603" y="135"/>
                  </a:cubicBezTo>
                  <a:cubicBezTo>
                    <a:pt x="3632" y="105"/>
                    <a:pt x="3684" y="78"/>
                    <a:pt x="3728" y="77"/>
                  </a:cubicBezTo>
                  <a:cubicBezTo>
                    <a:pt x="3917" y="71"/>
                    <a:pt x="4105" y="70"/>
                    <a:pt x="4294" y="67"/>
                  </a:cubicBezTo>
                  <a:cubicBezTo>
                    <a:pt x="4361" y="41"/>
                    <a:pt x="4427" y="18"/>
                    <a:pt x="4496" y="0"/>
                  </a:cubicBezTo>
                  <a:cubicBezTo>
                    <a:pt x="4801" y="9"/>
                    <a:pt x="5094" y="32"/>
                    <a:pt x="5398" y="39"/>
                  </a:cubicBezTo>
                  <a:cubicBezTo>
                    <a:pt x="5405" y="40"/>
                    <a:pt x="5511" y="42"/>
                    <a:pt x="5542" y="58"/>
                  </a:cubicBezTo>
                  <a:cubicBezTo>
                    <a:pt x="5567" y="70"/>
                    <a:pt x="5591" y="98"/>
                    <a:pt x="5619" y="106"/>
                  </a:cubicBezTo>
                  <a:cubicBezTo>
                    <a:pt x="5664" y="119"/>
                    <a:pt x="5709" y="120"/>
                    <a:pt x="5754" y="135"/>
                  </a:cubicBezTo>
                  <a:cubicBezTo>
                    <a:pt x="5803" y="100"/>
                    <a:pt x="5818" y="119"/>
                    <a:pt x="5850" y="163"/>
                  </a:cubicBezTo>
                  <a:cubicBezTo>
                    <a:pt x="5853" y="413"/>
                    <a:pt x="5859" y="662"/>
                    <a:pt x="5859" y="912"/>
                  </a:cubicBezTo>
                  <a:cubicBezTo>
                    <a:pt x="5859" y="1094"/>
                    <a:pt x="5885" y="1327"/>
                    <a:pt x="5677" y="1392"/>
                  </a:cubicBezTo>
                  <a:cubicBezTo>
                    <a:pt x="5667" y="1389"/>
                    <a:pt x="5658" y="1383"/>
                    <a:pt x="5648" y="1383"/>
                  </a:cubicBezTo>
                  <a:cubicBezTo>
                    <a:pt x="5587" y="1386"/>
                    <a:pt x="5526" y="1391"/>
                    <a:pt x="5466" y="1402"/>
                  </a:cubicBezTo>
                  <a:cubicBezTo>
                    <a:pt x="5445" y="1406"/>
                    <a:pt x="5417" y="1448"/>
                    <a:pt x="5398" y="1459"/>
                  </a:cubicBezTo>
                  <a:cubicBezTo>
                    <a:pt x="5376" y="1472"/>
                    <a:pt x="5323" y="1511"/>
                    <a:pt x="5302" y="1517"/>
                  </a:cubicBezTo>
                  <a:cubicBezTo>
                    <a:pt x="5240" y="1536"/>
                    <a:pt x="5173" y="1531"/>
                    <a:pt x="5110" y="1546"/>
                  </a:cubicBezTo>
                  <a:cubicBezTo>
                    <a:pt x="5040" y="1562"/>
                    <a:pt x="4982" y="1576"/>
                    <a:pt x="4909" y="1584"/>
                  </a:cubicBezTo>
                  <a:cubicBezTo>
                    <a:pt x="4887" y="1592"/>
                    <a:pt x="4861" y="1589"/>
                    <a:pt x="4842" y="1603"/>
                  </a:cubicBezTo>
                  <a:cubicBezTo>
                    <a:pt x="4829" y="1612"/>
                    <a:pt x="4826" y="1633"/>
                    <a:pt x="4813" y="1642"/>
                  </a:cubicBezTo>
                  <a:cubicBezTo>
                    <a:pt x="4808" y="1645"/>
                    <a:pt x="4704" y="1678"/>
                    <a:pt x="4698" y="1680"/>
                  </a:cubicBezTo>
                  <a:cubicBezTo>
                    <a:pt x="4669" y="1708"/>
                    <a:pt x="4626" y="1725"/>
                    <a:pt x="4592" y="1747"/>
                  </a:cubicBezTo>
                  <a:cubicBezTo>
                    <a:pt x="4536" y="1783"/>
                    <a:pt x="4522" y="1830"/>
                    <a:pt x="4458" y="1853"/>
                  </a:cubicBezTo>
                  <a:cubicBezTo>
                    <a:pt x="4355" y="2006"/>
                    <a:pt x="4225" y="1985"/>
                    <a:pt x="4054" y="1997"/>
                  </a:cubicBezTo>
                  <a:cubicBezTo>
                    <a:pt x="4017" y="2022"/>
                    <a:pt x="3983" y="2027"/>
                    <a:pt x="3939" y="2035"/>
                  </a:cubicBezTo>
                  <a:cubicBezTo>
                    <a:pt x="3866" y="2085"/>
                    <a:pt x="3765" y="2100"/>
                    <a:pt x="3680" y="2122"/>
                  </a:cubicBezTo>
                  <a:cubicBezTo>
                    <a:pt x="3644" y="2132"/>
                    <a:pt x="3610" y="2149"/>
                    <a:pt x="3574" y="2160"/>
                  </a:cubicBezTo>
                  <a:cubicBezTo>
                    <a:pt x="3549" y="2179"/>
                    <a:pt x="3529" y="2211"/>
                    <a:pt x="3498" y="2218"/>
                  </a:cubicBezTo>
                  <a:cubicBezTo>
                    <a:pt x="3362" y="2249"/>
                    <a:pt x="3234" y="2296"/>
                    <a:pt x="3104" y="2343"/>
                  </a:cubicBezTo>
                  <a:cubicBezTo>
                    <a:pt x="3047" y="2363"/>
                    <a:pt x="2988" y="2379"/>
                    <a:pt x="2931" y="2400"/>
                  </a:cubicBezTo>
                  <a:cubicBezTo>
                    <a:pt x="2912" y="2407"/>
                    <a:pt x="2893" y="2413"/>
                    <a:pt x="2874" y="2419"/>
                  </a:cubicBezTo>
                  <a:cubicBezTo>
                    <a:pt x="2864" y="2422"/>
                    <a:pt x="2845" y="2429"/>
                    <a:pt x="2845" y="2429"/>
                  </a:cubicBezTo>
                  <a:cubicBezTo>
                    <a:pt x="2835" y="2439"/>
                    <a:pt x="2825" y="2447"/>
                    <a:pt x="2816" y="2458"/>
                  </a:cubicBezTo>
                  <a:cubicBezTo>
                    <a:pt x="2809" y="2467"/>
                    <a:pt x="2805" y="2478"/>
                    <a:pt x="2797" y="2487"/>
                  </a:cubicBezTo>
                  <a:cubicBezTo>
                    <a:pt x="2779" y="2507"/>
                    <a:pt x="2739" y="2544"/>
                    <a:pt x="2739" y="2544"/>
                  </a:cubicBezTo>
                  <a:cubicBezTo>
                    <a:pt x="2723" y="2595"/>
                    <a:pt x="2737" y="2566"/>
                    <a:pt x="2682" y="2621"/>
                  </a:cubicBezTo>
                  <a:cubicBezTo>
                    <a:pt x="2653" y="2679"/>
                    <a:pt x="2630" y="2740"/>
                    <a:pt x="2595" y="2794"/>
                  </a:cubicBezTo>
                  <a:cubicBezTo>
                    <a:pt x="2586" y="2823"/>
                    <a:pt x="2560" y="2880"/>
                    <a:pt x="2538" y="2899"/>
                  </a:cubicBezTo>
                  <a:cubicBezTo>
                    <a:pt x="2528" y="2908"/>
                    <a:pt x="2512" y="2906"/>
                    <a:pt x="2499" y="2909"/>
                  </a:cubicBezTo>
                  <a:cubicBezTo>
                    <a:pt x="2484" y="2956"/>
                    <a:pt x="2471" y="2948"/>
                    <a:pt x="2432" y="2976"/>
                  </a:cubicBezTo>
                  <a:cubicBezTo>
                    <a:pt x="2421" y="2984"/>
                    <a:pt x="2414" y="2997"/>
                    <a:pt x="2403" y="3005"/>
                  </a:cubicBezTo>
                  <a:cubicBezTo>
                    <a:pt x="2354" y="3043"/>
                    <a:pt x="2350" y="3041"/>
                    <a:pt x="2298" y="3063"/>
                  </a:cubicBezTo>
                  <a:cubicBezTo>
                    <a:pt x="2251" y="3109"/>
                    <a:pt x="2198" y="3110"/>
                    <a:pt x="2134" y="3120"/>
                  </a:cubicBezTo>
                  <a:cubicBezTo>
                    <a:pt x="1625" y="3116"/>
                    <a:pt x="1285" y="3184"/>
                    <a:pt x="858" y="3063"/>
                  </a:cubicBezTo>
                  <a:cubicBezTo>
                    <a:pt x="618" y="3066"/>
                    <a:pt x="378" y="3072"/>
                    <a:pt x="138" y="3072"/>
                  </a:cubicBezTo>
                  <a:cubicBezTo>
                    <a:pt x="118" y="3072"/>
                    <a:pt x="97" y="3073"/>
                    <a:pt x="80" y="3063"/>
                  </a:cubicBezTo>
                  <a:cubicBezTo>
                    <a:pt x="58" y="3049"/>
                    <a:pt x="56" y="3017"/>
                    <a:pt x="42" y="2995"/>
                  </a:cubicBezTo>
                  <a:cubicBezTo>
                    <a:pt x="32" y="2956"/>
                    <a:pt x="21" y="2926"/>
                    <a:pt x="3" y="2890"/>
                  </a:cubicBezTo>
                  <a:cubicBezTo>
                    <a:pt x="6" y="2628"/>
                    <a:pt x="0" y="2365"/>
                    <a:pt x="13" y="2103"/>
                  </a:cubicBezTo>
                  <a:cubicBezTo>
                    <a:pt x="13" y="2093"/>
                    <a:pt x="34" y="2099"/>
                    <a:pt x="42" y="2093"/>
                  </a:cubicBezTo>
                  <a:cubicBezTo>
                    <a:pt x="72" y="2072"/>
                    <a:pt x="70" y="2048"/>
                    <a:pt x="70" y="2074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aphicFrame>
          <p:nvGraphicFramePr>
            <p:cNvPr id="216" name="Object 4"/>
            <p:cNvGraphicFramePr/>
            <p:nvPr/>
          </p:nvGraphicFramePr>
          <p:xfrm>
            <a:off x="3276720" y="2565360"/>
            <a:ext cx="1873080" cy="164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2565360"/>
                      <a:ext cx="1873080" cy="16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AutoShape 6"/>
            <p:cNvSpPr/>
            <p:nvPr/>
          </p:nvSpPr>
          <p:spPr>
            <a:xfrm>
              <a:off x="324000" y="907920"/>
              <a:ext cx="2016000" cy="17067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7020000" y="3213000"/>
              <a:ext cx="936720" cy="719280"/>
            </a:xfrm>
            <a:custGeom>
              <a:avLst/>
              <a:gdLst>
                <a:gd name="textAreaLeft" fmla="*/ 136440 w 936720"/>
                <a:gd name="textAreaRight" fmla="*/ 800280 w 936720"/>
                <a:gd name="textAreaTop" fmla="*/ 104760 h 719280"/>
                <a:gd name="textAreaBottom" fmla="*/ 61452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20" name="Group 12"/>
            <p:cNvGrpSpPr/>
            <p:nvPr/>
          </p:nvGrpSpPr>
          <p:grpSpPr>
            <a:xfrm>
              <a:off x="1049040" y="5195520"/>
              <a:ext cx="901080" cy="825480"/>
              <a:chOff x="1049040" y="5195520"/>
              <a:chExt cx="901080" cy="825480"/>
            </a:xfrm>
          </p:grpSpPr>
          <p:sp>
            <p:nvSpPr>
              <p:cNvPr id="221" name="AutoShape 10"/>
              <p:cNvSpPr/>
              <p:nvPr/>
            </p:nvSpPr>
            <p:spPr>
              <a:xfrm rot="2932200">
                <a:off x="1122840" y="5586480"/>
                <a:ext cx="360360" cy="360360"/>
              </a:xfrm>
              <a:custGeom>
                <a:avLst/>
                <a:gdLst>
                  <a:gd name="textAreaLeft" fmla="*/ 74520 w 360360"/>
                  <a:gd name="textAreaRight" fmla="*/ 285840 w 360360"/>
                  <a:gd name="textAreaTop" fmla="*/ 74520 h 360360"/>
                  <a:gd name="textAreaBottom" fmla="*/ 28584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2" name="Rectangle 11"/>
              <p:cNvSpPr/>
              <p:nvPr/>
            </p:nvSpPr>
            <p:spPr>
              <a:xfrm rot="2932200">
                <a:off x="1646640" y="5111640"/>
                <a:ext cx="71640" cy="6476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23" name="Group 16"/>
            <p:cNvGrpSpPr/>
            <p:nvPr/>
          </p:nvGrpSpPr>
          <p:grpSpPr>
            <a:xfrm>
              <a:off x="755640" y="4653000"/>
              <a:ext cx="431640" cy="1295280"/>
              <a:chOff x="755640" y="4653000"/>
              <a:chExt cx="431640" cy="1295280"/>
            </a:xfrm>
          </p:grpSpPr>
          <p:sp>
            <p:nvSpPr>
              <p:cNvPr id="224" name="AutoShape 13"/>
              <p:cNvSpPr/>
              <p:nvPr/>
            </p:nvSpPr>
            <p:spPr>
              <a:xfrm>
                <a:off x="755640" y="4940280"/>
                <a:ext cx="431640" cy="576360"/>
              </a:xfrm>
              <a:prstGeom prst="can">
                <a:avLst>
                  <a:gd name="adj" fmla="val 25000"/>
                </a:avLst>
              </a:prstGeom>
              <a:solidFill>
                <a:srgbClr val="d60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25" name="AutoShape 14"/>
              <p:cNvSpPr/>
              <p:nvPr/>
            </p:nvSpPr>
            <p:spPr>
              <a:xfrm flipV="1">
                <a:off x="755640" y="4653000"/>
                <a:ext cx="431640" cy="12952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1295280"/>
                  <a:gd name="textAreaBottom" fmla="*/ 96048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476" y="15596"/>
                    </a:moveTo>
                    <a:cubicBezTo>
                      <a:pt x="18653" y="19273"/>
                      <a:pt x="14904" y="21599"/>
                      <a:pt x="10800" y="21599"/>
                    </a:cubicBezTo>
                    <a:cubicBezTo>
                      <a:pt x="6695" y="21599"/>
                      <a:pt x="2946" y="19273"/>
                      <a:pt x="1123" y="15596"/>
                    </a:cubicBezTo>
                    <a:cubicBezTo>
                      <a:pt x="2946" y="19273"/>
                      <a:pt x="6695" y="21599"/>
                      <a:pt x="10800" y="21599"/>
                    </a:cubicBezTo>
                    <a:cubicBezTo>
                      <a:pt x="14904" y="21599"/>
                      <a:pt x="18653" y="19273"/>
                      <a:pt x="20476" y="15596"/>
                    </a:cubicBezTo>
                    <a:close/>
                  </a:path>
                </a:pathLst>
              </a:custGeom>
              <a:solidFill>
                <a:srgbClr val="d60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26" name="Freeform 23"/>
            <p:cNvSpPr/>
            <p:nvPr/>
          </p:nvSpPr>
          <p:spPr>
            <a:xfrm>
              <a:off x="2233440" y="3535200"/>
              <a:ext cx="7108920" cy="3811680"/>
            </a:xfrm>
            <a:custGeom>
              <a:avLst/>
              <a:gdLst/>
              <a:ahLst/>
              <a:rect l="l" t="t" r="r" b="b"/>
              <a:pathLst>
                <a:path w="4478" h="2401">
                  <a:moveTo>
                    <a:pt x="62" y="2131"/>
                  </a:moveTo>
                  <a:cubicBezTo>
                    <a:pt x="110" y="2100"/>
                    <a:pt x="86" y="2082"/>
                    <a:pt x="129" y="2045"/>
                  </a:cubicBezTo>
                  <a:cubicBezTo>
                    <a:pt x="166" y="2014"/>
                    <a:pt x="230" y="2005"/>
                    <a:pt x="273" y="1987"/>
                  </a:cubicBezTo>
                  <a:cubicBezTo>
                    <a:pt x="340" y="1959"/>
                    <a:pt x="387" y="1921"/>
                    <a:pt x="446" y="1882"/>
                  </a:cubicBezTo>
                  <a:cubicBezTo>
                    <a:pt x="462" y="1830"/>
                    <a:pt x="519" y="1808"/>
                    <a:pt x="561" y="1776"/>
                  </a:cubicBezTo>
                  <a:cubicBezTo>
                    <a:pt x="572" y="1768"/>
                    <a:pt x="578" y="1754"/>
                    <a:pt x="590" y="1747"/>
                  </a:cubicBezTo>
                  <a:cubicBezTo>
                    <a:pt x="601" y="1741"/>
                    <a:pt x="616" y="1742"/>
                    <a:pt x="628" y="1738"/>
                  </a:cubicBezTo>
                  <a:cubicBezTo>
                    <a:pt x="689" y="1720"/>
                    <a:pt x="751" y="1701"/>
                    <a:pt x="811" y="1680"/>
                  </a:cubicBezTo>
                  <a:cubicBezTo>
                    <a:pt x="845" y="1644"/>
                    <a:pt x="927" y="1590"/>
                    <a:pt x="974" y="1575"/>
                  </a:cubicBezTo>
                  <a:cubicBezTo>
                    <a:pt x="1016" y="1546"/>
                    <a:pt x="1069" y="1531"/>
                    <a:pt x="1118" y="1517"/>
                  </a:cubicBezTo>
                  <a:cubicBezTo>
                    <a:pt x="1174" y="1501"/>
                    <a:pt x="1224" y="1474"/>
                    <a:pt x="1281" y="1459"/>
                  </a:cubicBezTo>
                  <a:cubicBezTo>
                    <a:pt x="1324" y="1396"/>
                    <a:pt x="1273" y="1459"/>
                    <a:pt x="1329" y="1421"/>
                  </a:cubicBezTo>
                  <a:cubicBezTo>
                    <a:pt x="1378" y="1388"/>
                    <a:pt x="1414" y="1339"/>
                    <a:pt x="1463" y="1306"/>
                  </a:cubicBezTo>
                  <a:cubicBezTo>
                    <a:pt x="1470" y="1293"/>
                    <a:pt x="1473" y="1277"/>
                    <a:pt x="1483" y="1267"/>
                  </a:cubicBezTo>
                  <a:cubicBezTo>
                    <a:pt x="1490" y="1260"/>
                    <a:pt x="1502" y="1262"/>
                    <a:pt x="1511" y="1258"/>
                  </a:cubicBezTo>
                  <a:cubicBezTo>
                    <a:pt x="1562" y="1233"/>
                    <a:pt x="1617" y="1213"/>
                    <a:pt x="1665" y="1181"/>
                  </a:cubicBezTo>
                  <a:cubicBezTo>
                    <a:pt x="1694" y="1137"/>
                    <a:pt x="1725" y="1137"/>
                    <a:pt x="1771" y="1114"/>
                  </a:cubicBezTo>
                  <a:cubicBezTo>
                    <a:pt x="1808" y="1095"/>
                    <a:pt x="1834" y="1076"/>
                    <a:pt x="1876" y="1066"/>
                  </a:cubicBezTo>
                  <a:cubicBezTo>
                    <a:pt x="1930" y="1031"/>
                    <a:pt x="1998" y="1018"/>
                    <a:pt x="2059" y="999"/>
                  </a:cubicBezTo>
                  <a:cubicBezTo>
                    <a:pt x="2093" y="975"/>
                    <a:pt x="2124" y="971"/>
                    <a:pt x="2164" y="960"/>
                  </a:cubicBezTo>
                  <a:cubicBezTo>
                    <a:pt x="2214" y="928"/>
                    <a:pt x="2217" y="919"/>
                    <a:pt x="2270" y="903"/>
                  </a:cubicBezTo>
                  <a:cubicBezTo>
                    <a:pt x="2295" y="895"/>
                    <a:pt x="2347" y="883"/>
                    <a:pt x="2347" y="883"/>
                  </a:cubicBezTo>
                  <a:cubicBezTo>
                    <a:pt x="2380" y="850"/>
                    <a:pt x="2398" y="847"/>
                    <a:pt x="2443" y="835"/>
                  </a:cubicBezTo>
                  <a:cubicBezTo>
                    <a:pt x="2546" y="765"/>
                    <a:pt x="2385" y="870"/>
                    <a:pt x="2510" y="807"/>
                  </a:cubicBezTo>
                  <a:cubicBezTo>
                    <a:pt x="2530" y="797"/>
                    <a:pt x="2532" y="773"/>
                    <a:pt x="2548" y="759"/>
                  </a:cubicBezTo>
                  <a:cubicBezTo>
                    <a:pt x="2577" y="735"/>
                    <a:pt x="2613" y="722"/>
                    <a:pt x="2644" y="701"/>
                  </a:cubicBezTo>
                  <a:cubicBezTo>
                    <a:pt x="2655" y="693"/>
                    <a:pt x="2662" y="680"/>
                    <a:pt x="2673" y="672"/>
                  </a:cubicBezTo>
                  <a:cubicBezTo>
                    <a:pt x="2705" y="649"/>
                    <a:pt x="2744" y="624"/>
                    <a:pt x="2779" y="605"/>
                  </a:cubicBezTo>
                  <a:cubicBezTo>
                    <a:pt x="2804" y="591"/>
                    <a:pt x="2835" y="587"/>
                    <a:pt x="2855" y="567"/>
                  </a:cubicBezTo>
                  <a:cubicBezTo>
                    <a:pt x="2916" y="506"/>
                    <a:pt x="2963" y="491"/>
                    <a:pt x="3047" y="471"/>
                  </a:cubicBezTo>
                  <a:cubicBezTo>
                    <a:pt x="3116" y="435"/>
                    <a:pt x="3193" y="415"/>
                    <a:pt x="3268" y="394"/>
                  </a:cubicBezTo>
                  <a:cubicBezTo>
                    <a:pt x="3303" y="384"/>
                    <a:pt x="3328" y="365"/>
                    <a:pt x="3364" y="355"/>
                  </a:cubicBezTo>
                  <a:cubicBezTo>
                    <a:pt x="3445" y="302"/>
                    <a:pt x="3548" y="279"/>
                    <a:pt x="3643" y="259"/>
                  </a:cubicBezTo>
                  <a:cubicBezTo>
                    <a:pt x="3702" y="219"/>
                    <a:pt x="3774" y="191"/>
                    <a:pt x="3844" y="173"/>
                  </a:cubicBezTo>
                  <a:cubicBezTo>
                    <a:pt x="3944" y="108"/>
                    <a:pt x="4096" y="114"/>
                    <a:pt x="4209" y="106"/>
                  </a:cubicBezTo>
                  <a:cubicBezTo>
                    <a:pt x="4269" y="90"/>
                    <a:pt x="4322" y="63"/>
                    <a:pt x="4382" y="48"/>
                  </a:cubicBezTo>
                  <a:cubicBezTo>
                    <a:pt x="4414" y="27"/>
                    <a:pt x="4446" y="21"/>
                    <a:pt x="4478" y="0"/>
                  </a:cubicBezTo>
                  <a:cubicBezTo>
                    <a:pt x="4464" y="64"/>
                    <a:pt x="4448" y="119"/>
                    <a:pt x="4439" y="183"/>
                  </a:cubicBezTo>
                  <a:cubicBezTo>
                    <a:pt x="4430" y="814"/>
                    <a:pt x="4450" y="619"/>
                    <a:pt x="4411" y="912"/>
                  </a:cubicBezTo>
                  <a:cubicBezTo>
                    <a:pt x="4408" y="1283"/>
                    <a:pt x="4407" y="1655"/>
                    <a:pt x="4401" y="2026"/>
                  </a:cubicBezTo>
                  <a:cubicBezTo>
                    <a:pt x="4400" y="2061"/>
                    <a:pt x="4404" y="2098"/>
                    <a:pt x="4391" y="2131"/>
                  </a:cubicBezTo>
                  <a:cubicBezTo>
                    <a:pt x="4379" y="2163"/>
                    <a:pt x="4266" y="2170"/>
                    <a:pt x="4238" y="2179"/>
                  </a:cubicBezTo>
                  <a:cubicBezTo>
                    <a:pt x="4057" y="2238"/>
                    <a:pt x="3871" y="2249"/>
                    <a:pt x="3681" y="2256"/>
                  </a:cubicBezTo>
                  <a:cubicBezTo>
                    <a:pt x="3178" y="2361"/>
                    <a:pt x="2602" y="2282"/>
                    <a:pt x="2135" y="2285"/>
                  </a:cubicBezTo>
                  <a:cubicBezTo>
                    <a:pt x="1476" y="2401"/>
                    <a:pt x="780" y="2305"/>
                    <a:pt x="110" y="2266"/>
                  </a:cubicBezTo>
                  <a:cubicBezTo>
                    <a:pt x="84" y="2263"/>
                    <a:pt x="56" y="2268"/>
                    <a:pt x="33" y="2256"/>
                  </a:cubicBezTo>
                  <a:cubicBezTo>
                    <a:pt x="15" y="2247"/>
                    <a:pt x="0" y="2189"/>
                    <a:pt x="33" y="2189"/>
                  </a:cubicBezTo>
                </a:path>
              </a:pathLst>
            </a:cu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27" name="Text Box 25"/>
          <p:cNvSpPr/>
          <p:nvPr/>
        </p:nvSpPr>
        <p:spPr>
          <a:xfrm>
            <a:off x="4284720" y="8366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 Black"/>
              </a:rPr>
              <a:t>5 + 3 + 1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8" name="Group 29"/>
          <p:cNvGrpSpPr/>
          <p:nvPr/>
        </p:nvGrpSpPr>
        <p:grpSpPr>
          <a:xfrm>
            <a:off x="684360" y="4149720"/>
            <a:ext cx="6092640" cy="2503800"/>
            <a:chOff x="684360" y="4149720"/>
            <a:chExt cx="6092640" cy="2503800"/>
          </a:xfrm>
        </p:grpSpPr>
        <p:sp>
          <p:nvSpPr>
            <p:cNvPr id="229" name="Text Box 26"/>
            <p:cNvSpPr/>
            <p:nvPr/>
          </p:nvSpPr>
          <p:spPr>
            <a:xfrm>
              <a:off x="684360" y="59500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0" name="Text Box 27"/>
            <p:cNvSpPr/>
            <p:nvPr/>
          </p:nvSpPr>
          <p:spPr>
            <a:xfrm>
              <a:off x="3661920" y="4149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1" name="Text Box 28"/>
            <p:cNvSpPr/>
            <p:nvPr/>
          </p:nvSpPr>
          <p:spPr>
            <a:xfrm>
              <a:off x="6306840" y="5283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>
    <p:strips dir="l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816200" y="66024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7720" y="69228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00"/>
                </a:solidFill>
                <a:latin typeface="Comic Sans MS"/>
              </a:rPr>
              <a:t>Чем похожи выражения?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5" name="Group 20"/>
          <p:cNvGrpSpPr/>
          <p:nvPr/>
        </p:nvGrpSpPr>
        <p:grpSpPr>
          <a:xfrm>
            <a:off x="4284720" y="4076640"/>
            <a:ext cx="2305080" cy="792360"/>
            <a:chOff x="4284720" y="4076640"/>
            <a:chExt cx="2305080" cy="792360"/>
          </a:xfrm>
        </p:grpSpPr>
        <p:pic>
          <p:nvPicPr>
            <p:cNvPr id="106" name="Picture 7" descr=""/>
            <p:cNvPicPr/>
            <p:nvPr/>
          </p:nvPicPr>
          <p:blipFill>
            <a:blip r:embed="rId1"/>
            <a:srcRect l="8781" t="48036" r="81671" b="47589"/>
            <a:stretch/>
          </p:blipFill>
          <p:spPr>
            <a:xfrm>
              <a:off x="4284720" y="4076640"/>
              <a:ext cx="23050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8"/>
            <p:cNvSpPr/>
            <p:nvPr/>
          </p:nvSpPr>
          <p:spPr>
            <a:xfrm>
              <a:off x="5222880" y="4148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1619280" y="2276640"/>
            <a:ext cx="2089080" cy="745920"/>
            <a:chOff x="1619280" y="2276640"/>
            <a:chExt cx="2089080" cy="745920"/>
          </a:xfrm>
        </p:grpSpPr>
        <p:pic>
          <p:nvPicPr>
            <p:cNvPr id="109" name="Picture 11" descr=""/>
            <p:cNvPicPr/>
            <p:nvPr/>
          </p:nvPicPr>
          <p:blipFill>
            <a:blip r:embed="rId2"/>
            <a:srcRect l="8781" t="44050" r="81213" b="51181"/>
            <a:stretch/>
          </p:blipFill>
          <p:spPr>
            <a:xfrm>
              <a:off x="1619280" y="2276640"/>
              <a:ext cx="208908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4" descr=""/>
            <p:cNvPicPr/>
            <p:nvPr/>
          </p:nvPicPr>
          <p:blipFill>
            <a:blip r:embed="rId3"/>
            <a:srcRect l="7771" t="16776" r="86417" b="68175"/>
            <a:stretch/>
          </p:blipFill>
          <p:spPr>
            <a:xfrm>
              <a:off x="1835280" y="2276640"/>
              <a:ext cx="43164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7"/>
            <p:cNvSpPr/>
            <p:nvPr/>
          </p:nvSpPr>
          <p:spPr>
            <a:xfrm>
              <a:off x="2413080" y="2276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112" name="Picture 21" descr=""/>
            <p:cNvPicPr/>
            <p:nvPr/>
          </p:nvPicPr>
          <p:blipFill>
            <a:blip r:embed="rId4"/>
            <a:srcRect l="18448" t="16739" r="75740" b="66503"/>
            <a:stretch/>
          </p:blipFill>
          <p:spPr>
            <a:xfrm>
              <a:off x="3060720" y="2276640"/>
              <a:ext cx="432000" cy="72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8"/>
          <p:cNvGrpSpPr/>
          <p:nvPr/>
        </p:nvGrpSpPr>
        <p:grpSpPr>
          <a:xfrm>
            <a:off x="611280" y="3933720"/>
            <a:ext cx="2305080" cy="746280"/>
            <a:chOff x="611280" y="3933720"/>
            <a:chExt cx="2305080" cy="746280"/>
          </a:xfrm>
        </p:grpSpPr>
        <p:pic>
          <p:nvPicPr>
            <p:cNvPr id="114" name="Picture 13" descr=""/>
            <p:cNvPicPr/>
            <p:nvPr/>
          </p:nvPicPr>
          <p:blipFill>
            <a:blip r:embed="rId5"/>
            <a:srcRect l="8781" t="44050" r="80179" b="51181"/>
            <a:stretch/>
          </p:blipFill>
          <p:spPr>
            <a:xfrm>
              <a:off x="611280" y="3933720"/>
              <a:ext cx="230508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5"/>
            <p:cNvSpPr/>
            <p:nvPr/>
          </p:nvSpPr>
          <p:spPr>
            <a:xfrm>
              <a:off x="1692360" y="3933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Text Box 24"/>
            <p:cNvSpPr/>
            <p:nvPr/>
          </p:nvSpPr>
          <p:spPr>
            <a:xfrm>
              <a:off x="2126160" y="3933720"/>
              <a:ext cx="57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II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Text Box 25"/>
            <p:cNvSpPr/>
            <p:nvPr/>
          </p:nvSpPr>
          <p:spPr>
            <a:xfrm>
              <a:off x="758160" y="393372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VII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8" name="Group 29"/>
          <p:cNvGrpSpPr/>
          <p:nvPr/>
        </p:nvGrpSpPr>
        <p:grpSpPr>
          <a:xfrm>
            <a:off x="5867280" y="5589720"/>
            <a:ext cx="2305080" cy="745920"/>
            <a:chOff x="5867280" y="5589720"/>
            <a:chExt cx="2305080" cy="745920"/>
          </a:xfrm>
        </p:grpSpPr>
        <p:pic>
          <p:nvPicPr>
            <p:cNvPr id="119" name="Picture 10" descr=""/>
            <p:cNvPicPr/>
            <p:nvPr/>
          </p:nvPicPr>
          <p:blipFill>
            <a:blip r:embed="rId6"/>
            <a:srcRect l="8781" t="44050" r="80179" b="51181"/>
            <a:stretch/>
          </p:blipFill>
          <p:spPr>
            <a:xfrm>
              <a:off x="5867280" y="5589720"/>
              <a:ext cx="230508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6589440" y="5589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6157800" y="55897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I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7093440" y="55897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IV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23" name="Group 34"/>
          <p:cNvGrpSpPr/>
          <p:nvPr/>
        </p:nvGrpSpPr>
        <p:grpSpPr>
          <a:xfrm>
            <a:off x="1692360" y="5373720"/>
            <a:ext cx="2305080" cy="745920"/>
            <a:chOff x="1692360" y="5373720"/>
            <a:chExt cx="2305080" cy="745920"/>
          </a:xfrm>
        </p:grpSpPr>
        <p:pic>
          <p:nvPicPr>
            <p:cNvPr id="124" name="Picture 23" descr=""/>
            <p:cNvPicPr/>
            <p:nvPr/>
          </p:nvPicPr>
          <p:blipFill>
            <a:blip r:embed="rId7"/>
            <a:srcRect l="8781" t="44050" r="80179" b="51181"/>
            <a:stretch/>
          </p:blipFill>
          <p:spPr>
            <a:xfrm>
              <a:off x="1692360" y="5373720"/>
              <a:ext cx="230508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8"/>
            <p:cNvSpPr/>
            <p:nvPr/>
          </p:nvSpPr>
          <p:spPr>
            <a:xfrm>
              <a:off x="2630520" y="5373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3206880" y="5373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7" name="Text Box 31"/>
            <p:cNvSpPr/>
            <p:nvPr/>
          </p:nvSpPr>
          <p:spPr>
            <a:xfrm>
              <a:off x="1982880" y="5373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28" name="Group 35"/>
          <p:cNvGrpSpPr/>
          <p:nvPr/>
        </p:nvGrpSpPr>
        <p:grpSpPr>
          <a:xfrm>
            <a:off x="5364000" y="2637000"/>
            <a:ext cx="2305080" cy="745920"/>
            <a:chOff x="5364000" y="2637000"/>
            <a:chExt cx="2305080" cy="745920"/>
          </a:xfrm>
        </p:grpSpPr>
        <p:pic>
          <p:nvPicPr>
            <p:cNvPr id="129" name="Picture 12" descr=""/>
            <p:cNvPicPr/>
            <p:nvPr/>
          </p:nvPicPr>
          <p:blipFill>
            <a:blip r:embed="rId8"/>
            <a:srcRect l="8781" t="44050" r="80179" b="51181"/>
            <a:stretch/>
          </p:blipFill>
          <p:spPr>
            <a:xfrm>
              <a:off x="5364000" y="2637000"/>
              <a:ext cx="230508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9"/>
            <p:cNvSpPr/>
            <p:nvPr/>
          </p:nvSpPr>
          <p:spPr>
            <a:xfrm>
              <a:off x="6302160" y="2637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1" name="Text Box 32"/>
            <p:cNvSpPr/>
            <p:nvPr/>
          </p:nvSpPr>
          <p:spPr>
            <a:xfrm>
              <a:off x="6878520" y="2637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5654520" y="2637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rcRect l="48588" t="33814" r="20363" b="41260"/>
          <a:stretch/>
        </p:blipFill>
        <p:spPr>
          <a:xfrm>
            <a:off x="1187280" y="2205000"/>
            <a:ext cx="6769440" cy="4048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50920" y="549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Comic Sans MS"/>
              </a:rPr>
              <a:t>Многие народы  для записи чисел применяли картинки – иероглиф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rcRect l="14044" t="29523" r="55819" b="46624"/>
          <a:stretch/>
        </p:blipFill>
        <p:spPr>
          <a:xfrm>
            <a:off x="1187280" y="2133720"/>
            <a:ext cx="6840720" cy="429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rcRect l="8781" t="32106" r="58399" b="43676"/>
          <a:stretch/>
        </p:blipFill>
        <p:spPr>
          <a:xfrm>
            <a:off x="611280" y="2060640"/>
            <a:ext cx="7921440" cy="4381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771480" y="404640"/>
            <a:ext cx="83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Comic Sans MS"/>
              </a:rPr>
              <a:t>У греков, славян возникла алфавитная нумераци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0" t="1708" r="0" b="2817"/>
          <a:stretch/>
        </p:blipFill>
        <p:spPr>
          <a:xfrm>
            <a:off x="1042920" y="2133720"/>
            <a:ext cx="7416720" cy="4103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8"/>
          <p:cNvSpPr/>
          <p:nvPr/>
        </p:nvSpPr>
        <p:spPr>
          <a:xfrm>
            <a:off x="280800" y="692280"/>
            <a:ext cx="908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00"/>
                </a:solidFill>
                <a:latin typeface="Comic Sans MS"/>
              </a:rPr>
              <a:t>В наши дни использую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84360" y="2708280"/>
            <a:ext cx="33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0000"/>
                </a:solidFill>
                <a:latin typeface="Arial"/>
              </a:rPr>
              <a:t>арабские цифры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435640" y="278136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римские цифры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39640" y="450864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Arial"/>
              </a:rPr>
              <a:t>1, 2, 3, 4, 5, 6, 7, 8, 9, 0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292720" y="450864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7777"/>
                </a:solidFill>
                <a:latin typeface="Arial"/>
              </a:rPr>
              <a:t>L, C, D, M</a:t>
            </a:r>
            <a:r>
              <a:rPr b="1" lang="ru-RU" sz="4800" spc="-1" strike="noStrike">
                <a:solidFill>
                  <a:srgbClr val="777777"/>
                </a:solidFill>
                <a:latin typeface="Arial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050920" y="1700280"/>
            <a:ext cx="287640" cy="1008000"/>
          </a:xfrm>
          <a:prstGeom prst="downArrow">
            <a:avLst>
              <a:gd name="adj1" fmla="val 50000"/>
              <a:gd name="adj2" fmla="val 8761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6443640" y="170028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00"/>
                </a:solidFill>
                <a:latin typeface="Comic Sans MS"/>
              </a:rPr>
              <a:t>римские цифры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7" name="Picture 8" descr="ИСТОРИЧЕСКИЙ ЛЕКСИКОН: 18 ВЕК"/>
          <p:cNvPicPr/>
          <p:nvPr/>
        </p:nvPicPr>
        <p:blipFill>
          <a:blip r:embed="rId1"/>
          <a:stretch/>
        </p:blipFill>
        <p:spPr>
          <a:xfrm>
            <a:off x="2124000" y="1989000"/>
            <a:ext cx="183348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Петр I у Штаба Флота"/>
          <p:cNvPicPr/>
          <p:nvPr/>
        </p:nvPicPr>
        <p:blipFill>
          <a:blip r:embed="rId2"/>
          <a:srcRect l="33094" t="16550" r="22793" b="13127"/>
          <a:stretch/>
        </p:blipFill>
        <p:spPr>
          <a:xfrm>
            <a:off x="6877080" y="1989000"/>
            <a:ext cx="1322280" cy="280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3095640" cy="154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rcRect l="25408" t="0" r="20707" b="10806"/>
          <a:stretch/>
        </p:blipFill>
        <p:spPr>
          <a:xfrm>
            <a:off x="468360" y="1916280"/>
            <a:ext cx="1311120" cy="285264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4"/>
          <p:cNvGrpSpPr/>
          <p:nvPr/>
        </p:nvGrpSpPr>
        <p:grpSpPr>
          <a:xfrm>
            <a:off x="4572000" y="1989000"/>
            <a:ext cx="2056320" cy="3537360"/>
            <a:chOff x="4572000" y="1989000"/>
            <a:chExt cx="2056320" cy="3537360"/>
          </a:xfrm>
        </p:grpSpPr>
        <p:pic>
          <p:nvPicPr>
            <p:cNvPr id="152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0" y="1989000"/>
              <a:ext cx="1728000" cy="29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3"/>
            <p:cNvSpPr/>
            <p:nvPr/>
          </p:nvSpPr>
          <p:spPr>
            <a:xfrm>
              <a:off x="4980240" y="4822920"/>
              <a:ext cx="164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20000"/>
                  </a:solidFill>
                  <a:latin typeface="Arial Black"/>
                </a:rPr>
                <a:t>Иван</a:t>
              </a:r>
              <a:r>
                <a:rPr b="1" lang="ru-RU" sz="4000" spc="-1" strike="noStrike">
                  <a:solidFill>
                    <a:srgbClr val="420000"/>
                  </a:solidFill>
                  <a:latin typeface="Arial Black"/>
                </a:rPr>
                <a:t> </a:t>
              </a:r>
              <a:r>
                <a:rPr b="1" lang="en-US" sz="2800" spc="-1" strike="noStrike">
                  <a:solidFill>
                    <a:srgbClr val="420000"/>
                  </a:solidFill>
                  <a:latin typeface="Arial Black"/>
                </a:rPr>
                <a:t>IV</a:t>
              </a:r>
              <a:endParaRPr b="1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54" name="Text Box 15"/>
          <p:cNvSpPr/>
          <p:nvPr/>
        </p:nvSpPr>
        <p:spPr>
          <a:xfrm>
            <a:off x="5003640" y="566100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 Black"/>
              </a:rPr>
              <a:t>27.XI.07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Comic Sans MS"/>
              </a:rPr>
              <a:t>Как записать числа от 1 до 10 при помощи трёх римских цифр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0920" y="213372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e0000"/>
                </a:solidFill>
                <a:latin typeface="Arial Black"/>
              </a:rPr>
              <a:t>I</a:t>
            </a:r>
            <a:r>
              <a:rPr b="1" lang="en-US" sz="6000" spc="-1" strike="noStrike">
                <a:solidFill>
                  <a:srgbClr val="993300"/>
                </a:solidFill>
                <a:latin typeface="Arial Black"/>
              </a:rPr>
              <a:t> ,  II ,  III ,  IV ,  </a:t>
            </a:r>
            <a:r>
              <a:rPr b="1" lang="en-US" sz="6000" spc="-1" strike="noStrike">
                <a:solidFill>
                  <a:srgbClr val="3e0000"/>
                </a:solidFill>
                <a:latin typeface="Arial Black"/>
              </a:rPr>
              <a:t>V</a:t>
            </a:r>
            <a:r>
              <a:rPr b="1" lang="en-US" sz="6000" spc="-1" strike="noStrike">
                <a:solidFill>
                  <a:srgbClr val="993300"/>
                </a:solidFill>
                <a:latin typeface="Arial Black"/>
              </a:rPr>
              <a:t> , 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 Black"/>
              </a:rPr>
              <a:t>VI , VII , VIII , IX , </a:t>
            </a:r>
            <a:r>
              <a:rPr b="1" lang="en-US" sz="6000" spc="-1" strike="noStrike">
                <a:solidFill>
                  <a:srgbClr val="3e0000"/>
                </a:solidFill>
                <a:latin typeface="Arial Black"/>
              </a:rPr>
              <a:t>X</a:t>
            </a:r>
            <a:r>
              <a:rPr b="1" lang="en-US" sz="6000" spc="-1" strike="noStrike">
                <a:solidFill>
                  <a:srgbClr val="993300"/>
                </a:solidFill>
                <a:latin typeface="Arial Black"/>
              </a:rPr>
              <a:t> .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826920" y="5229360"/>
            <a:ext cx="79218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86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  !</a:t>
            </a:r>
            <a:endParaRPr b="1" lang="en-US" sz="4000" spc="1" strike="noStrike">
              <a:ln w="12600">
                <a:solidFill>
                  <a:srgbClr val="993300"/>
                </a:solidFill>
                <a:miter/>
              </a:ln>
              <a:solidFill>
                <a:srgbClr val="ff86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00"/>
                </a:solidFill>
                <a:latin typeface="Comic Sans MS"/>
              </a:rPr>
              <a:t>расшифруй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59" name="Group 36"/>
          <p:cNvGrpSpPr/>
          <p:nvPr/>
        </p:nvGrpSpPr>
        <p:grpSpPr>
          <a:xfrm>
            <a:off x="468360" y="2205000"/>
            <a:ext cx="3816360" cy="1362240"/>
            <a:chOff x="468360" y="2205000"/>
            <a:chExt cx="3816360" cy="1362240"/>
          </a:xfrm>
        </p:grpSpPr>
        <p:pic>
          <p:nvPicPr>
            <p:cNvPr id="160" name="Picture 5" descr=""/>
            <p:cNvPicPr/>
            <p:nvPr/>
          </p:nvPicPr>
          <p:blipFill>
            <a:blip r:embed="rId1"/>
            <a:srcRect l="8781" t="44050" r="80179" b="51181"/>
            <a:stretch/>
          </p:blipFill>
          <p:spPr>
            <a:xfrm>
              <a:off x="468360" y="2205000"/>
              <a:ext cx="38163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6"/>
            <p:cNvSpPr/>
            <p:nvPr/>
          </p:nvSpPr>
          <p:spPr>
            <a:xfrm>
              <a:off x="2342160" y="242100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3133080" y="234792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827640" y="2347920"/>
              <a:ext cx="1438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VI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4932360" y="2205000"/>
            <a:ext cx="3816360" cy="1295280"/>
            <a:chOff x="4932360" y="2205000"/>
            <a:chExt cx="3816360" cy="1295280"/>
          </a:xfrm>
        </p:grpSpPr>
        <p:pic>
          <p:nvPicPr>
            <p:cNvPr id="165" name="Picture 10" descr=""/>
            <p:cNvPicPr/>
            <p:nvPr/>
          </p:nvPicPr>
          <p:blipFill>
            <a:blip r:embed="rId2"/>
            <a:srcRect l="8781" t="44050" r="80179" b="51181"/>
            <a:stretch/>
          </p:blipFill>
          <p:spPr>
            <a:xfrm>
              <a:off x="4932360" y="2205000"/>
              <a:ext cx="3816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1"/>
            <p:cNvSpPr/>
            <p:nvPr/>
          </p:nvSpPr>
          <p:spPr>
            <a:xfrm>
              <a:off x="6301440" y="227628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5508360" y="2276280"/>
              <a:ext cx="506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7237080" y="2276280"/>
              <a:ext cx="1112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V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4932360" y="2133720"/>
            <a:ext cx="3816360" cy="1366560"/>
            <a:chOff x="4932360" y="2133720"/>
            <a:chExt cx="3816360" cy="1366560"/>
          </a:xfrm>
        </p:grpSpPr>
        <p:pic>
          <p:nvPicPr>
            <p:cNvPr id="170" name="Picture 41" descr=""/>
            <p:cNvPicPr/>
            <p:nvPr/>
          </p:nvPicPr>
          <p:blipFill>
            <a:blip r:embed="rId3"/>
            <a:srcRect l="8781" t="44050" r="80179" b="51181"/>
            <a:stretch/>
          </p:blipFill>
          <p:spPr>
            <a:xfrm>
              <a:off x="4932360" y="2133720"/>
              <a:ext cx="381636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42"/>
            <p:cNvSpPr/>
            <p:nvPr/>
          </p:nvSpPr>
          <p:spPr>
            <a:xfrm>
              <a:off x="6374520" y="227664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5583600" y="227808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1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3" name="Text Box 44"/>
            <p:cNvSpPr/>
            <p:nvPr/>
          </p:nvSpPr>
          <p:spPr>
            <a:xfrm>
              <a:off x="7383600" y="227808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4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74" name="Group 51"/>
          <p:cNvGrpSpPr/>
          <p:nvPr/>
        </p:nvGrpSpPr>
        <p:grpSpPr>
          <a:xfrm>
            <a:off x="468360" y="2205000"/>
            <a:ext cx="3744720" cy="1366560"/>
            <a:chOff x="468360" y="2205000"/>
            <a:chExt cx="3744720" cy="1366560"/>
          </a:xfrm>
        </p:grpSpPr>
        <p:pic>
          <p:nvPicPr>
            <p:cNvPr id="175" name="Picture 47" descr=""/>
            <p:cNvPicPr/>
            <p:nvPr/>
          </p:nvPicPr>
          <p:blipFill>
            <a:blip r:embed="rId4"/>
            <a:srcRect l="8781" t="44050" r="80179" b="51181"/>
            <a:stretch/>
          </p:blipFill>
          <p:spPr>
            <a:xfrm>
              <a:off x="468360" y="2205000"/>
              <a:ext cx="374472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48"/>
            <p:cNvSpPr/>
            <p:nvPr/>
          </p:nvSpPr>
          <p:spPr>
            <a:xfrm>
              <a:off x="2054160" y="234936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1190160" y="234936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7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2989080" y="2276280"/>
              <a:ext cx="71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2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79" name="Group 57"/>
          <p:cNvGrpSpPr/>
          <p:nvPr/>
        </p:nvGrpSpPr>
        <p:grpSpPr>
          <a:xfrm>
            <a:off x="4932360" y="4437000"/>
            <a:ext cx="3816360" cy="1295280"/>
            <a:chOff x="4932360" y="4437000"/>
            <a:chExt cx="3816360" cy="1295280"/>
          </a:xfrm>
        </p:grpSpPr>
        <p:pic>
          <p:nvPicPr>
            <p:cNvPr id="180" name="Picture 53" descr=""/>
            <p:cNvPicPr/>
            <p:nvPr/>
          </p:nvPicPr>
          <p:blipFill>
            <a:blip r:embed="rId5"/>
            <a:srcRect l="8781" t="44050" r="80179" b="51181"/>
            <a:stretch/>
          </p:blipFill>
          <p:spPr>
            <a:xfrm>
              <a:off x="4932360" y="4437000"/>
              <a:ext cx="3816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54"/>
            <p:cNvSpPr/>
            <p:nvPr/>
          </p:nvSpPr>
          <p:spPr>
            <a:xfrm>
              <a:off x="6661800" y="450828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2" name="Text Box 55"/>
            <p:cNvSpPr/>
            <p:nvPr/>
          </p:nvSpPr>
          <p:spPr>
            <a:xfrm>
              <a:off x="7524720" y="4508280"/>
              <a:ext cx="506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3" name="Text Box 56"/>
            <p:cNvSpPr/>
            <p:nvPr/>
          </p:nvSpPr>
          <p:spPr>
            <a:xfrm>
              <a:off x="5436720" y="4508280"/>
              <a:ext cx="1112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V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84" name="Group 63"/>
          <p:cNvGrpSpPr/>
          <p:nvPr/>
        </p:nvGrpSpPr>
        <p:grpSpPr>
          <a:xfrm>
            <a:off x="539640" y="4365720"/>
            <a:ext cx="3816360" cy="1361880"/>
            <a:chOff x="539640" y="4365720"/>
            <a:chExt cx="3816360" cy="1361880"/>
          </a:xfrm>
        </p:grpSpPr>
        <p:pic>
          <p:nvPicPr>
            <p:cNvPr id="185" name="Picture 59" descr=""/>
            <p:cNvPicPr/>
            <p:nvPr/>
          </p:nvPicPr>
          <p:blipFill>
            <a:blip r:embed="rId6"/>
            <a:srcRect l="8781" t="44050" r="80179" b="51181"/>
            <a:stretch/>
          </p:blipFill>
          <p:spPr>
            <a:xfrm>
              <a:off x="539640" y="4365720"/>
              <a:ext cx="381636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60"/>
            <p:cNvSpPr/>
            <p:nvPr/>
          </p:nvSpPr>
          <p:spPr>
            <a:xfrm>
              <a:off x="1837080" y="450828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Text Box 61"/>
            <p:cNvSpPr/>
            <p:nvPr/>
          </p:nvSpPr>
          <p:spPr>
            <a:xfrm>
              <a:off x="972360" y="450828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I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Text Box 62"/>
            <p:cNvSpPr/>
            <p:nvPr/>
          </p:nvSpPr>
          <p:spPr>
            <a:xfrm>
              <a:off x="2556720" y="4508280"/>
              <a:ext cx="1438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VII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89" name="Group 39"/>
          <p:cNvGrpSpPr/>
          <p:nvPr/>
        </p:nvGrpSpPr>
        <p:grpSpPr>
          <a:xfrm>
            <a:off x="539640" y="4437000"/>
            <a:ext cx="3816000" cy="1368000"/>
            <a:chOff x="539640" y="4437000"/>
            <a:chExt cx="3816000" cy="1368000"/>
          </a:xfrm>
        </p:grpSpPr>
        <p:pic>
          <p:nvPicPr>
            <p:cNvPr id="190" name="Picture 20" descr=""/>
            <p:cNvPicPr/>
            <p:nvPr/>
          </p:nvPicPr>
          <p:blipFill>
            <a:blip r:embed="rId7"/>
            <a:srcRect l="8781" t="44050" r="80179" b="51181"/>
            <a:stretch/>
          </p:blipFill>
          <p:spPr>
            <a:xfrm>
              <a:off x="539640" y="4437000"/>
              <a:ext cx="3816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1"/>
            <p:cNvSpPr/>
            <p:nvPr/>
          </p:nvSpPr>
          <p:spPr>
            <a:xfrm>
              <a:off x="2155680" y="458136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3110400" y="458136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7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Text Box 23"/>
            <p:cNvSpPr/>
            <p:nvPr/>
          </p:nvSpPr>
          <p:spPr>
            <a:xfrm>
              <a:off x="1201320" y="4581360"/>
              <a:ext cx="72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2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94" name="Group 38"/>
          <p:cNvGrpSpPr/>
          <p:nvPr/>
        </p:nvGrpSpPr>
        <p:grpSpPr>
          <a:xfrm>
            <a:off x="4932360" y="4437000"/>
            <a:ext cx="3816360" cy="1366920"/>
            <a:chOff x="4932360" y="4437000"/>
            <a:chExt cx="3816360" cy="1366920"/>
          </a:xfrm>
        </p:grpSpPr>
        <p:pic>
          <p:nvPicPr>
            <p:cNvPr id="195" name="Picture 15" descr=""/>
            <p:cNvPicPr/>
            <p:nvPr/>
          </p:nvPicPr>
          <p:blipFill>
            <a:blip r:embed="rId8"/>
            <a:srcRect l="8781" t="44050" r="80179" b="51181"/>
            <a:stretch/>
          </p:blipFill>
          <p:spPr>
            <a:xfrm>
              <a:off x="4932360" y="4437000"/>
              <a:ext cx="381636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6374160" y="4579920"/>
              <a:ext cx="657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660000"/>
                  </a:solidFill>
                  <a:latin typeface="Times New Roman"/>
                </a:rPr>
                <a:t>+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7382160" y="457992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1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Text Box 18"/>
            <p:cNvSpPr/>
            <p:nvPr/>
          </p:nvSpPr>
          <p:spPr>
            <a:xfrm>
              <a:off x="5438880" y="457992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00"/>
                  </a:solidFill>
                  <a:latin typeface="Times New Roman"/>
                </a:rPr>
                <a:t>4</a:t>
              </a:r>
              <a:endParaRPr b="1" lang="en-US" sz="6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9" name="WordArt 64"/>
          <p:cNvSpPr txBox="1"/>
          <p:nvPr/>
        </p:nvSpPr>
        <p:spPr>
          <a:xfrm>
            <a:off x="755640" y="765000"/>
            <a:ext cx="79218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86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  !</a:t>
            </a:r>
            <a:endParaRPr b="1" lang="en-US" sz="4000" spc="1" strike="noStrike">
              <a:ln w="12600">
                <a:solidFill>
                  <a:srgbClr val="993300"/>
                </a:solidFill>
                <a:miter/>
              </a:ln>
              <a:solidFill>
                <a:srgbClr val="ff86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AutoShape 65"/>
          <p:cNvSpPr/>
          <p:nvPr/>
        </p:nvSpPr>
        <p:spPr>
          <a:xfrm>
            <a:off x="2124000" y="3573360"/>
            <a:ext cx="360360" cy="792360"/>
          </a:xfrm>
          <a:prstGeom prst="upDownArrow">
            <a:avLst>
              <a:gd name="adj1" fmla="val 50000"/>
              <a:gd name="adj2" fmla="val 43772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AutoShape 66"/>
          <p:cNvSpPr/>
          <p:nvPr/>
        </p:nvSpPr>
        <p:spPr>
          <a:xfrm>
            <a:off x="6516720" y="3573360"/>
            <a:ext cx="360360" cy="792360"/>
          </a:xfrm>
          <a:prstGeom prst="upDownArrow">
            <a:avLst>
              <a:gd name="adj1" fmla="val 50000"/>
              <a:gd name="adj2" fmla="val 43772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18160" y="2924280"/>
            <a:ext cx="196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999966"/>
                </a:solidFill>
                <a:latin typeface="Arial Black"/>
              </a:rPr>
              <a:t>VI</a:t>
            </a:r>
            <a:endParaRPr b="1" lang="en-US" sz="1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7347960" y="2924280"/>
            <a:ext cx="1297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666633"/>
                </a:solidFill>
                <a:latin typeface="Arial Black"/>
              </a:rPr>
              <a:t>X</a:t>
            </a:r>
            <a:endParaRPr b="1" lang="en-US" sz="1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853440" y="2924280"/>
            <a:ext cx="196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999966"/>
                </a:solidFill>
                <a:latin typeface="Arial Black"/>
              </a:rPr>
              <a:t>IV</a:t>
            </a:r>
            <a:endParaRPr b="1" lang="en-US" sz="1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354760" y="299736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993300"/>
                </a:solidFill>
                <a:latin typeface="Arial Black"/>
              </a:rPr>
              <a:t>+</a:t>
            </a:r>
            <a:endParaRPr b="1" lang="en-US" sz="15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882040" y="2997360"/>
            <a:ext cx="127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993300"/>
                </a:solidFill>
                <a:latin typeface="Arial Black"/>
              </a:rPr>
              <a:t>=</a:t>
            </a:r>
            <a:endParaRPr b="1" lang="en-US" sz="1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6:48:42Z</dcterms:created>
  <dc:creator>ольга</dc:creator>
  <dc:description/>
  <dc:language>en-US</dc:language>
  <cp:lastModifiedBy>Ольга</cp:lastModifiedBy>
  <dcterms:modified xsi:type="dcterms:W3CDTF">2025-01-07T16:53:35Z</dcterms:modified>
  <cp:revision>25</cp:revision>
  <dc:subject/>
  <dc:title>Слайд 1</dc:title>
</cp:coreProperties>
</file>