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png" ContentType="image/png"/>
  <Override PartName="/ppt/media/image12.jpeg" ContentType="image/jpeg"/>
  <Override PartName="/ppt/media/image24.jpeg" ContentType="image/jpeg"/>
  <Override PartName="/ppt/media/drumroll.wav" ContentType="audio/x-wav"/>
  <Override PartName="/ppt/media/image20.png" ContentType="image/png"/>
  <Override PartName="/ppt/media/image7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8.jpeg" ContentType="image/jpeg"/>
  <Override PartName="/ppt/media/whoosh.wav" ContentType="audio/x-wav"/>
  <Override PartName="/ppt/media/image26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laser.wav" ContentType="audio/x-wav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3.png" ContentType="image/png"/>
  <Override PartName="/ppt/media/jeopardy-wait%20long.wav" ContentType="audio/x-wav"/>
  <Override PartName="/ppt/media/image19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966-4190-415A-862E-67D374AF90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5E6-2F96-4A94-ADED-D5725CA8AD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DB8-813E-4CE2-A02A-C6E667FB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E1A-6454-48B5-A37F-387780A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C90-AD94-4606-A2C9-867E3C33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24D-CA29-49B7-937E-7C7C9AD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625F-191C-4BCA-AAE2-7A6E1624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C2DA-68FA-4079-8472-C099C5B8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40EF-3269-4DA8-81BB-F88E4233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5DCF-380E-4ECA-A7B9-F5719F4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2D50-14DF-492F-A6CC-0CCFFAA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CBD-CED4-45AD-A97F-CD92820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1DA5-B7CC-4B09-87FC-D3973FD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546-16EE-457C-A560-3202894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7E69-AC64-4239-B0DE-CB2E0D4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827-92BC-4F10-9772-8649C674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15DF-6110-4C47-8B64-EAE9E5F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506A-DB48-4021-90BB-A84BF954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BDC-E3C8-4F5E-B96B-B6BBB3CF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4E19C-2A50-4888-AC32-D14B948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66133-41CA-46C7-8623-100398F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3D863-401B-4008-ABA5-A6BDAAC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4915A-F0D1-4BFA-B859-8D172294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A4C72-2914-49EC-89EC-D6399D0D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FB5-4DC1-43B2-8DD0-BDF1FEE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13631-E49B-4D5E-8240-CA83F2C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A0FC8-BCA3-4AE6-A632-1DF1BE4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22F80-BE54-404D-BB06-40691A7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D9499-C8D0-4544-A166-648AE09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CDD77-1137-4930-89E8-DAFFE33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B88B9-82FF-4A44-BBB6-EF779845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73680-7AC5-4732-B4DA-C12A7917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CB49-421E-49AE-967A-A593517B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B506-B275-4FD0-B3F9-5BBE644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A658-7BBA-4969-9823-794E7B6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97E-BBA5-46F3-A37D-B824CF7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81D1-1975-47A4-BB31-A754593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9BD7-0B15-45CB-80A8-264E96F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A2D1-4650-4F90-B877-1D475028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4999-3671-40C5-90D8-D5F6877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7DC0-8BA2-4EF0-A87F-153EE24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3B98-D5E3-4A97-BE39-E455E54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246E-8B1F-4626-98D0-B1D409F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B638-3A3C-4F8F-8606-52872C66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DFE9-5613-45C1-9C2A-27DA01EE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30D-0741-42F8-A183-80BF8349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980-FD47-48EE-816E-39C639E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D6B-0DCA-4F0D-A5DE-CA3FF34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39F-4949-4B4C-A560-9F393F9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359-7C0E-4DC3-AA3C-0A89130B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F8E9-DC97-474B-9EEF-83F0585D2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48C-334C-4E21-BC51-8B8180353F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5ED-760E-47FA-BDAE-0C64BEBFE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9905-B444-41D9-BDEA-4CF9B1D8B8A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audio" Target="../media/jeopardy-wait%20long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3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4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9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21.xml"/><Relationship Id="rId13" Type="http://schemas.openxmlformats.org/officeDocument/2006/relationships/slide" Target="slide6.xml"/><Relationship Id="rId14" Type="http://schemas.openxmlformats.org/officeDocument/2006/relationships/slide" Target="slide10.xml"/><Relationship Id="rId15" Type="http://schemas.openxmlformats.org/officeDocument/2006/relationships/slide" Target="slide14.xml"/><Relationship Id="rId16" Type="http://schemas.openxmlformats.org/officeDocument/2006/relationships/slide" Target="slide22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34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35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g1.liveinternet.ru/images/attach/c/1/57/640/57640819_Savizkaya.jpg" TargetMode="External"/><Relationship Id="rId3" Type="http://schemas.openxmlformats.org/officeDocument/2006/relationships/hyperlink" Target="http://radikal.ua/data/upload/4efc3/fb1a9/0ba1c3a3db.jpg" TargetMode="External"/><Relationship Id="rId4" Type="http://schemas.openxmlformats.org/officeDocument/2006/relationships/hyperlink" Target="http://www.historylost.ru/uploads/posts/2011-11/1322597103_leonardo_self.jpgspletnik.ru" TargetMode="External"/><Relationship Id="rId5" Type="http://schemas.openxmlformats.org/officeDocument/2006/relationships/hyperlink" Target="http://www.rusnovosti.ru/upload/contents/312/rodnina-foto1.jpg" TargetMode="External"/><Relationship Id="rId6" Type="http://schemas.openxmlformats.org/officeDocument/2006/relationships/hyperlink" Target="http://info.sibnet.ru/ni/282/282236b.jpg" TargetMode="External"/><Relationship Id="rId7" Type="http://schemas.openxmlformats.org/officeDocument/2006/relationships/hyperlink" Target="http://www.obzor.lt/images/news/11/2011_11_25/pic8.jpg" TargetMode="External"/><Relationship Id="rId8" Type="http://schemas.openxmlformats.org/officeDocument/2006/relationships/hyperlink" Target="http://famous-news.ru/uploads/posts/2011-05/1305453653_arnold-shvarcenegger.jpg" TargetMode="External"/><Relationship Id="rId9" Type="http://schemas.openxmlformats.org/officeDocument/2006/relationships/hyperlink" Target="http://sc.tverobr.ru/dlrstore/efa0277d-50f0-4e25-b1c4-5cf21c7d71d0/Images/2.jpg" TargetMode="External"/><Relationship Id="rId10" Type="http://schemas.openxmlformats.org/officeDocument/2006/relationships/hyperlink" Target="http://chitay.net/userfiles/data/12386.jpg" TargetMode="External"/><Relationship Id="rId11" Type="http://schemas.openxmlformats.org/officeDocument/2006/relationships/hyperlink" Target="http://estb.msn.com/i/5B/C0922971D8676DFC15E6F92CC959.jpg" TargetMode="External"/><Relationship Id="rId12" Type="http://schemas.openxmlformats.org/officeDocument/2006/relationships/hyperlink" Target="http://n1s1.starhit.ru/bb/6d/dc/bb6ddca67a11567a7c178f8368f75f9e/244x323_0xc0a8391b_6354839861353593969.jpeg" TargetMode="External"/><Relationship Id="rId13" Type="http://schemas.openxmlformats.org/officeDocument/2006/relationships/hyperlink" Target="http://museumdoma.ru/wp-content/uploads/2012/10/dzek-london.jpg" TargetMode="External"/><Relationship Id="rId14" Type="http://schemas.openxmlformats.org/officeDocument/2006/relationships/hyperlink" Target="http://ruvr.ru/files/Image/Editiors/Germany/Gesellschaft/chekhov.jpg" TargetMode="External"/><Relationship Id="rId15" Type="http://schemas.openxmlformats.org/officeDocument/2006/relationships/hyperlink" Target="http://hilobrow.com/wp-content/uploads/2010/01/tolkien-pipe.jpg" TargetMode="External"/><Relationship Id="rId16" Type="http://schemas.openxmlformats.org/officeDocument/2006/relationships/hyperlink" Target="http://www.kino-teatr.ru/acter/album/115317/221343.jpg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WordArt 4"/>
          <p:cNvSpPr txBox="1"/>
          <p:nvPr/>
        </p:nvSpPr>
        <p:spPr>
          <a:xfrm>
            <a:off x="179280" y="981000"/>
            <a:ext cx="8856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mous people</a:t>
            </a:r>
            <a:endParaRPr b="0" lang="en-US" sz="40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045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Intellectual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ho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Picture 8" descr=""/>
          <p:cNvPicPr/>
          <p:nvPr/>
        </p:nvPicPr>
        <p:blipFill>
          <a:blip r:embed="rId4"/>
          <a:stretch/>
        </p:blipFill>
        <p:spPr>
          <a:xfrm>
            <a:off x="0" y="3789360"/>
            <a:ext cx="2295360" cy="306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5"/>
          <a:stretch/>
        </p:blipFill>
        <p:spPr>
          <a:xfrm>
            <a:off x="2805120" y="3895560"/>
            <a:ext cx="2109960" cy="2813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6"/>
          <a:stretch/>
        </p:blipFill>
        <p:spPr>
          <a:xfrm>
            <a:off x="7807320" y="3813120"/>
            <a:ext cx="1336680" cy="1782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"/>
          <p:cNvPicPr/>
          <p:nvPr/>
        </p:nvPicPr>
        <p:blipFill>
          <a:blip r:embed="rId7"/>
          <a:stretch/>
        </p:blipFill>
        <p:spPr>
          <a:xfrm>
            <a:off x="5707080" y="3821040"/>
            <a:ext cx="13287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Her </a:t>
            </a:r>
            <a:r>
              <a:rPr b="1" lang="it-IT" sz="4000" spc="-1" strike="noStrike">
                <a:solidFill>
                  <a:srgbClr val="660066"/>
                </a:solidFill>
                <a:latin typeface="Tahoma"/>
              </a:rPr>
              <a:t>original name is  Louise Veronica Ciccone. She acted Eva Peron in “Evita”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-1116000" y="5805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Madonn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Picture 9" descr=""/>
          <p:cNvPicPr/>
          <p:nvPr/>
        </p:nvPicPr>
        <p:blipFill>
          <a:blip r:embed="rId3"/>
          <a:stretch/>
        </p:blipFill>
        <p:spPr>
          <a:xfrm>
            <a:off x="179280" y="1916280"/>
            <a:ext cx="2565360" cy="396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4"/>
          <a:stretch/>
        </p:blipFill>
        <p:spPr>
          <a:xfrm>
            <a:off x="3708360" y="1863720"/>
            <a:ext cx="5075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108360" y="-360"/>
            <a:ext cx="950436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She was an English writer of popular books and plays, especially detective stories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-612720" y="602136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Agatha Christi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AutoShape 7">
            <a:hlinkClick r:id="rId2" action="ppaction://hlinksldjump"/>
          </p:cNvPr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3163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English writer, the linguist, the philologist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, “the father” of “The Hobbit,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Lord of the Rings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08000" y="4797360"/>
            <a:ext cx="46432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John Ronal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Reuel Tolkien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2816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Favourite Russian writer of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D. A. Medvedev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-541440" y="59500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Anton Chekhov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AutoShape 7">
            <a:hlinkClick r:id="rId2" action="ppaction://hlinksldjump"/>
          </p:cNvPr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3"/>
          <a:stretch/>
        </p:blipFill>
        <p:spPr>
          <a:xfrm>
            <a:off x="2843280" y="1484280"/>
            <a:ext cx="36925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n American writer. He wrote “Hearts of Three” and an autobiographical novel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“Martin Eden”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0" y="573408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Jack Lond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3"/>
          <a:stretch/>
        </p:blipFill>
        <p:spPr>
          <a:xfrm>
            <a:off x="4038480" y="2421000"/>
            <a:ext cx="342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0" y="5851440"/>
            <a:ext cx="65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D.A. Medvedev</a:t>
            </a: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108000" y="260280"/>
            <a:ext cx="9252000" cy="23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He has got the cat Dorofey and four dogs: two setters Jolie and Daniel, </a:t>
            </a: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golden retriever Aldu</a:t>
            </a: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 and the Central Asian sheep-do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AutoShape 15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7" descr=""/>
          <p:cNvPicPr/>
          <p:nvPr/>
        </p:nvPicPr>
        <p:blipFill>
          <a:blip r:embed="rId3"/>
          <a:stretch/>
        </p:blipFill>
        <p:spPr>
          <a:xfrm>
            <a:off x="0" y="2492280"/>
            <a:ext cx="2392200" cy="3483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8" descr=""/>
          <p:cNvPicPr/>
          <p:nvPr/>
        </p:nvPicPr>
        <p:blipFill>
          <a:blip r:embed="rId4"/>
          <a:stretch/>
        </p:blipFill>
        <p:spPr>
          <a:xfrm>
            <a:off x="2556000" y="2637000"/>
            <a:ext cx="48243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Her nickname was “ Iron Lady”.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Meryl Streep played her in the film with the same name in 2011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-684360" y="5661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Margaret Thatcher</a:t>
            </a: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4105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He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is an Austrian-American former professional bodybuilder, powerlifter, Olympic weightlifter, actor, director, businessman, investor, and politician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38th Governor of California from 2003 until 2011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0" y="53020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Arnold Schwarzeneg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3"/>
          <a:stretch/>
        </p:blipFill>
        <p:spPr>
          <a:xfrm>
            <a:off x="4727520" y="2708280"/>
            <a:ext cx="25527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He was an actor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nd later became the 40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ahoma"/>
              </a:rPr>
              <a:t>th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president of the USA 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(1981—1985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nd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1985—1989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0" y="603396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Ronald Wilson Reag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9" descr=""/>
          <p:cNvPicPr/>
          <p:nvPr/>
        </p:nvPicPr>
        <p:blipFill>
          <a:blip r:embed="rId3"/>
          <a:stretch/>
        </p:blipFill>
        <p:spPr>
          <a:xfrm>
            <a:off x="0" y="2276640"/>
            <a:ext cx="6121440" cy="3825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4"/>
          <a:stretch/>
        </p:blipFill>
        <p:spPr>
          <a:xfrm>
            <a:off x="6510240" y="2133720"/>
            <a:ext cx="26337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He is one of the richest people in the world. He founded the company Microsoft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08000" y="56610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Bill Gat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AutoShape 8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11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59770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>
            <a:hlinkClick r:id="" action="ppaction://hlinkshowjump?jump=nextslide"/>
          </p:cNvPr>
          <p:cNvSpPr/>
          <p:nvPr/>
        </p:nvSpPr>
        <p:spPr>
          <a:xfrm>
            <a:off x="395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5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ing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7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Rectangle 25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liticians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26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riters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27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7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39636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She is one of the most successful figure skaters. She has won three Olympic gold medals (1972, 1976, 1980),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10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medals of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World Championships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0" y="603396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Irina Rodnin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6">
            <a:hlinkClick r:id="rId2" action="ppaction://hlinksldjump"/>
          </p:cNvPr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2998800" cy="3816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"/>
          <p:cNvPicPr/>
          <p:nvPr/>
        </p:nvPicPr>
        <p:blipFill>
          <a:blip r:embed="rId4"/>
          <a:stretch/>
        </p:blipFill>
        <p:spPr>
          <a:xfrm>
            <a:off x="3564000" y="2492280"/>
            <a:ext cx="417672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 famous Italian painter, inventor, engineer, architect and sculptor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0" y="5805360"/>
            <a:ext cx="65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Leonardo da Vinci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6">
            <a:hlinkClick r:id="rId2" action="ppaction://hlinksldjump"/>
          </p:cNvPr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143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he second Russian woman-cosmonaut. In 1984 she became the first woman to walk in space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-252360" y="603396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Svetlana Savitskaya</a:t>
            </a:r>
            <a:r>
              <a:rPr b="1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6">
            <a:hlinkClick r:id="rId2" action="ppaction://hlinksldjump"/>
          </p:cNvPr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8" descr=""/>
          <p:cNvPicPr/>
          <p:nvPr/>
        </p:nvPicPr>
        <p:blipFill>
          <a:blip r:embed="rId3"/>
          <a:stretch/>
        </p:blipFill>
        <p:spPr>
          <a:xfrm>
            <a:off x="2987640" y="1773360"/>
            <a:ext cx="30495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3680" y="221760"/>
            <a:ext cx="860436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1880" y="223560"/>
            <a:ext cx="88153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 данной презентации использованы материалы с сайтов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img1.liveinternet.ru/images/attach/c/1/57/640/57640819_Savizkaya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radikal.ua/data/upload/4efc3/fb1a9/0ba1c3a3db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historylost.ru/uploads/posts/2011-11/1322597103_leonardo_self.jpgspletnik.ru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http://www.rusnovosti.ru/upload/contents/312/rodnina-foto1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http://info.sibnet.ru/ni/282/282236b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www.obzor.lt/images/news/11/2011_11_25/pic8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famous-news.ru/uploads/posts/2011-05/1305453653_arnold-shvarcenegger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http://sc.tverobr.ru/dlrstore/efa0277d-50f0-4e25-b1c4-5cf21c7d71d0/Images/2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http://chitay.net/userfiles/data/12386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http://estb.msn.com/i/5B/C0922971D8676DFC15E6F92CC959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http://n1s1.starhit.ru/bb/6d/dc/bb6ddca67a11567a7c178f8368f75f9e/244x323_0xc0a8391b_6354839861353593969.jpe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http://museumdoma.ru/wp-content/uploads/2012/10/dzek-london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http://ruvr.ru/files/Image/Editiors/Germany/Gesellschaft/chekhov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http://hilobrow.com/wp-content/uploads/2010/01/tolkien-pipe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http://www.kino-teatr.ru/acter/album/115317/221343.jpg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bc03.rp-online.de/polopoly_fs/us-saengermadonna-aufgenommen-18-oktob2005-ankunft-1.2148313.1318375466!/httpImage/2668663024.jpg_gen/derivatives/rpoPanorama_786/2668663024.jpg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www.israbox.com/uploads/posts/2010-10/thumbs/1287236079_madonna-evita-front.jpg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www.oldradioshows.com/photos/elvislater.jpg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static.worldclips.ru/thumbnails/Russkie/Dima%20Bilan/Live/Believe%20(Eurovision,%20Live%202008).avi/2b.jpg; http://www.turoboz.ru/cmsdb/article_images/images/beatles.jpg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wa2.cdn.3news.co.nz/3news/AM/0-Articles/218348/emma-watson_philosopher-stone_600.jpg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www.perfectlady.ru/images/article/53581-0.jpeg;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i12.photobucket.com/albums/a211/buttrockrules/homealone.jpg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forums.miamibeach411.com/attachments/f17/9337d1318710644-halloween-costumes-black-swan-1.jpg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buzzworthy.mtv.com/wp-content/uploads/2008/05/0521_ashlee_simpson_people_00.jpg; http://www.judiciaryreport.com/images/elin-woods-people-magazine-8-26-10.jpg; http://legacy-cdn.smosh.com/smosh-pit/062011/bieber-fail-10.jpg;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40458c"/>
                </a:solidFill>
                <a:latin typeface="Tahoma"/>
              </a:rPr>
              <a:t>http://www.rimel.ro/wp-content/uploads/2009/04/applegate-people-beautiful.jpg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She won Oscar in 2011 as the best actress in leading role in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“Black Swan”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468360" y="60339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Natalie Portman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10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5599080" cy="41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He became the first child actor to ever receive a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million dollars for one film. Godfather to Michael Jackson’s first child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0920" y="5877000"/>
            <a:ext cx="72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Macaulay Culk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7">
            <a:hlinkClick r:id="rId2" action="ppaction://hlinksldjump"/>
          </p:cNvPr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9" name="Picture 9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46087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He met with Vladimir Putin at the International Tiger Conversation Forum in St. Petersburg in 2010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79280" y="5805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Leonardo Di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Capr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7">
            <a:hlinkClick r:id="rId2" action="ppaction://hlinksldjump"/>
          </p:cNvPr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979640" y="1916280"/>
            <a:ext cx="4700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108000" y="189000"/>
            <a:ext cx="9252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he couldn’t cut her hair from 1999 till 2011 because of her leading role in 8 fantasy films about young wizard 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written by J. K. Rowl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mma Wat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7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10" descr=""/>
          <p:cNvPicPr/>
          <p:nvPr/>
        </p:nvPicPr>
        <p:blipFill>
          <a:blip r:embed="rId3"/>
          <a:stretch/>
        </p:blipFill>
        <p:spPr>
          <a:xfrm>
            <a:off x="1724040" y="2212920"/>
            <a:ext cx="5637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Russian singer who has won the Eurovision Song Contes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84360" y="5877000"/>
            <a:ext cx="69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Dima Bi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AutoShape 7">
            <a:hlinkClick r:id="rId2" action="ppaction://hlinksldjump"/>
          </p:cNvPr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9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7025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The most famous pop and rock band of the 1960s.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755640" y="5589720"/>
            <a:ext cx="90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The Beatles”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9">
            <a:hlinkClick r:id="rId2" action="ppaction://hlinksldjump"/>
          </p:cNvPr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96720" y="5157360"/>
            <a:ext cx="123480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0" name="Picture 9" descr="http://img.beatles.ru/f/m/18276.jpg"/>
          <p:cNvPicPr/>
          <p:nvPr/>
        </p:nvPicPr>
        <p:blipFill>
          <a:blip r:embed="rId4"/>
          <a:stretch/>
        </p:blipFill>
        <p:spPr>
          <a:xfrm>
            <a:off x="1779480" y="1463760"/>
            <a:ext cx="493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 was one of the most popular American singers of the 20th century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and </a:t>
            </a:r>
            <a:br>
              <a:rPr sz="36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King of Rock 'n' Rol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-541440" y="59500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E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lvis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P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resle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AutoShape 7">
            <a:hlinkClick r:id="rId2" action="ppaction://hlinksldjump"/>
          </p:cNvPr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9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27320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www.PHILka.RU</cp:lastModifiedBy>
  <dcterms:modified xsi:type="dcterms:W3CDTF">2018-01-03T17:42:21Z</dcterms:modified>
  <cp:revision>49</cp:revision>
  <dc:subject/>
  <dc:title>Презентация PowerPoint</dc:title>
</cp:coreProperties>
</file>