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0A3-85CB-4F1B-87C7-0116FAB2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186C-684B-416E-9792-06D0F67F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190-5211-4695-BBB4-99B19149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7E99-8E14-4023-8EF1-D3596758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EA30-4DDF-4044-8684-F1F95DE1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249C-9C9B-484C-9879-1AC992DD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6E33-29E9-48EE-8E22-98E10B6D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0FF2-AF9B-46B4-A4B5-519BAE75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6F2B-E7D5-4EC3-A220-1C6B701F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9B10-B0C0-4E45-9060-AB428511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2DCA-F99B-4AA4-83B3-D41A22C7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B0EE-F77C-4B51-9A1D-2C1B30DA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ABD3-1345-4CD7-BA33-636847DB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360E-BC3A-4565-BC3C-EECD962B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51FE-42D6-49F1-A521-F6349AA2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C8C3-0D42-4E56-9488-59320ED4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C40F-4782-49C9-AADA-9779EF9C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721-C667-4E4E-BD65-EE8138C5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3080-E830-4CBF-A5AF-B3B787A6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FEC7-8730-4B82-A12F-C438D8F6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39B5-E624-4019-B8D9-75D32153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AE51-B584-45B7-BBBA-FB5C392F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2D88-B3C6-45F7-8826-C4E9176A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AC4-46A3-45D3-80DC-7D2C7E68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12CC-4E18-41BD-B54C-C3C1F59DC3A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AF2D-B777-4BD2-B199-885588BED37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0066"/>
                </a:solidFill>
                <a:latin typeface="Georgia"/>
              </a:rPr>
              <a:t>Правильный  многоугольник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Georgia"/>
              </a:rPr>
              <a:t>МБОУ СОШ №1 р.п.Солне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Georgia"/>
              </a:rPr>
              <a:t>9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6227640" y="260280"/>
            <a:ext cx="1224000" cy="100800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7740720" y="981000"/>
            <a:ext cx="1079280" cy="1079640"/>
          </a:xfrm>
          <a:prstGeom prst="octagon">
            <a:avLst>
              <a:gd name="adj" fmla="val 29287"/>
            </a:avLst>
          </a:prstGeom>
          <a:solidFill>
            <a:srgbClr val="ff00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6659640" y="1773360"/>
            <a:ext cx="914400" cy="914400"/>
          </a:xfrm>
          <a:prstGeom prst="rect">
            <a:avLst/>
          </a:prstGeom>
          <a:solidFill>
            <a:srgbClr val="300aee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719360"/>
            <a:ext cx="8424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Georgia"/>
              </a:rPr>
              <a:t>Недостаточно овладеть премудростью, нужно также так же уметь воспользоваться е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004d"/>
                </a:solidFill>
                <a:latin typeface="Georgia"/>
              </a:rPr>
              <a:t>Цицер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j0251301"/>
          <p:cNvPicPr/>
          <p:nvPr/>
        </p:nvPicPr>
        <p:blipFill>
          <a:blip r:embed="rId1"/>
          <a:stretch/>
        </p:blipFill>
        <p:spPr>
          <a:xfrm>
            <a:off x="324000" y="154080"/>
            <a:ext cx="1944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евиз нашего урок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умать – коллектив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ешать оператив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ороться – старате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 открытия нас ждут обязате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Georgia"/>
              </a:rPr>
              <a:t>Правильный многоугольник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826920" y="1700280"/>
            <a:ext cx="1800360" cy="1368360"/>
          </a:xfrm>
          <a:prstGeom prst="triangle">
            <a:avLst>
              <a:gd name="adj" fmla="val 50000"/>
            </a:avLst>
          </a:prstGeom>
          <a:solidFill>
            <a:srgbClr val="c9fbc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604240" y="2079720"/>
            <a:ext cx="45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Правильный  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rc 6"/>
          <p:cNvSpPr/>
          <p:nvPr/>
        </p:nvSpPr>
        <p:spPr>
          <a:xfrm>
            <a:off x="1042920" y="2708280"/>
            <a:ext cx="28908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rc 8"/>
          <p:cNvSpPr/>
          <p:nvPr/>
        </p:nvSpPr>
        <p:spPr>
          <a:xfrm>
            <a:off x="1487520" y="1857240"/>
            <a:ext cx="431640" cy="285840"/>
          </a:xfrm>
          <a:custGeom>
            <a:avLst/>
            <a:gdLst/>
            <a:ahLst/>
            <a:rect l="l" t="t" r="r" b="b"/>
            <a:pathLst>
              <a:path fill="none" w="32520" h="21600">
                <a:moveTo>
                  <a:pt x="32520" y="13321"/>
                </a:moveTo>
                <a:cubicBezTo>
                  <a:pt x="28425" y="18547"/>
                  <a:pt x="22155" y="21599"/>
                  <a:pt x="15517" y="21600"/>
                </a:cubicBezTo>
                <a:cubicBezTo>
                  <a:pt x="9667" y="21600"/>
                  <a:pt x="4068" y="19227"/>
                  <a:pt x="-1" y="15026"/>
                </a:cubicBezTo>
              </a:path>
              <a:path stroke="0" w="32520" h="21600">
                <a:moveTo>
                  <a:pt x="32520" y="13321"/>
                </a:moveTo>
                <a:cubicBezTo>
                  <a:pt x="28425" y="18547"/>
                  <a:pt x="22155" y="21599"/>
                  <a:pt x="15517" y="21600"/>
                </a:cubicBezTo>
                <a:cubicBezTo>
                  <a:pt x="9667" y="21600"/>
                  <a:pt x="4068" y="19227"/>
                  <a:pt x="-1" y="15026"/>
                </a:cubicBezTo>
                <a:lnTo>
                  <a:pt x="15517" y="0"/>
                </a:lnTo>
                <a:lnTo>
                  <a:pt x="32520" y="1332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rc 9"/>
          <p:cNvSpPr/>
          <p:nvPr/>
        </p:nvSpPr>
        <p:spPr>
          <a:xfrm flipH="1">
            <a:off x="2050200" y="2637000"/>
            <a:ext cx="289080" cy="43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16923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"/>
          <p:cNvSpPr/>
          <p:nvPr/>
        </p:nvSpPr>
        <p:spPr>
          <a:xfrm>
            <a:off x="1944720" y="2278080"/>
            <a:ext cx="323640" cy="146160"/>
          </a:xfrm>
          <a:custGeom>
            <a:avLst/>
            <a:gdLst/>
            <a:ahLst/>
            <a:rect l="l" t="t" r="r" b="b"/>
            <a:pathLst>
              <a:path w="204" h="92">
                <a:moveTo>
                  <a:pt x="0" y="92"/>
                </a:moveTo>
                <a:lnTo>
                  <a:pt x="2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1116000" y="2276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900000" y="3429000"/>
            <a:ext cx="1656000" cy="1512720"/>
          </a:xfrm>
          <a:prstGeom prst="rect">
            <a:avLst/>
          </a:prstGeom>
          <a:solidFill>
            <a:srgbClr val="f2d2e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rc 14"/>
          <p:cNvSpPr/>
          <p:nvPr/>
        </p:nvSpPr>
        <p:spPr>
          <a:xfrm>
            <a:off x="900000" y="4653000"/>
            <a:ext cx="358920" cy="288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rc 16"/>
          <p:cNvSpPr/>
          <p:nvPr/>
        </p:nvSpPr>
        <p:spPr>
          <a:xfrm flipV="1">
            <a:off x="900000" y="3428280"/>
            <a:ext cx="35892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rc 18"/>
          <p:cNvSpPr/>
          <p:nvPr/>
        </p:nvSpPr>
        <p:spPr>
          <a:xfrm flipH="1" flipV="1">
            <a:off x="2194920" y="3428280"/>
            <a:ext cx="360360" cy="360360"/>
          </a:xfrm>
          <a:custGeom>
            <a:avLst/>
            <a:gdLst/>
            <a:ahLst/>
            <a:rect l="l" t="t" r="r" b="b"/>
            <a:pathLst>
              <a:path fill="none" w="21581" h="21600">
                <a:moveTo>
                  <a:pt x="-1" y="0"/>
                </a:moveTo>
                <a:cubicBezTo>
                  <a:pt x="11576" y="0"/>
                  <a:pt x="21094" y="9126"/>
                  <a:pt x="21580" y="20692"/>
                </a:cubicBezTo>
              </a:path>
              <a:path stroke="0" w="21581" h="21600">
                <a:moveTo>
                  <a:pt x="-1" y="0"/>
                </a:moveTo>
                <a:cubicBezTo>
                  <a:pt x="11576" y="0"/>
                  <a:pt x="21094" y="9126"/>
                  <a:pt x="21580" y="2069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20"/>
          <p:cNvSpPr/>
          <p:nvPr/>
        </p:nvSpPr>
        <p:spPr>
          <a:xfrm flipH="1">
            <a:off x="2194920" y="4581360"/>
            <a:ext cx="36036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>
            <a:off x="161928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>
            <a:off x="176364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6"/>
          <p:cNvSpPr/>
          <p:nvPr/>
        </p:nvSpPr>
        <p:spPr>
          <a:xfrm>
            <a:off x="755640" y="40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7"/>
          <p:cNvSpPr/>
          <p:nvPr/>
        </p:nvSpPr>
        <p:spPr>
          <a:xfrm>
            <a:off x="755640" y="42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>
            <a:off x="161928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9"/>
          <p:cNvSpPr/>
          <p:nvPr/>
        </p:nvSpPr>
        <p:spPr>
          <a:xfrm>
            <a:off x="176364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1"/>
          <p:cNvSpPr/>
          <p:nvPr/>
        </p:nvSpPr>
        <p:spPr>
          <a:xfrm>
            <a:off x="2411280" y="40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2"/>
          <p:cNvSpPr/>
          <p:nvPr/>
        </p:nvSpPr>
        <p:spPr>
          <a:xfrm>
            <a:off x="2411280" y="4221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3"/>
          <p:cNvSpPr/>
          <p:nvPr/>
        </p:nvSpPr>
        <p:spPr>
          <a:xfrm>
            <a:off x="2703600" y="3429000"/>
            <a:ext cx="54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Georgia"/>
              </a:rPr>
              <a:t>Правильный  четырех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4"/>
          <p:cNvSpPr/>
          <p:nvPr/>
        </p:nvSpPr>
        <p:spPr>
          <a:xfrm>
            <a:off x="6300720" y="4508640"/>
            <a:ext cx="2232000" cy="1873080"/>
          </a:xfrm>
          <a:prstGeom prst="hexagon">
            <a:avLst>
              <a:gd name="adj" fmla="val 29791"/>
              <a:gd name="vf" fmla="val 115470"/>
            </a:avLst>
          </a:prstGeom>
          <a:solidFill>
            <a:srgbClr val="d8eae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5"/>
          <p:cNvSpPr/>
          <p:nvPr/>
        </p:nvSpPr>
        <p:spPr>
          <a:xfrm flipH="1">
            <a:off x="6732360" y="450864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6"/>
          <p:cNvSpPr/>
          <p:nvPr/>
        </p:nvSpPr>
        <p:spPr>
          <a:xfrm>
            <a:off x="6443640" y="5229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8"/>
          <p:cNvSpPr/>
          <p:nvPr/>
        </p:nvSpPr>
        <p:spPr>
          <a:xfrm>
            <a:off x="6732720" y="6093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9"/>
          <p:cNvSpPr/>
          <p:nvPr/>
        </p:nvSpPr>
        <p:spPr>
          <a:xfrm flipV="1">
            <a:off x="7667640" y="616572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0"/>
          <p:cNvSpPr/>
          <p:nvPr/>
        </p:nvSpPr>
        <p:spPr>
          <a:xfrm>
            <a:off x="7667640" y="4508640"/>
            <a:ext cx="4334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1"/>
          <p:cNvSpPr/>
          <p:nvPr/>
        </p:nvSpPr>
        <p:spPr>
          <a:xfrm>
            <a:off x="8388360" y="5229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4"/>
          <p:cNvSpPr/>
          <p:nvPr/>
        </p:nvSpPr>
        <p:spPr>
          <a:xfrm rot="5400000">
            <a:off x="7293960" y="6323760"/>
            <a:ext cx="242640" cy="69840"/>
          </a:xfrm>
          <a:prstGeom prst="flowChartTermina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5"/>
          <p:cNvSpPr/>
          <p:nvPr/>
        </p:nvSpPr>
        <p:spPr>
          <a:xfrm>
            <a:off x="8101080" y="4941720"/>
            <a:ext cx="288720" cy="88920"/>
          </a:xfrm>
          <a:prstGeom prst="flowChartTermina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6"/>
          <p:cNvSpPr/>
          <p:nvPr/>
        </p:nvSpPr>
        <p:spPr>
          <a:xfrm>
            <a:off x="6443640" y="4941720"/>
            <a:ext cx="289080" cy="88920"/>
          </a:xfrm>
          <a:prstGeom prst="flowChartTermina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7"/>
          <p:cNvSpPr/>
          <p:nvPr/>
        </p:nvSpPr>
        <p:spPr>
          <a:xfrm>
            <a:off x="6443640" y="5877000"/>
            <a:ext cx="289080" cy="88920"/>
          </a:xfrm>
          <a:prstGeom prst="flowChartTermina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8"/>
          <p:cNvSpPr/>
          <p:nvPr/>
        </p:nvSpPr>
        <p:spPr>
          <a:xfrm rot="5150400">
            <a:off x="7293600" y="4452120"/>
            <a:ext cx="242640" cy="69840"/>
          </a:xfrm>
          <a:prstGeom prst="flowChartTermina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9"/>
          <p:cNvSpPr/>
          <p:nvPr/>
        </p:nvSpPr>
        <p:spPr>
          <a:xfrm>
            <a:off x="8101080" y="5877000"/>
            <a:ext cx="287280" cy="88920"/>
          </a:xfrm>
          <a:prstGeom prst="flowChartTermina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0"/>
          <p:cNvSpPr/>
          <p:nvPr/>
        </p:nvSpPr>
        <p:spPr>
          <a:xfrm>
            <a:off x="3745080" y="4076640"/>
            <a:ext cx="281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00aee"/>
                </a:solidFill>
                <a:latin typeface="Georgia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00aee"/>
                </a:solidFill>
                <a:latin typeface="Georgia"/>
              </a:rPr>
              <a:t>шести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1"/>
          <p:cNvSpPr/>
          <p:nvPr/>
        </p:nvSpPr>
        <p:spPr>
          <a:xfrm>
            <a:off x="179280" y="5157720"/>
            <a:ext cx="5977080" cy="151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авильным  многоугольн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зывается выпук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ногоугольник,  у которого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вны и все стороны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753264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Georgia"/>
              </a:rPr>
              <a:t>Выберите  правильное  утверждение.</a:t>
            </a:r>
            <a:br>
              <a:rPr sz="3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1.  </a:t>
            </a:r>
            <a:r>
              <a:rPr b="1" i="1" lang="ru-RU" sz="2400" spc="-1" strike="noStrike">
                <a:solidFill>
                  <a:srgbClr val="330066"/>
                </a:solidFill>
                <a:latin typeface="Georgia"/>
              </a:rPr>
              <a:t>Многоугольник  является   правильным,  если  он  выпуклый  и  все  его  стороны 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d031d"/>
                </a:solidFill>
                <a:latin typeface="Georgia"/>
              </a:rPr>
              <a:t>2.  </a:t>
            </a:r>
            <a:r>
              <a:rPr b="1" i="1" lang="ru-RU" sz="2400" spc="-1" strike="noStrike">
                <a:solidFill>
                  <a:srgbClr val="663526"/>
                </a:solidFill>
                <a:latin typeface="Georgia"/>
              </a:rPr>
              <a:t>Любой  равносторонний  треугольник  является  прави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c10d"/>
                </a:solidFill>
                <a:latin typeface="Georgia"/>
              </a:rPr>
              <a:t>3.  </a:t>
            </a:r>
            <a:r>
              <a:rPr b="1" i="1" lang="ru-RU" sz="2400" spc="-1" strike="noStrike">
                <a:solidFill>
                  <a:srgbClr val="36632d"/>
                </a:solidFill>
                <a:latin typeface="Georgia"/>
              </a:rPr>
              <a:t>Любой  четырехугольник  с  равными  сторонами  является  прави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1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2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1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8713800" cy="17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eorgia"/>
              </a:rPr>
              <a:t>Как вы думаете,  какие  геометрические  фигуры, показанные  на  рисунке, являются  правильными многоугольниками?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Georgia"/>
              </a:rPr>
              <a:t>Почему указанные  многоугольники правильн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755640" y="3141720"/>
            <a:ext cx="1800360" cy="792000"/>
          </a:xfrm>
          <a:custGeom>
            <a:avLst/>
            <a:gdLst>
              <a:gd name="textAreaLeft" fmla="*/ 375120 w 1800360"/>
              <a:gd name="textAreaRight" fmla="*/ 1425240 w 1800360"/>
              <a:gd name="textAreaTop" fmla="*/ 164880 h 792000"/>
              <a:gd name="textAreaBottom" fmla="*/ 62712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5197320" y="3309840"/>
            <a:ext cx="2881440" cy="647640"/>
          </a:xfrm>
          <a:prstGeom prst="parallelogram">
            <a:avLst>
              <a:gd name="adj" fmla="val 113988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7308720" y="5013360"/>
            <a:ext cx="1657440" cy="1224000"/>
          </a:xfrm>
          <a:prstGeom prst="plus">
            <a:avLst>
              <a:gd name="adj" fmla="val 250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5292720" y="5661000"/>
            <a:ext cx="1081080" cy="1008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4859280" y="4437000"/>
            <a:ext cx="1944720" cy="720720"/>
          </a:xfrm>
          <a:prstGeom prst="pentagon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4"/>
          <p:cNvSpPr/>
          <p:nvPr/>
        </p:nvSpPr>
        <p:spPr>
          <a:xfrm>
            <a:off x="1692360" y="4221000"/>
            <a:ext cx="1439640" cy="1297080"/>
          </a:xfrm>
          <a:custGeom>
            <a:avLst/>
            <a:gdLst/>
            <a:ahLst/>
            <a:rect l="l" t="t" r="r" b="b"/>
            <a:pathLst>
              <a:path w="1439863" h="1296987">
                <a:moveTo>
                  <a:pt x="2" y="495404"/>
                </a:moveTo>
                <a:lnTo>
                  <a:pt x="549982" y="495407"/>
                </a:lnTo>
                <a:lnTo>
                  <a:pt x="719932" y="0"/>
                </a:lnTo>
                <a:lnTo>
                  <a:pt x="889881" y="495407"/>
                </a:lnTo>
                <a:lnTo>
                  <a:pt x="1439861" y="495404"/>
                </a:lnTo>
                <a:lnTo>
                  <a:pt x="994916" y="801579"/>
                </a:lnTo>
                <a:lnTo>
                  <a:pt x="1164873" y="1296984"/>
                </a:lnTo>
                <a:lnTo>
                  <a:pt x="719932" y="990803"/>
                </a:lnTo>
                <a:lnTo>
                  <a:pt x="274990" y="1296984"/>
                </a:lnTo>
                <a:lnTo>
                  <a:pt x="444947" y="801579"/>
                </a:lnTo>
                <a:lnTo>
                  <a:pt x="2" y="495404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5"/>
          <p:cNvSpPr/>
          <p:nvPr/>
        </p:nvSpPr>
        <p:spPr>
          <a:xfrm>
            <a:off x="2987640" y="5157720"/>
            <a:ext cx="1440000" cy="136836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6"/>
          <p:cNvSpPr/>
          <p:nvPr/>
        </p:nvSpPr>
        <p:spPr>
          <a:xfrm>
            <a:off x="2843280" y="2997360"/>
            <a:ext cx="1438200" cy="12236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7"/>
          <p:cNvSpPr/>
          <p:nvPr/>
        </p:nvSpPr>
        <p:spPr>
          <a:xfrm>
            <a:off x="179280" y="5157720"/>
            <a:ext cx="1440000" cy="144000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605880" y="3573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6387480" y="57340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1562760" y="4869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7615440" y="285264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4654440" y="4221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1474200" y="625644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8394840" y="4437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5"/>
          <p:cNvSpPr/>
          <p:nvPr/>
        </p:nvSpPr>
        <p:spPr>
          <a:xfrm>
            <a:off x="3803040" y="2997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6"/>
          <p:cNvSpPr/>
          <p:nvPr/>
        </p:nvSpPr>
        <p:spPr>
          <a:xfrm>
            <a:off x="4014000" y="6093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3840"/>
                            </p:stCondLst>
                            <p:childTnLst>
                              <p:par>
                                <p:cTn id="2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4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8240"/>
                            </p:stCondLst>
                            <p:childTnLst>
                              <p:par>
                                <p:cTn id="2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44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2640"/>
                            </p:stCondLst>
                            <p:childTnLst>
                              <p:par>
                                <p:cTn id="2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4840"/>
                            </p:stCondLst>
                            <p:childTnLst>
                              <p:par>
                                <p:cTn id="3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7040"/>
                            </p:stCondLst>
                            <p:childTnLst>
                              <p:par>
                                <p:cTn id="3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9240"/>
                            </p:stCondLst>
                            <p:childTnLst>
                              <p:par>
                                <p:cTn id="3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1440"/>
                            </p:stCondLst>
                            <p:childTnLst>
                              <p:par>
                                <p:cTn id="3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34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34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35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35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Задачи урок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Научиться применять определение правильного многоугольника, формулы нахождения площади, стороны и радиуса вписанного и описанного многоугольн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Домашнее  задание:</a:t>
            </a:r>
            <a:br>
              <a:rPr sz="2800"/>
            </a:br>
            <a:r>
              <a:rPr b="1" i="1" lang="ru-RU" sz="2800" spc="-1" strike="noStrike">
                <a:solidFill>
                  <a:srgbClr val="330066"/>
                </a:solidFill>
                <a:latin typeface="Georgia"/>
              </a:rPr>
              <a:t>при помощи циркуля и линейки изобразить правильный шестиугольник.</a:t>
            </a:r>
            <a:br>
              <a:rPr sz="32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781360"/>
            <a:ext cx="8229600" cy="33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.105,  №№ 1087(3 строка);  1094(а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тор Л.С.Атанася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05:40:09Z</dcterms:created>
  <dc:creator>Марина</dc:creator>
  <dc:description/>
  <dc:language>en-US</dc:language>
  <cp:lastModifiedBy>Admin</cp:lastModifiedBy>
  <dcterms:modified xsi:type="dcterms:W3CDTF">2019-03-15T15:01:51Z</dcterms:modified>
  <cp:revision>15</cp:revision>
  <dc:subject/>
  <dc:title>Слайд 1</dc:title>
</cp:coreProperties>
</file>