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6.png" ContentType="image/png"/>
  <Override PartName="/ppt/media/image17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45.jpeg" ContentType="image/jpeg"/>
  <Override PartName="/ppt/media/image30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6.png" ContentType="image/png"/>
  <Override PartName="/ppt/media/image37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8.jpeg" ContentType="image/jpeg"/>
  <Override PartName="/ppt/media/image7.jpeg" ContentType="image/jpeg"/>
  <Override PartName="/ppt/media/image2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CCB1-51B2-4B70-95D6-19F48A9C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74F-EEF8-4A53-B136-13088C1B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2BC0-B8C0-4CC9-A5DD-659357F2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5E0D-30A2-4A90-8F22-6060523A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CF36-FF73-46DA-8A4B-415F08A6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CED1-0AEF-4101-A066-FDEBD6FF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B95B-2059-4E25-A48B-DE55E4DF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4160-32A7-4BB8-B3A1-E1FCB251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1A5A-804C-4992-A076-CDE9F1EB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3B23-BD81-48CE-9145-652215A1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F513-38EF-4E7A-BD51-AE8D93EF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C39D-BEE9-4718-BBE5-7BEBE7E4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CCC8-7091-4761-96DA-87309F2B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3AF1-9F9E-4814-AD2F-FCA02D94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062E-5963-43B9-BC3C-4AA3A24A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6241-A89C-40E5-8710-C58D3C48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76C4-0E1B-4C42-A9A3-3FCD0381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0F5-E36F-4467-9060-1130F6BB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7C83-DC3E-41BE-AADA-681136DF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6DD-239D-4D45-9384-8A2C0989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99E-246A-47CF-9680-AF05E301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07DB-E343-44B7-A7B0-F818D5AD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849-4BD8-44C6-AD67-0CA8CF00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055-87CB-4B10-B1FB-A0A804F0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4732-AC23-4413-8770-05244CC7C5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82E5-93E5-4BE6-A631-C6749D674305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539640" y="2492280"/>
            <a:ext cx="81756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Сибирь традициями пол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«Помочи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В случае, когда крестьянская семья не могла одна справиться с выполнением большой работы, она приглашала на помощь всех желающих. Семья заранее готовила угощение и все, что потребуется для коллектив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а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лщовая скатерть – стелилась после работы даже в бедных домах. Скатерть расстилали даже ради одной картош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язательно ели щ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ронить и не поднять кусок хлеба считалось грехом, оставлять его недоеденным, выходить из-за стола раньше времени тоже не полагалос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блюдение времени между завтраком, обедом, паужной и ужин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хождение в новый дом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риметы связанные с переездом и домом в настоящее время немного утратили свою актуальность, и многие уже не помнят о традициях и обычаях наших далеких предков, связанных именно с приметами и новым дом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ыча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ускают кота в д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 входной дверью вешают подков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 порог кладут нож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входе в дом нужно бросить на пол несколько серебряных мон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въезда провести уборку новой кварти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метить новосель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обряды.avi" descr=""/>
          <p:cNvPicPr/>
          <p:nvPr/>
        </p:nvPicPr>
        <p:blipFill>
          <a:blip r:embed="rId1"/>
          <a:stretch/>
        </p:blipFill>
        <p:spPr>
          <a:xfrm>
            <a:off x="1176480" y="70164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асх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Древнейший христианский праздник, главный праздник богослужебного года. Установлен в честь воскресения Иисуса Христа. В настоящее время его дата в каждый конкретный год исчисляется по лунно-солнечному календар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а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иная с пасхальной ночи и последующие сорок дней (до отдания Пасхи) принято христосоваться, то есть приветствовать друг друга словами: «Христос воскресье!» — «Воистину воскресье!», при этом троекратно целуяс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схальные ручь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схальный огон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схальные куличи, яйца и кроли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ородские тради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3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9 Ма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ция «Георгиевская ленточ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одские митинг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здничные вечера посвящённые дню Побе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2514600" y="228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Arial"/>
              </a:rPr>
              <a:t>Городские митинг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5105520" y="1447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ествия, митин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3"/>
          <a:stretch/>
        </p:blipFill>
        <p:spPr>
          <a:xfrm>
            <a:off x="0" y="3446640"/>
            <a:ext cx="4724280" cy="34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Церемония вручения паспортов гражданина РФ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5" name="Picture 4" descr="C:\Documents and Settings\Loner\Рабочий стол\Новая папка\in_57.JPG"/>
          <p:cNvPicPr/>
          <p:nvPr/>
        </p:nvPicPr>
        <p:blipFill>
          <a:blip r:embed="rId1"/>
          <a:stretch/>
        </p:blipFill>
        <p:spPr>
          <a:xfrm>
            <a:off x="380880" y="1752480"/>
            <a:ext cx="4038840" cy="2705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:\Documents and Settings\Loner\Рабочий стол\Новая папка\in_58.JPG"/>
          <p:cNvPicPr/>
          <p:nvPr/>
        </p:nvPicPr>
        <p:blipFill>
          <a:blip r:embed="rId2"/>
          <a:stretch/>
        </p:blipFill>
        <p:spPr>
          <a:xfrm>
            <a:off x="4419720" y="3505320"/>
            <a:ext cx="44956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2949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День призывник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3257640"/>
            <a:ext cx="4876920" cy="360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303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4876920" y="3276720"/>
            <a:ext cx="42670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Объединив ассоциации, возникшие у людей при слове «Сибирь» получили 5 основных блоков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Природно-климатические (49,9% от всех ответов): суровый климат, холод, мороз, зима, сугробы, снеговик, реки, нефть, медведи, комары, санки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Личностно-психологические (19%): Родина, родной край, дом, моя жизнь, романтика, тишина, сила, хорошие люди, Ф.М. Достоевский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Географические (13,8%) обширная территория, часть Азии, глубинка, окраина, Енисей, Красноярск, Омск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Исторические ( 8,9%) ссылка, тюрьма, каторга, Ермак, казаки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Этнокультурные (8,4%) аборигены, русские, татары, баня, варежки, кедровые орехи, песни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День защитника отечеств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4572000" y="3733920"/>
            <a:ext cx="4419720" cy="291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Loner\Рабочий стол\Новая папка\21729_52606.jpg"/>
          <p:cNvPicPr/>
          <p:nvPr/>
        </p:nvPicPr>
        <p:blipFill>
          <a:blip r:embed="rId2"/>
          <a:stretch/>
        </p:blipFill>
        <p:spPr>
          <a:xfrm>
            <a:off x="380880" y="17524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асленица-неделя радост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недельник- встреча маслениц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торник- весёлые заигрыши, катание на ледяных горк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а- Лаком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тверг- разгуляй- взятие снежного город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ятница- «К тёще на блин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ббота- Золовкины посидел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кресенье- «Проводы широкой маслениц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C:\Documents and Settings\Loner\Рабочий стол\Новая папка\dc2f0ae675bd.jpg"/>
          <p:cNvPicPr/>
          <p:nvPr/>
        </p:nvPicPr>
        <p:blipFill>
          <a:blip r:embed="rId2"/>
          <a:stretch/>
        </p:blipFill>
        <p:spPr>
          <a:xfrm>
            <a:off x="3809880" y="0"/>
            <a:ext cx="5334120" cy="2819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C:\Documents and Settings\Loner\Рабочий стол\Новая папка\456462.jpg"/>
          <p:cNvPicPr/>
          <p:nvPr/>
        </p:nvPicPr>
        <p:blipFill>
          <a:blip r:embed="rId3"/>
          <a:stretch/>
        </p:blipFill>
        <p:spPr>
          <a:xfrm>
            <a:off x="3809880" y="2860560"/>
            <a:ext cx="5334120" cy="3997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C:\Documents and Settings\Loner\Рабочий стол\Новая папка\1298852292_1298803489_83230883_resize.jpg"/>
          <p:cNvPicPr/>
          <p:nvPr/>
        </p:nvPicPr>
        <p:blipFill>
          <a:blip r:embed="rId4"/>
          <a:stretch/>
        </p:blipFill>
        <p:spPr>
          <a:xfrm>
            <a:off x="0" y="3429000"/>
            <a:ext cx="38098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День город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5372280" y="1600200"/>
            <a:ext cx="3771720" cy="5029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0" y="2286000"/>
            <a:ext cx="5334120" cy="35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Новогодние и рождественские праздник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4038480" y="302904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3124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C:\Documents and Settings\Loner\Рабочий стол\Новая папка\600684423.jpg"/>
          <p:cNvPicPr/>
          <p:nvPr/>
        </p:nvPicPr>
        <p:blipFill>
          <a:blip r:embed="rId3"/>
          <a:stretch/>
        </p:blipFill>
        <p:spPr>
          <a:xfrm>
            <a:off x="0" y="0"/>
            <a:ext cx="4038480" cy="4419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C:\Documents and Settings\Loner\Рабочий стол\Новая папка\830652932.jpg"/>
          <p:cNvPicPr/>
          <p:nvPr/>
        </p:nvPicPr>
        <p:blipFill>
          <a:blip r:embed="rId4"/>
          <a:stretch/>
        </p:blipFill>
        <p:spPr>
          <a:xfrm>
            <a:off x="0" y="3809880"/>
            <a:ext cx="40384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День Матер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5" name="Picture 4" descr="C:\Documents and Settings\Loner\Рабочий стол\Новая папка\s6301833.jpg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41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21932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абантуй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0" y="3481560"/>
            <a:ext cx="4800600" cy="3376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4495680" y="380880"/>
            <a:ext cx="4648320" cy="3084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Школьные тради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71" name="11Б.avi" descr=""/>
          <p:cNvPicPr/>
          <p:nvPr/>
        </p:nvPicPr>
        <p:blipFill>
          <a:blip r:embed="rId1"/>
          <a:stretch/>
        </p:blipFill>
        <p:spPr>
          <a:xfrm>
            <a:off x="1214280" y="107172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«Сибиряк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86 – 1988 гг. сибиряками назвали себя 15 % опроше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94 г. –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начал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. – 32% опроше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2005 г. – 5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стоящее время 80% опрошенных считают себя сибиряками, т.к родились и живут в Сибири, обладают сибирским характером и любят свою малую роди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ие на вопрос «Как бы Вы себя назвали» отвечали: «сибирячка, россиянка», «чисто русская сибирячка», «сибирский казак»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енное влияние на формирование образа сибиряка оказало казаче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емейные тради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73" name="Picture 2" descr="D:\с диска с\Фотографии\семейная фотосессия\IMG_4912.jpg"/>
          <p:cNvPicPr/>
          <p:nvPr/>
        </p:nvPicPr>
        <p:blipFill>
          <a:blip r:embed="rId1"/>
          <a:stretch/>
        </p:blipFill>
        <p:spPr>
          <a:xfrm>
            <a:off x="1143000" y="1857240"/>
            <a:ext cx="6715080" cy="48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шей семье в этом году 20 лет. За это время у нас появилось большое количество различных традиций. Каждый праздник мы отмечаем по своему: Новый год, День рождения, Пасха, рождение семьи и даже поход в бан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 больше всего я люблю Новый год и субботние вечера после ба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D:\с диска с\Фотографии\Мамин юбилей 2010\P1010326.JPG"/>
          <p:cNvPicPr/>
          <p:nvPr/>
        </p:nvPicPr>
        <p:blipFill>
          <a:blip r:embed="rId1"/>
          <a:stretch/>
        </p:blipFill>
        <p:spPr>
          <a:xfrm>
            <a:off x="2214720" y="412596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D:\с диска с\Фотографии\нераспечатаные фото\В печать\Юбилей 13.01.2010\фотки 035.jpg"/>
          <p:cNvPicPr/>
          <p:nvPr/>
        </p:nvPicPr>
        <p:blipFill>
          <a:blip r:embed="rId2"/>
          <a:stretch/>
        </p:blipFill>
        <p:spPr>
          <a:xfrm>
            <a:off x="428760" y="500040"/>
            <a:ext cx="3382920" cy="253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D:\с диска с\Фотографии\нераспечатаные фото\В печать\День Рождения тети Светы2009\DSC03774.jpg"/>
          <p:cNvPicPr/>
          <p:nvPr/>
        </p:nvPicPr>
        <p:blipFill>
          <a:blip r:embed="rId3"/>
          <a:stretch/>
        </p:blipFill>
        <p:spPr>
          <a:xfrm>
            <a:off x="4071960" y="28584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D:\с диска с\Фотографии\Новый год 2011\НГ 2011\DSC02246.JPG"/>
          <p:cNvPicPr/>
          <p:nvPr/>
        </p:nvPicPr>
        <p:blipFill>
          <a:blip r:embed="rId4"/>
          <a:stretch/>
        </p:blipFill>
        <p:spPr>
          <a:xfrm>
            <a:off x="5357880" y="307188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D:\с диска с\Фотографии\нераспечатаные фото\В печать\День Рождения тети Светы2009\DSC03780.jpg"/>
          <p:cNvPicPr/>
          <p:nvPr/>
        </p:nvPicPr>
        <p:blipFill>
          <a:blip r:embed="rId5"/>
          <a:stretch/>
        </p:blipFill>
        <p:spPr>
          <a:xfrm>
            <a:off x="0" y="3071880"/>
            <a:ext cx="2928960" cy="21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96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Бан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0" y="3429000"/>
            <a:ext cx="585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гда все помылись, все садятся за большой стол, полный вкусных блюд (бабушка по-другому не умеет). И уже когда все уселись, мы делимся своими новостями за прошедшую неделю, обсуждаем важные на сегодняшний день вопросы. А иногда (я очень люблю такие моменты) бабушка с дедушкой рассказывают забавные и веселые истории из своей молодости. Так было, когда мамины родители жили здесь. Потом они переехали в Красноярск и живут теперь там, но нашу традицию никто не забывает и каждую субботу мы собираемся вновь и вновь, чтобы хорошенько отмыться от городской грязи и душевно поболтать за общим стол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214800" y="1428840"/>
            <a:ext cx="5786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ход в баню в нашей семье – это как некий ритуал. Каждую субботу в любое время года дедушка топит баню, а бабушка готовит вкусный ужин. У нас даже есть своя очередность: сначала идут баба с дедом, потом идут все девочки нашей семьи, потом мы с сестрами уходим и приходит пап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C:\Documents and Settings\Виктор\Рабочий стол\Настя)\разное\banya_news-6.jpeg"/>
          <p:cNvPicPr/>
          <p:nvPr/>
        </p:nvPicPr>
        <p:blipFill>
          <a:blip r:embed="rId1"/>
          <a:stretch/>
        </p:blipFill>
        <p:spPr>
          <a:xfrm>
            <a:off x="357120" y="1357200"/>
            <a:ext cx="2643120" cy="1981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Documents and Settings\Виктор\Рабочий стол\Настя)\разное\138510.jpg.png"/>
          <p:cNvPicPr/>
          <p:nvPr/>
        </p:nvPicPr>
        <p:blipFill>
          <a:blip r:embed="rId2"/>
          <a:stretch/>
        </p:blipFill>
        <p:spPr>
          <a:xfrm>
            <a:off x="5762520" y="3571920"/>
            <a:ext cx="338148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96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Новый год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2357280" y="1428840"/>
            <a:ext cx="678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й год для меня всегда был самым сказочным праздником из всех остальных, ведь в новый год всегда ждешь чуда и волшебств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20х числах декабря мы с мамой потихоньку начинаем украшать дом. Когда всевозможные гирлянды, шарики, снежинки развешаны по комнатам, можно приступать и к елке. Елку мы наряжаем всей семьей. У каждого есть свои обязанности: кто-то приносит игрушки, кто-то забирается наверх, чтобы что-либо повесить на верхушку елки, кто-то руководит работой. Вся подготовка к новому году идет в ощущении праздника, ведь вокруг все блестит, сияет – как будто светится изнутри теплым уютным огн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0" y="42721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само торжество (31 декабря) у нас дома собирается вся наша большая семья. Приезжают родственники из Красноярска, Москвы, Казани и Вологды. Наш дом как магнит всех собирает в новогоднюю ночь. Встретив новый год с речью президента, бокалами шампанского все скорее бегут на улицу пускать фейерверки. Когда все заходят обратно домой, начинается процедура дарения подарков, которая длится примерно около часа. В конечном счете у каждого целая гора подарков и это очень здорово! Остальные посиделки за столом проходят в играх, шутках и различных шуточных конкурс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й год как настоящая сказка, полная волшебства и чудес. Как для детей, так и для взрослых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" descr="D:\с диска с\Фотографии\Новый год 2011\IMG_0295.JPG"/>
          <p:cNvPicPr/>
          <p:nvPr/>
        </p:nvPicPr>
        <p:blipFill>
          <a:blip r:embed="rId1"/>
          <a:stretch/>
        </p:blipFill>
        <p:spPr>
          <a:xfrm>
            <a:off x="0" y="1569960"/>
            <a:ext cx="2428920" cy="26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Мнения о том, кто такие «сибиряки» не существует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ные ответы опрошенных можно разделить на 5 основных позиц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Сибиряки – те, кто живет на территории Сиби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ибиряки – люди, родившиеся и долго живущие в Сибири. ( Но не те, которых насильственно заставляли в Сибирь ехат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Сибиряки – это особый тип людей с характерными чертами (крепкие, здоровые ,добрые, трудолюбивы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Сибиряки- коренные, местные жители Сибири, живущие здесь изда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Сибиряки – это «винегрет народов», «странный этнос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Какие черты характера присущи сибирякам?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брота, доброжелательность (44,4% ответ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характера, духа (38,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носливость (27,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жественность, стойкость (22,2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удолюбие ( 17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теприимство, радушие (16,6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зывчивость и щедрость ( 15,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стность, справедливость (14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лерантность, терпимость (13,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триотизм (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539640" y="2492280"/>
            <a:ext cx="8136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Старинные сибирские обряды и обыча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1357200" y="928800"/>
            <a:ext cx="1738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Обря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5786280" y="928800"/>
            <a:ext cx="1667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Обыча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2214720" y="15001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6643800" y="15001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642960" y="2643120"/>
            <a:ext cx="3381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Традиционные действия, сопровождающие важные моменты жизни и деятельности. Выполнение этих действий направлено на усиление переживания челове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929120" y="2643120"/>
            <a:ext cx="33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Традиционно установившееся правило поведе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вадьб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бряд российской свадьбы, родившийся в глубокой древности, был принесен в Сибирь, но, сохраняя главные сюжетные и структурные компоненты, претерпел определенные измен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ычаи свадьб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укобит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вичник(мальчишник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хищение невест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атовст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лагословления родителями невесты молодоже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ождение</a:t>
            </a: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ладенц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В отличии от «российских» обычаев(«беречь дитя от зглазу») в Сибири о рождении младенца извещали всех родственников, друзей, роди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ыча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ьницу непременно, если позволяло здоровье, водили в баню через день. Сибиряки говаривали: «Банька — вторая мать». После бани по­или взваром из ягод, из слабого пива с изюмом, черносливом, имбирем. Кормили родительницу кашей из цельного пшена с изюм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оду, в которой купали младенца клали серебряные монеты, которые потом брала себе бабка-повитух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3-4 месяцев младенца начинали кормить коровьим молоком, которое вливали в рож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00:58:19Z</dcterms:created>
  <dc:creator>1-7_4</dc:creator>
  <dc:description/>
  <dc:language>en-US</dc:language>
  <cp:lastModifiedBy>UserR</cp:lastModifiedBy>
  <dcterms:modified xsi:type="dcterms:W3CDTF">2024-12-17T09:25:29Z</dcterms:modified>
  <cp:revision>10</cp:revision>
  <dc:subject/>
  <dc:title>Слайд 1</dc:title>
</cp:coreProperties>
</file>