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3E96-127F-4A25-AC93-45918F294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C86F-6946-4F92-B406-AC9AA584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D51E-4998-4A09-8E78-DA0E5B29E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EB5B-A3F8-4024-8E35-D6F3AF92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E2CE-4D1E-4105-8F88-4358A10CB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6452-D245-49E1-96DA-D723620A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00C0-14F6-44EF-A2BA-46CC27D4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3677-2F0F-49F3-B3C5-72FA1689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7F14-4BE1-4B84-8623-F5DFA3E8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8E93-1335-407D-9D60-9A813091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746D-ACEB-4F31-9F81-F517B0F1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97CB-046D-46C3-A9E0-DCDFF9FF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E559-D03E-4C51-BB9A-73B05EF3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6404-77C3-43EC-9512-C4321C16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0960-5199-48C4-BD08-E56BB387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B766-0356-4F5F-8C27-FD409F26E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0054-F343-416D-B25F-8427564D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C5F44-67CF-46D8-80AC-FF7A2B6AE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D5FEA-62ED-4CA1-A769-912125CE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E3B6F-56C5-4B27-973B-5F4F6378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62AFB-6CA0-4629-93D3-F549C6DD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CA48A-16D8-46F7-9EB9-6B5620B3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CB47-502C-4E90-BCCF-1AAA03EE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EB4D7-DADD-44F5-BEDD-8E54961C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01016-E618-4F66-8D4C-76093BB8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988CC-69BA-4385-9FB5-D0869FE0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0B34D-9D8E-4A3B-B5AF-337203F5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F06ED-199F-467E-8057-BEF3D86D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5FB96-4B4E-4AFA-89C1-2620BB27C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3421A-B6AF-4729-B42D-6545FD471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07672-0E42-4E13-BE9B-D55242D0A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3819B-5565-443B-9B59-E2A8E21B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BA4AC-A308-4437-8BC6-C5BAA84B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C59C-F137-47FC-AC1F-832687D3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6E12B-DAA5-42C3-978A-61635966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F234C-A532-4CC8-8810-46410570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7B9BD-5070-47C7-A146-FCDD0A4B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8DDB9-13D1-4052-9EEF-97B9D303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EB4EF-61AF-493F-9192-90E153B8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74396-B154-449F-A7A9-694D5614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15CCD-551E-43EE-A005-CF13A2E2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FB579-9459-48A0-8B19-CDA6DC441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8062A-83D0-46E2-8BA4-303DB7F5D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543CE-B328-46BD-A5E4-DEE1036F4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7383-F7D5-4B46-BA1F-32366AFD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40356-CC06-4FA3-8FF4-80DFADAC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8FD73-9AEF-48BD-96E2-351331B7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32789-0EA3-448D-9D6C-9C51EF51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0E407-1B14-4C07-801B-FBF40DE5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CB60F-D395-4AB6-B53D-F4B57346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D213C-847D-471D-B8A5-134C42EA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28E08-0B99-4E2C-94A3-6427A393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09B9A-EFF3-49AF-84EF-61C762FC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E4F75-06C7-4131-9C66-9339F363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A4091-F09C-4636-A24A-663D66EAC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AD99-F23B-4B79-9215-6BD4FDDF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BCDB7-69C7-493A-8A7A-3950D8C5A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A8186-F198-469A-8E09-1D6F7CE2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4C2AE-BD69-49E9-A89B-24A1EC38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B5576-93F6-4F74-BFAC-6D35F434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17595-0168-47D3-AEC0-D5E39FB9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E5CF1-3A8E-49B4-BA25-3BE8396B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C2654-EBE9-4CAD-9697-7056CAA7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0D57E-5116-47C5-8C20-24FA12D5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F8EF0-694D-44A5-AF9C-17A7EEE9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01A00-B6D1-4751-A17B-0509F00C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17E2-9CD4-47F3-A8F1-974F5D75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E144C-8252-4834-8D47-69BA20F1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90774-4B9D-466C-9E50-122796D7C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1F71E-3AAF-4185-AF94-D4B5A3E2D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74EA6-EC1B-49A4-9706-B6D798DD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FA920-CE46-4D3C-A16E-968A6615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201E5-8BB3-49F4-9415-CE369916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910F7-09BA-4309-AC6D-5764B1FA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A901C-8AEE-42CF-BC47-73B623C7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D68E0-2742-407D-962E-51AD2BB1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D8F0E-8F4C-46AF-A823-95DDEE35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FD30-9653-4382-9348-CF3361D0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FBA5C-7FA0-4DD1-ADFB-957D7052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2D11C-BAF4-41E4-9EA9-14CBD202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E5F35-A4FF-4755-BBAB-B658B71D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98162-6897-4344-A6F2-CC1281B8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2A8F9-FA11-4BD5-9948-32D653EB8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A71E-CB21-45A2-B0D2-A4C42E54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BA40-6BC5-4C7E-9DB7-1F026FDB61D5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7C91-2310-4011-ADD3-7AE214C62B6A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0F07-EE50-4F55-98B2-1267C2149572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7748-687C-4CC2-B3ED-206085DF4E57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B904-E123-4942-A320-476B67BA6CB9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5366-CDCC-4278-A98E-EE1C66DEFB6A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7810-A460-4EE9-A15F-00C1B6BB2219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Users\VIK\Desktop\КАРТИНКИ К КОМПОЗИЦИИ\img.jpg"/>
          <p:cNvPicPr/>
          <p:nvPr/>
        </p:nvPicPr>
        <p:blipFill>
          <a:blip r:embed="rId1"/>
          <a:stretch/>
        </p:blipFill>
        <p:spPr>
          <a:xfrm>
            <a:off x="142920" y="857160"/>
            <a:ext cx="2714760" cy="5257800"/>
          </a:xfrm>
          <a:prstGeom prst="rect">
            <a:avLst/>
          </a:prstGeom>
          <a:ln w="0">
            <a:noFill/>
          </a:ln>
        </p:spPr>
      </p:pic>
      <p:sp>
        <p:nvSpPr>
          <p:cNvPr id="369" name="TextBox 2"/>
          <p:cNvSpPr/>
          <p:nvPr/>
        </p:nvSpPr>
        <p:spPr>
          <a:xfrm>
            <a:off x="3143160" y="1500120"/>
            <a:ext cx="5572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orbel"/>
              </a:rPr>
              <a:t>Отечества достойные сыны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C:\Users\VIK\Desktop\КАРТИНКИ К КОМПОЗИЦИИ\Александр Иванович Кутайсов.jpg"/>
          <p:cNvPicPr/>
          <p:nvPr/>
        </p:nvPicPr>
        <p:blipFill>
          <a:blip r:embed="rId1"/>
          <a:stretch/>
        </p:blipFill>
        <p:spPr>
          <a:xfrm>
            <a:off x="214200" y="571680"/>
            <a:ext cx="4991040" cy="5705280"/>
          </a:xfrm>
          <a:prstGeom prst="rect">
            <a:avLst/>
          </a:prstGeom>
          <a:ln w="0">
            <a:noFill/>
          </a:ln>
        </p:spPr>
      </p:pic>
      <p:sp>
        <p:nvSpPr>
          <p:cNvPr id="393" name="TextBox 2"/>
          <p:cNvSpPr/>
          <p:nvPr/>
        </p:nvSpPr>
        <p:spPr>
          <a:xfrm>
            <a:off x="5643720" y="2214720"/>
            <a:ext cx="2571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Александр Иванович Кутайс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3" descr="C:\Users\VIK\Desktop\КАРТИНКИ К КОМПОЗИЦИИ\giorg_lenta_2.png"/>
          <p:cNvPicPr/>
          <p:nvPr/>
        </p:nvPicPr>
        <p:blipFill>
          <a:blip r:embed="rId2"/>
          <a:stretch/>
        </p:blipFill>
        <p:spPr>
          <a:xfrm>
            <a:off x="5429160" y="214200"/>
            <a:ext cx="356868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C:\Users\VIK\Desktop\КАРТИНКИ К КОМПОЗИЦИИ\Андрей Сергеевич Кайсаров.jpg"/>
          <p:cNvPicPr/>
          <p:nvPr/>
        </p:nvPicPr>
        <p:blipFill>
          <a:blip r:embed="rId1"/>
          <a:stretch/>
        </p:blipFill>
        <p:spPr>
          <a:xfrm>
            <a:off x="142920" y="285840"/>
            <a:ext cx="4292640" cy="6000840"/>
          </a:xfrm>
          <a:prstGeom prst="rect">
            <a:avLst/>
          </a:prstGeom>
          <a:ln w="0">
            <a:noFill/>
          </a:ln>
        </p:spPr>
      </p:pic>
      <p:sp>
        <p:nvSpPr>
          <p:cNvPr id="396" name="TextBox 2"/>
          <p:cNvSpPr/>
          <p:nvPr/>
        </p:nvSpPr>
        <p:spPr>
          <a:xfrm>
            <a:off x="5072040" y="2286000"/>
            <a:ext cx="357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Андрей Сергеевич Кайсар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Picture 3" descr="C:\Users\VIK\Desktop\КАРТИНКИ К КОМПОЗИЦИИ\giorg_lenta_2.png"/>
          <p:cNvPicPr/>
          <p:nvPr/>
        </p:nvPicPr>
        <p:blipFill>
          <a:blip r:embed="rId2"/>
          <a:stretch/>
        </p:blipFill>
        <p:spPr>
          <a:xfrm>
            <a:off x="5429160" y="214200"/>
            <a:ext cx="356868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C:\Users\VIK\Desktop\КАРТИНКИ К КОМПОЗИЦИИ\g_tuchkovy.jpg"/>
          <p:cNvPicPr/>
          <p:nvPr/>
        </p:nvPicPr>
        <p:blipFill>
          <a:blip r:embed="rId1"/>
          <a:stretch/>
        </p:blipFill>
        <p:spPr>
          <a:xfrm>
            <a:off x="2071800" y="520560"/>
            <a:ext cx="5000400" cy="58168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C:\Users\VIK\Desktop\КАРТИНКИ К КОМПОЗИЦИИ\giorg_lenta_2.png"/>
          <p:cNvPicPr/>
          <p:nvPr/>
        </p:nvPicPr>
        <p:blipFill>
          <a:blip r:embed="rId2"/>
          <a:stretch/>
        </p:blipFill>
        <p:spPr>
          <a:xfrm>
            <a:off x="5429160" y="214200"/>
            <a:ext cx="356868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Box 1"/>
          <p:cNvSpPr/>
          <p:nvPr/>
        </p:nvSpPr>
        <p:spPr>
          <a:xfrm>
            <a:off x="571680" y="2857680"/>
            <a:ext cx="364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Генерал-лейтенан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Сергей Алексеевич  Тучков-второ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2" descr="C:\Users\VIK\Desktop\КАРТИНКИ К КОМПОЗИЦИИ\сергей тучков.jpg"/>
          <p:cNvPicPr/>
          <p:nvPr/>
        </p:nvPicPr>
        <p:blipFill>
          <a:blip r:embed="rId1"/>
          <a:stretch/>
        </p:blipFill>
        <p:spPr>
          <a:xfrm>
            <a:off x="4643280" y="1428840"/>
            <a:ext cx="4305600" cy="52927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C:\Users\VIK\Desktop\КАРТИНКИ К КОМПОЗИЦИИ\giorg_lenta_2.png"/>
          <p:cNvPicPr/>
          <p:nvPr/>
        </p:nvPicPr>
        <p:blipFill>
          <a:blip r:embed="rId2"/>
          <a:stretch/>
        </p:blipFill>
        <p:spPr>
          <a:xfrm>
            <a:off x="5429160" y="214200"/>
            <a:ext cx="356868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C:\Users\VIK\Desktop\КАРТИНКИ К КОМПОЗИЦИИ\павел тучков3.jpg"/>
          <p:cNvPicPr/>
          <p:nvPr/>
        </p:nvPicPr>
        <p:blipFill>
          <a:blip r:embed="rId1"/>
          <a:stretch/>
        </p:blipFill>
        <p:spPr>
          <a:xfrm>
            <a:off x="214200" y="1785960"/>
            <a:ext cx="3571920" cy="476244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2"/>
          <p:cNvSpPr/>
          <p:nvPr/>
        </p:nvSpPr>
        <p:spPr>
          <a:xfrm>
            <a:off x="4714920" y="2500200"/>
            <a:ext cx="350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Генерал-майор Павел Алексееви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Тучков-трет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Picture 3" descr="C:\Users\VIK\Desktop\КАРТИНКИ К КОМПОЗИЦИИ\giorg_lenta_2.png"/>
          <p:cNvPicPr/>
          <p:nvPr/>
        </p:nvPicPr>
        <p:blipFill>
          <a:blip r:embed="rId2"/>
          <a:stretch/>
        </p:blipFill>
        <p:spPr>
          <a:xfrm>
            <a:off x="5429160" y="214200"/>
            <a:ext cx="356868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1"/>
          <p:cNvSpPr/>
          <p:nvPr/>
        </p:nvSpPr>
        <p:spPr>
          <a:xfrm>
            <a:off x="142920" y="3429000"/>
            <a:ext cx="3786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Генерал-лейтенант Николай Алексеевич Тучков-перв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Picture 2" descr="C:\Users\VIK\Desktop\КАРТИНКИ К КОМПОЗИЦИИ\николай тучков1.jpg"/>
          <p:cNvPicPr/>
          <p:nvPr/>
        </p:nvPicPr>
        <p:blipFill>
          <a:blip r:embed="rId1"/>
          <a:stretch/>
        </p:blipFill>
        <p:spPr>
          <a:xfrm>
            <a:off x="4786200" y="2214720"/>
            <a:ext cx="4051440" cy="44449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C:\Users\VIK\Desktop\КАРТИНКИ К КОМПОЗИЦИИ\giorg_lenta_2.png"/>
          <p:cNvPicPr/>
          <p:nvPr/>
        </p:nvPicPr>
        <p:blipFill>
          <a:blip r:embed="rId2"/>
          <a:stretch/>
        </p:blipFill>
        <p:spPr>
          <a:xfrm>
            <a:off x="5429160" y="214200"/>
            <a:ext cx="356868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Users\VIK\Desktop\КАРТИНКИ К КОМПОЗИЦИИ\тучков сергей2.jpg"/>
          <p:cNvPicPr/>
          <p:nvPr/>
        </p:nvPicPr>
        <p:blipFill>
          <a:blip r:embed="rId1"/>
          <a:stretch/>
        </p:blipFill>
        <p:spPr>
          <a:xfrm>
            <a:off x="4941720" y="1643040"/>
            <a:ext cx="4015080" cy="49165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Users\VIK\Desktop\КАРТИНКИ К КОМПОЗИЦИИ\маргарита.jpg"/>
          <p:cNvPicPr/>
          <p:nvPr/>
        </p:nvPicPr>
        <p:blipFill>
          <a:blip r:embed="rId2"/>
          <a:stretch/>
        </p:blipFill>
        <p:spPr>
          <a:xfrm>
            <a:off x="428760" y="285840"/>
            <a:ext cx="3517920" cy="4143240"/>
          </a:xfrm>
          <a:prstGeom prst="rect">
            <a:avLst/>
          </a:prstGeom>
          <a:ln w="0">
            <a:noFill/>
          </a:ln>
        </p:spPr>
      </p:pic>
      <p:sp>
        <p:nvSpPr>
          <p:cNvPr id="411" name="TextBox 3"/>
          <p:cNvSpPr/>
          <p:nvPr/>
        </p:nvSpPr>
        <p:spPr>
          <a:xfrm>
            <a:off x="0" y="4643280"/>
            <a:ext cx="485784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rbel"/>
              </a:rPr>
              <a:t>Маргарита Михайловна и Александр Алексеевич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rbel"/>
              </a:rPr>
              <a:t>Тучков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3" descr="C:\Users\VIK\Desktop\КАРТИНКИ К КОМПОЗИЦИИ\giorg_lenta_2.png"/>
          <p:cNvPicPr/>
          <p:nvPr/>
        </p:nvPicPr>
        <p:blipFill>
          <a:blip r:embed="rId3"/>
          <a:stretch/>
        </p:blipFill>
        <p:spPr>
          <a:xfrm>
            <a:off x="5429160" y="214200"/>
            <a:ext cx="3568680" cy="1841760"/>
          </a:xfrm>
          <a:prstGeom prst="rect">
            <a:avLst/>
          </a:prstGeom>
          <a:ln w="0">
            <a:noFill/>
          </a:ln>
        </p:spPr>
      </p:pic>
      <p:pic>
        <p:nvPicPr>
          <p:cNvPr id="413" name="Кристоф Виллибальд Глюк - Мелодия из оперы  Орфей и Эвридика  (скрипка и орган).mp3" descr=""/>
          <p:cNvPicPr/>
          <p:nvPr/>
        </p:nvPicPr>
        <p:blipFill>
          <a:blip r:embed="rId4"/>
          <a:stretch/>
        </p:blipFill>
        <p:spPr>
          <a:xfrm>
            <a:off x="642960" y="6215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1,119,9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1,119,9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C:\Users\VIK\Desktop\КАРТИНКИ К КОМПОЗИЦИИ\1b349bb6ec20.jpg"/>
          <p:cNvPicPr/>
          <p:nvPr/>
        </p:nvPicPr>
        <p:blipFill>
          <a:blip r:embed="rId1"/>
          <a:stretch/>
        </p:blipFill>
        <p:spPr>
          <a:xfrm>
            <a:off x="571680" y="66600"/>
            <a:ext cx="7929360" cy="66661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C:\Users\VIK\Desktop\КАРТИНКИ К КОМПОЗИЦИИ\giorg_lenta_2.png"/>
          <p:cNvPicPr/>
          <p:nvPr/>
        </p:nvPicPr>
        <p:blipFill>
          <a:blip r:embed="rId2"/>
          <a:stretch/>
        </p:blipFill>
        <p:spPr>
          <a:xfrm>
            <a:off x="5429160" y="214200"/>
            <a:ext cx="356868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C:\Users\VIK\Desktop\КАРТИНКИ К КОМПОЗИЦИИ\tu1(1).jpg"/>
          <p:cNvPicPr/>
          <p:nvPr/>
        </p:nvPicPr>
        <p:blipFill>
          <a:blip r:embed="rId1"/>
          <a:stretch/>
        </p:blipFill>
        <p:spPr>
          <a:xfrm>
            <a:off x="0" y="571680"/>
            <a:ext cx="9150480" cy="58546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C:\Users\VIK\Desktop\КАРТИНКИ К КОМПОЗИЦИИ\giorg_lenta_2.png"/>
          <p:cNvPicPr/>
          <p:nvPr/>
        </p:nvPicPr>
        <p:blipFill>
          <a:blip r:embed="rId2"/>
          <a:stretch/>
        </p:blipFill>
        <p:spPr>
          <a:xfrm>
            <a:off x="5429160" y="214200"/>
            <a:ext cx="356868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C:\Users\VIK\Desktop\КАРТИНКИ К КОМПОЗИЦИИ\храм тучковой.jpg"/>
          <p:cNvPicPr/>
          <p:nvPr/>
        </p:nvPicPr>
        <p:blipFill>
          <a:blip r:embed="rId1"/>
          <a:srcRect l="0" t="0" r="0" b="5130"/>
          <a:stretch/>
        </p:blipFill>
        <p:spPr>
          <a:xfrm>
            <a:off x="142920" y="142920"/>
            <a:ext cx="3905280" cy="5286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C:\Users\VIK\Desktop\КАРТИНКИ К КОМПОЗИЦИИ\игуменья тучкова.jpg"/>
          <p:cNvPicPr/>
          <p:nvPr/>
        </p:nvPicPr>
        <p:blipFill>
          <a:blip r:embed="rId2"/>
          <a:stretch/>
        </p:blipFill>
        <p:spPr>
          <a:xfrm>
            <a:off x="5346720" y="1500120"/>
            <a:ext cx="3602160" cy="5072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C:\Users\VIK\Desktop\КАРТИНКИ К КОМПОЗИЦИИ\giorg_lenta_2.png"/>
          <p:cNvPicPr/>
          <p:nvPr/>
        </p:nvPicPr>
        <p:blipFill>
          <a:blip r:embed="rId3"/>
          <a:stretch/>
        </p:blipFill>
        <p:spPr>
          <a:xfrm>
            <a:off x="5429160" y="214200"/>
            <a:ext cx="356868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3" descr="C:\Users\VIK\Desktop\КАРТИНКИ К КОМПОЗИЦИИ\giorg_lenta_2.png"/>
          <p:cNvPicPr/>
          <p:nvPr/>
        </p:nvPicPr>
        <p:blipFill>
          <a:blip r:embed="rId1"/>
          <a:stretch/>
        </p:blipFill>
        <p:spPr>
          <a:xfrm>
            <a:off x="5429160" y="214200"/>
            <a:ext cx="3568680" cy="18417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"/>
          <p:cNvSpPr/>
          <p:nvPr/>
        </p:nvSpPr>
        <p:spPr>
          <a:xfrm>
            <a:off x="3143160" y="2636280"/>
            <a:ext cx="550080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Историк,  исполни  последнюю волю героев бывших, и тогда История твоя родит героев времен  будущи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Федор Николаевич Гли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С. В. Рахманинов - Концерт№2 для форт. с оркестром.mp3" descr=""/>
          <p:cNvPicPr/>
          <p:nvPr/>
        </p:nvPicPr>
        <p:blipFill>
          <a:blip r:embed="rId2"/>
          <a:stretch/>
        </p:blipFill>
        <p:spPr>
          <a:xfrm>
            <a:off x="8286840" y="6072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1,119,9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1,119,9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C:\Users\VIK\Desktop\КАРТИНКИ К КОМПОЗИЦИИ\icona.jpg"/>
          <p:cNvPicPr/>
          <p:nvPr/>
        </p:nvPicPr>
        <p:blipFill>
          <a:blip r:embed="rId1"/>
          <a:stretch/>
        </p:blipFill>
        <p:spPr>
          <a:xfrm>
            <a:off x="4357800" y="357120"/>
            <a:ext cx="4640040" cy="6286680"/>
          </a:xfrm>
          <a:prstGeom prst="rect">
            <a:avLst/>
          </a:prstGeom>
          <a:ln w="0">
            <a:noFill/>
          </a:ln>
        </p:spPr>
      </p:pic>
      <p:sp>
        <p:nvSpPr>
          <p:cNvPr id="422" name="Прямоугольник 2"/>
          <p:cNvSpPr/>
          <p:nvPr/>
        </p:nvSpPr>
        <p:spPr>
          <a:xfrm>
            <a:off x="571680" y="642960"/>
            <a:ext cx="35002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rbel"/>
              </a:rPr>
              <a:t>Господи, дозволь мне сохранить память того, кого я любила, с кем в неизреченные минуты Твоей милости Ты соединил меня через таинство брака... Я с ним увижусь - увижусь там, где нет ни смерти, ни разлуки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3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1,119,9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3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3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C:\Users\VIK\Desktop\КАРТИНКИ К КОМПОЗИЦИИ\0de835a960d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C:\Users\VIK\Desktop\КАРТИНКИ К КОМПОЗИЦИИ\giorg_lenta_2.png"/>
          <p:cNvPicPr/>
          <p:nvPr/>
        </p:nvPicPr>
        <p:blipFill>
          <a:blip r:embed="rId2"/>
          <a:stretch/>
        </p:blipFill>
        <p:spPr>
          <a:xfrm>
            <a:off x="5429160" y="214200"/>
            <a:ext cx="356868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C:\Users\VIK\Desktop\КАРТИНКИ К КОМПОЗИЦИИ\ver08.jpg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2150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C:\Users\VIK\Desktop\КАРТИНКИ К КОМПОЗИЦИИ\giorg_lenta_2.png"/>
          <p:cNvPicPr/>
          <p:nvPr/>
        </p:nvPicPr>
        <p:blipFill>
          <a:blip r:embed="rId2"/>
          <a:stretch/>
        </p:blipFill>
        <p:spPr>
          <a:xfrm>
            <a:off x="5429160" y="214200"/>
            <a:ext cx="356868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3" descr=""/>
          <p:cNvPicPr/>
          <p:nvPr/>
        </p:nvPicPr>
        <p:blipFill>
          <a:blip r:embed="rId1"/>
          <a:stretch/>
        </p:blipFill>
        <p:spPr>
          <a:xfrm>
            <a:off x="743040" y="4248000"/>
            <a:ext cx="8358120" cy="2286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C:\Users\VIK\Desktop\КАРТИНКИ К КОМПОЗИЦИИ\56d73536a7f8.jpg"/>
          <p:cNvPicPr/>
          <p:nvPr/>
        </p:nvPicPr>
        <p:blipFill>
          <a:blip r:embed="rId2"/>
          <a:stretch/>
        </p:blipFill>
        <p:spPr>
          <a:xfrm>
            <a:off x="1643040" y="357120"/>
            <a:ext cx="6095880" cy="34290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C:\Users\VIK\Desktop\КАРТИНКИ К КОМПОЗИЦИИ\giorg_lenta_2.png"/>
          <p:cNvPicPr/>
          <p:nvPr/>
        </p:nvPicPr>
        <p:blipFill>
          <a:blip r:embed="rId3"/>
          <a:stretch/>
        </p:blipFill>
        <p:spPr>
          <a:xfrm>
            <a:off x="5429160" y="214200"/>
            <a:ext cx="356868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1,119,9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C:\Users\VIK\Desktop\КАРТИНКИ К КОМПОЗИЦИИ\280.jpg"/>
          <p:cNvPicPr/>
          <p:nvPr/>
        </p:nvPicPr>
        <p:blipFill>
          <a:blip r:embed="rId1"/>
          <a:stretch/>
        </p:blipFill>
        <p:spPr>
          <a:xfrm>
            <a:off x="214200" y="142920"/>
            <a:ext cx="3749760" cy="5000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C:\Users\VIK\Desktop\КАРТИНКИ К КОМПОЗИЦИИ\7wta_aleksey_cirikov_1.jpg"/>
          <p:cNvPicPr/>
          <p:nvPr/>
        </p:nvPicPr>
        <p:blipFill>
          <a:blip r:embed="rId2"/>
          <a:stretch/>
        </p:blipFill>
        <p:spPr>
          <a:xfrm>
            <a:off x="5268960" y="2000160"/>
            <a:ext cx="3679920" cy="46245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C:\Users\VIK\Desktop\КАРТИНКИ К КОМПОЗИЦИИ\giorg_lenta_2.png"/>
          <p:cNvPicPr/>
          <p:nvPr/>
        </p:nvPicPr>
        <p:blipFill>
          <a:blip r:embed="rId3"/>
          <a:stretch/>
        </p:blipFill>
        <p:spPr>
          <a:xfrm>
            <a:off x="5429160" y="214200"/>
            <a:ext cx="356868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C:\Users\VIK\Desktop\КАРТИНКИ К КОМПОЗИЦИИ\borodino.jpg"/>
          <p:cNvPicPr/>
          <p:nvPr/>
        </p:nvPicPr>
        <p:blipFill>
          <a:blip r:embed="rId1"/>
          <a:stretch/>
        </p:blipFill>
        <p:spPr>
          <a:xfrm>
            <a:off x="4361040" y="2071800"/>
            <a:ext cx="4687560" cy="4672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C:\Users\VIK\Desktop\КАРТИНКИ К КОМПОЗИЦИИ\001ff94944a2.jpg"/>
          <p:cNvPicPr/>
          <p:nvPr/>
        </p:nvPicPr>
        <p:blipFill>
          <a:blip r:embed="rId2"/>
          <a:stretch/>
        </p:blipFill>
        <p:spPr>
          <a:xfrm>
            <a:off x="285840" y="214200"/>
            <a:ext cx="4686120" cy="3429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C:\Users\VIK\Desktop\КАРТИНКИ К КОМПОЗИЦИИ\giorg_lenta_2.png"/>
          <p:cNvPicPr/>
          <p:nvPr/>
        </p:nvPicPr>
        <p:blipFill>
          <a:blip r:embed="rId3"/>
          <a:stretch/>
        </p:blipFill>
        <p:spPr>
          <a:xfrm>
            <a:off x="5429160" y="214200"/>
            <a:ext cx="356868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C:\Users\VIK\Desktop\КАРТИНКИ К КОМПОЗИЦИИ\Raevsky_saltanovka.jpg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71438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C:\Users\VIK\Desktop\КАРТИНКИ К КОМПОЗИЦИИ\giorg_lenta_2.png"/>
          <p:cNvPicPr/>
          <p:nvPr/>
        </p:nvPicPr>
        <p:blipFill>
          <a:blip r:embed="rId2"/>
          <a:stretch/>
        </p:blipFill>
        <p:spPr>
          <a:xfrm>
            <a:off x="5429160" y="214200"/>
            <a:ext cx="356868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C:\Users\VIK\Desktop\КАРТИНКИ К КОМПОЗИЦИИ\муравьев-апостол.jpg"/>
          <p:cNvPicPr/>
          <p:nvPr/>
        </p:nvPicPr>
        <p:blipFill>
          <a:blip r:embed="rId1"/>
          <a:stretch/>
        </p:blipFill>
        <p:spPr>
          <a:xfrm>
            <a:off x="428760" y="785880"/>
            <a:ext cx="4190760" cy="5238720"/>
          </a:xfrm>
          <a:prstGeom prst="rect">
            <a:avLst/>
          </a:prstGeom>
          <a:ln w="0">
            <a:noFill/>
          </a:ln>
        </p:spPr>
      </p:pic>
      <p:sp>
        <p:nvSpPr>
          <p:cNvPr id="389" name="TextBox 2"/>
          <p:cNvSpPr/>
          <p:nvPr/>
        </p:nvSpPr>
        <p:spPr>
          <a:xfrm>
            <a:off x="4929120" y="2000160"/>
            <a:ext cx="3786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Матвей Иванович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Муравьёв-Апосто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Picture 3" descr="C:\Users\VIK\Desktop\КАРТИНКИ К КОМПОЗИЦИИ\giorg_lenta_2.png"/>
          <p:cNvPicPr/>
          <p:nvPr/>
        </p:nvPicPr>
        <p:blipFill>
          <a:blip r:embed="rId2"/>
          <a:stretch/>
        </p:blipFill>
        <p:spPr>
          <a:xfrm>
            <a:off x="5429160" y="214200"/>
            <a:ext cx="3568680" cy="1841760"/>
          </a:xfrm>
          <a:prstGeom prst="rect">
            <a:avLst/>
          </a:prstGeom>
          <a:ln w="0">
            <a:noFill/>
          </a:ln>
        </p:spPr>
      </p:pic>
      <p:pic>
        <p:nvPicPr>
          <p:cNvPr id="391" name="Эдуард Артемьев - музыка из к-ф -Свой среди чужих, чужой среди своих-.mp3" descr=""/>
          <p:cNvPicPr/>
          <p:nvPr/>
        </p:nvPicPr>
        <p:blipFill>
          <a:blip r:embed="rId3"/>
          <a:stretch/>
        </p:blipFill>
        <p:spPr>
          <a:xfrm>
            <a:off x="8286840" y="6072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" fill="hold"/>
                                        <p:tgtEl>
                                          <p:spTgt spid="3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09:16:59Z</dcterms:created>
  <dc:creator>VIK</dc:creator>
  <dc:description/>
  <dc:language>en-US</dc:language>
  <cp:lastModifiedBy>VIK</cp:lastModifiedBy>
  <dcterms:modified xsi:type="dcterms:W3CDTF">2012-01-27T16:37:35Z</dcterms:modified>
  <cp:revision>21</cp:revision>
  <dc:subject/>
  <dc:title>Слайд 1</dc:title>
</cp:coreProperties>
</file>