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3D9-50F6-4D99-8157-5389EB9DB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FDC8-CD9F-446A-9DBD-5CB067111E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2D6-7EFC-41B3-9662-C2FB6384ED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188-C7DE-4761-9BF6-DE22973B15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96C-C802-4D03-AF4A-651C302D47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D81-553F-48F3-90B8-635F3CAD14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E67-71A2-40CB-A65B-4ACB8AA40E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C01-5415-4C5D-B7FA-8289450A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096-7E01-496A-8395-5CE55C8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03B-D4D5-4A04-AA77-F17EB577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995-0579-47A5-B347-9D20E451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969-06F9-4160-AC74-189CBA2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A6D8-F0AA-4140-BA12-770AFD64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87F-3613-40EE-88B5-894F2B8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1ADF-D8FB-4BFB-89AB-4EAAAF0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2E8-D20C-46D8-9905-999178C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12B-4A6F-4730-9D76-492FCDF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C038-E736-43BE-A42E-30A94DA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0C2-C80E-4B8B-A69B-4E33FB46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4338-2B6D-405C-ACA2-F27322AC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C4EE-1D2C-4027-9930-98C4AD8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196-E742-4D11-AE3D-2AFF869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9C81-3DCB-47AD-B2E1-31F2328E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FE0-B04C-421C-B132-55D92CDC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962-0C6E-46DE-A7D5-4940FCF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42F-D0D6-4617-A4F9-E0920ED5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584-29C9-4917-AB16-21C3E1B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C13-3337-4E90-88F9-32CEACD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51C-A651-4224-9DD9-786935A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B4D-89FA-4FA1-831D-0632E7A4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255-2680-4B3B-B080-FAB607F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CB0-9545-488F-83F1-87FDDB0EF65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9EE4-AB10-4C9C-9660-44EE91398C0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365120"/>
            <a:ext cx="8996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57200" y="3500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в 6 а кла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расенко О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4" descr=""/>
          <p:cNvPicPr/>
          <p:nvPr/>
        </p:nvPicPr>
        <p:blipFill>
          <a:blip r:embed="rId1"/>
          <a:stretch/>
        </p:blipFill>
        <p:spPr>
          <a:xfrm>
            <a:off x="249120" y="36360"/>
            <a:ext cx="3700440" cy="1543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75160" y="272880"/>
            <a:ext cx="510048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ill in the missing wor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the centre of London,kitchen,hotels,gardens,liv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ps,bahtroom,semi-detached,restaurants, bed-rooms, sitting room ,tour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 Philpott … not far from … in the area called Bloomsbury. It’s popular with … . There are a lot of …, some … and souvenir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 Philpott and his family live in a … house. They have three …, a …, a … and a … . There are two … near the hou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6" descr="C:\Users\User\Pictures\евротур 2008 фото-видео\4-England\Canterbury\IMG_1775.JPG"/>
          <p:cNvPicPr/>
          <p:nvPr/>
        </p:nvPicPr>
        <p:blipFill>
          <a:blip r:embed="rId2"/>
          <a:stretch/>
        </p:blipFill>
        <p:spPr>
          <a:xfrm>
            <a:off x="461880" y="1484280"/>
            <a:ext cx="3102120" cy="468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76040" y="420840"/>
            <a:ext cx="3511800" cy="1255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Your hom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sk is to learn the poem by heart 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реплени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потребления сло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home and house ex. 52,53 p.138 (workboo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http://gifok.net/images/2013/03/16/FIZCu.jpg"/>
          <p:cNvPicPr/>
          <p:nvPr/>
        </p:nvPicPr>
        <p:blipFill>
          <a:blip r:embed="rId2"/>
          <a:stretch/>
        </p:blipFill>
        <p:spPr>
          <a:xfrm>
            <a:off x="3786120" y="500040"/>
            <a:ext cx="4533840" cy="4791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ank you. Good-b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after me: area, castle, bedroom, bathroom, kitchen, block of flats, a detached house, semi-detached, terraced, a residential area, neighbourhood, kingdom, key, lane, yard, basket, ga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62080" y="96840"/>
            <a:ext cx="8832600" cy="144612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"/>
          <p:cNvPicPr/>
          <p:nvPr/>
        </p:nvPicPr>
        <p:blipFill>
          <a:blip r:embed="rId2"/>
          <a:stretch/>
        </p:blipFill>
        <p:spPr>
          <a:xfrm>
            <a:off x="469800" y="1627200"/>
            <a:ext cx="8240760" cy="4737240"/>
          </a:xfrm>
          <a:prstGeom prst="rect">
            <a:avLst/>
          </a:prstGeom>
          <a:ln w="0">
            <a:noFill/>
          </a:ln>
        </p:spPr>
      </p:pic>
      <p:sp>
        <p:nvSpPr>
          <p:cNvPr id="95" name="Oval 5"/>
          <p:cNvSpPr/>
          <p:nvPr/>
        </p:nvSpPr>
        <p:spPr>
          <a:xfrm>
            <a:off x="1547640" y="1268280"/>
            <a:ext cx="1008360" cy="93528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39640" y="2565360"/>
            <a:ext cx="1008000" cy="1008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76364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611280" y="4437000"/>
            <a:ext cx="93636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547640" y="592128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6804000" y="119700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7596360" y="2492280"/>
            <a:ext cx="93636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524720" y="4508640"/>
            <a:ext cx="936720" cy="93636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6659640" y="592128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 flipV="1">
            <a:off x="2484360" y="213336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 flipH="1" flipV="1">
            <a:off x="1618920" y="3213000"/>
            <a:ext cx="6490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 flipH="1">
            <a:off x="1547640" y="458136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 flipH="1">
            <a:off x="2484360" y="580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V="1">
            <a:off x="6300720" y="1988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V="1">
            <a:off x="6948360" y="3213000"/>
            <a:ext cx="648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77080" y="465300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6227640" y="5734080"/>
            <a:ext cx="432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http://www.edu54.ru/sites/default/files/images/2010/01/a0677950f7538a21fdcb330f6fcf4825c82e2750.jpg"/>
          <p:cNvPicPr/>
          <p:nvPr/>
        </p:nvPicPr>
        <p:blipFill>
          <a:blip r:embed="rId2"/>
          <a:stretch/>
        </p:blipFill>
        <p:spPr>
          <a:xfrm>
            <a:off x="357120" y="164304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mediasubs.ru/group/uploads/mi/mir-iskusstva-tvorchestva-i-krasotyi/image2/gtZTI5OC0.jpg"/>
          <p:cNvPicPr/>
          <p:nvPr/>
        </p:nvPicPr>
        <p:blipFill>
          <a:blip r:embed="rId3"/>
          <a:stretch/>
        </p:blipFill>
        <p:spPr>
          <a:xfrm>
            <a:off x="4649760" y="1714680"/>
            <a:ext cx="4494240" cy="335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rooms are there in your 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… have you g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ll be … all day Tuesd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live in the beautiful three-bedroom …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no place like …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way…from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chool, I met Su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is my 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year I stayed in Britain too long and I missed … very mu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ave a big … in the centre of the par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ch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nglish pro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 Englishman's home is his cast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ast or West home is bes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bird likes its own nes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wider the roam, the welcomer hom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n make houses, women  make hom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re is no places like hom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th Russian equival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сякому мила своя сторо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ужчины создают дома, а женщины – домашний очаг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ой дом – моя крепость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сяк кулик свое болото хвалит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гостях хорошо, а дома лучш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т лучше места чем д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ach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mi-detach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rrac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lock of fla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D:\egl.house\IMG_2116.JPG"/>
          <p:cNvPicPr/>
          <p:nvPr/>
        </p:nvPicPr>
        <p:blipFill>
          <a:blip r:embed="rId2"/>
          <a:stretch/>
        </p:blipFill>
        <p:spPr>
          <a:xfrm>
            <a:off x="97164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egl.house\Typical Victorian terraced houses in England.jpg"/>
          <p:cNvPicPr/>
          <p:nvPr/>
        </p:nvPicPr>
        <p:blipFill>
          <a:blip r:embed="rId3"/>
          <a:stretch/>
        </p:blipFill>
        <p:spPr>
          <a:xfrm>
            <a:off x="5076720" y="1628640"/>
            <a:ext cx="295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User\Desktop\mini_20.jpg"/>
          <p:cNvPicPr/>
          <p:nvPr/>
        </p:nvPicPr>
        <p:blipFill>
          <a:blip r:embed="rId4"/>
          <a:stretch/>
        </p:blipFill>
        <p:spPr>
          <a:xfrm>
            <a:off x="5148360" y="4508640"/>
            <a:ext cx="2950920" cy="217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User\Desktop\Англия\2.jpg"/>
          <p:cNvPicPr/>
          <p:nvPr/>
        </p:nvPicPr>
        <p:blipFill>
          <a:blip r:embed="rId5"/>
          <a:stretch/>
        </p:blipFill>
        <p:spPr>
          <a:xfrm>
            <a:off x="971640" y="1557360"/>
            <a:ext cx="2952720" cy="2303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st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D:\egl.house\Bodiam Castle in England.jpg"/>
          <p:cNvPicPr/>
          <p:nvPr/>
        </p:nvPicPr>
        <p:blipFill>
          <a:blip r:embed="rId2"/>
          <a:stretch/>
        </p:blipFill>
        <p:spPr>
          <a:xfrm>
            <a:off x="1071720" y="1857240"/>
            <a:ext cx="3270240" cy="22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\Pictures\евротур 2008 фото-видео\4-England\Buckingham Palace\IMG_2288.JPG"/>
          <p:cNvPicPr/>
          <p:nvPr/>
        </p:nvPicPr>
        <p:blipFill>
          <a:blip r:embed="rId3"/>
          <a:stretch/>
        </p:blipFill>
        <p:spPr>
          <a:xfrm>
            <a:off x="4572000" y="4071960"/>
            <a:ext cx="3652920" cy="250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l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a5fc7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centre of Lon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t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rd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aht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mi-det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d-room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tting ro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ur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www.marieclaire.it/var/marieclaire/storage/images/magazine/appuntamenti/milano-non-solo-moda/via-della-spiga/8092459-1-ita-IT/via_della_spiga_slideshow_gallery_sfilate.jpg"/>
          <p:cNvPicPr/>
          <p:nvPr/>
        </p:nvPicPr>
        <p:blipFill>
          <a:blip r:embed="rId1"/>
          <a:stretch/>
        </p:blipFill>
        <p:spPr>
          <a:xfrm>
            <a:off x="357120" y="2286000"/>
            <a:ext cx="3981600" cy="29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7:02:47Z</dcterms:created>
  <dc:creator>Valiahmetova</dc:creator>
  <dc:description/>
  <dc:language>en-US</dc:language>
  <cp:lastModifiedBy>User</cp:lastModifiedBy>
  <dcterms:modified xsi:type="dcterms:W3CDTF">2014-03-25T18:02:11Z</dcterms:modified>
  <cp:revision>127</cp:revision>
  <dc:subject/>
  <dc:title>An Englishman’s home is his castle.</dc:title>
</cp:coreProperties>
</file>