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C8D2-5A00-44C4-A8D0-AB18BF9BCB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5025-3277-4EF2-871F-83DA983956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9F9-78E8-4342-81CF-A2CC182EC8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0AE9-D374-4045-8447-66F9A28950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7955-18D3-4D8C-940D-1FB0E653B46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0EF9-71BD-4F15-B137-6204B253336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5262-B11D-446A-89F0-E535402021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065-A73C-4EDF-B833-2F752C16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CEE-5FCC-454F-9ECB-5C0B6E08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5B0-A417-4B9E-AF3D-3CF317CD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8ED-3D87-48F5-855D-3429F36A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8274-E1FD-43C1-9783-D516B11F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1DB0-D952-467E-BC8D-52B1E917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D89F-A9F2-4913-94FD-28FD2761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2318-3672-4E98-A86B-7D276456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98ED-5611-40DD-B619-CAC433E6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C9F0-651B-4FFB-BFE4-80E9ED11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08E-3119-403E-8F15-F5FA8CD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076-FB23-4EE6-A5D8-739D4DC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978C-CCC7-43FE-80A0-4F6668E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CB2B-1C91-43F0-8469-400F46C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A4A4-718B-4A82-97A5-031AD7FA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2AC7-F552-4E87-848F-4151354A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0E89-B7A1-4FED-9341-603BA2FE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240-AA60-40AF-B65A-B64DAF23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9C8-C7B4-4063-B71B-108FCAD4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FA8-F474-4EA0-B525-A06ECD6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BA2-7C5C-47AE-91F7-FC41E1D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BFA-CD51-4CE3-9B88-1C10E87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8C0-906F-4828-8F24-4F9D0084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534-82FC-4F0F-A4E8-84E3E969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5163-D730-439E-A724-EADB0B55982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8999-F67F-45A3-9142-C15B13A319D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208080" y="1365120"/>
            <a:ext cx="89964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57200" y="350028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 в 6 а клас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расенко О.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4" descr=""/>
          <p:cNvPicPr/>
          <p:nvPr/>
        </p:nvPicPr>
        <p:blipFill>
          <a:blip r:embed="rId1"/>
          <a:stretch/>
        </p:blipFill>
        <p:spPr>
          <a:xfrm>
            <a:off x="249120" y="36360"/>
            <a:ext cx="3700440" cy="1543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75160" y="272880"/>
            <a:ext cx="510048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ill in the missing wor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(the centre of London,kitchen,hotels,gardens,liv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hops,bahtroom,semi-detached,restaurants, bed-rooms, sitting room ,touri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 Philpott … not far from … in the area called Bloomsbury. It’s popular with … . There are a lot of …, some … and souvenir …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 Philpott and his family live in a … house. They have three …, a …, a … and a … . There are two … near the hous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6" descr="C:\Users\User\Pictures\евротур 2008 фото-видео\4-England\Canterbury\IMG_1775.JPG"/>
          <p:cNvPicPr/>
          <p:nvPr/>
        </p:nvPicPr>
        <p:blipFill>
          <a:blip r:embed="rId2"/>
          <a:stretch/>
        </p:blipFill>
        <p:spPr>
          <a:xfrm>
            <a:off x="461880" y="1484280"/>
            <a:ext cx="3102120" cy="468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176040" y="420840"/>
            <a:ext cx="3511800" cy="1255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Your hom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ask is to learn the poem by heart ,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реплени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потребления сло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home and house ex. 52,53 p.138 (workbook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http://gifok.net/images/2013/03/16/FIZCu.jpg"/>
          <p:cNvPicPr/>
          <p:nvPr/>
        </p:nvPicPr>
        <p:blipFill>
          <a:blip r:embed="rId2"/>
          <a:stretch/>
        </p:blipFill>
        <p:spPr>
          <a:xfrm>
            <a:off x="3786120" y="500040"/>
            <a:ext cx="4533840" cy="4791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ank you. Good-by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5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after me: area, castle, bedroom, bathroom, kitchen, block of flats, a detached house, semi-detached, terraced, a residential area, neighbourhood, kingdom, key, lane, yard, basket, ga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62080" y="96840"/>
            <a:ext cx="8832600" cy="144612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"/>
          <p:cNvPicPr/>
          <p:nvPr/>
        </p:nvPicPr>
        <p:blipFill>
          <a:blip r:embed="rId2"/>
          <a:stretch/>
        </p:blipFill>
        <p:spPr>
          <a:xfrm>
            <a:off x="469800" y="1627200"/>
            <a:ext cx="8240760" cy="4737240"/>
          </a:xfrm>
          <a:prstGeom prst="rect">
            <a:avLst/>
          </a:prstGeom>
          <a:ln w="0">
            <a:noFill/>
          </a:ln>
        </p:spPr>
      </p:pic>
      <p:sp>
        <p:nvSpPr>
          <p:cNvPr id="95" name="Oval 5"/>
          <p:cNvSpPr/>
          <p:nvPr/>
        </p:nvSpPr>
        <p:spPr>
          <a:xfrm>
            <a:off x="1547640" y="1268280"/>
            <a:ext cx="1008360" cy="93528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539640" y="2565360"/>
            <a:ext cx="1008000" cy="100800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763640" y="155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611280" y="4437000"/>
            <a:ext cx="93636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1"/>
          <p:cNvSpPr/>
          <p:nvPr/>
        </p:nvSpPr>
        <p:spPr>
          <a:xfrm>
            <a:off x="1547640" y="5921280"/>
            <a:ext cx="93672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6804000" y="1197000"/>
            <a:ext cx="93672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3"/>
          <p:cNvSpPr/>
          <p:nvPr/>
        </p:nvSpPr>
        <p:spPr>
          <a:xfrm>
            <a:off x="7596360" y="2492280"/>
            <a:ext cx="93636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14"/>
          <p:cNvSpPr/>
          <p:nvPr/>
        </p:nvSpPr>
        <p:spPr>
          <a:xfrm>
            <a:off x="7524720" y="4508640"/>
            <a:ext cx="936720" cy="93636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6659640" y="5921280"/>
            <a:ext cx="936720" cy="936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 flipH="1" flipV="1">
            <a:off x="2484360" y="2133360"/>
            <a:ext cx="2872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7"/>
          <p:cNvSpPr/>
          <p:nvPr/>
        </p:nvSpPr>
        <p:spPr>
          <a:xfrm flipH="1" flipV="1">
            <a:off x="1618920" y="3213000"/>
            <a:ext cx="649080" cy="1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8"/>
          <p:cNvSpPr/>
          <p:nvPr/>
        </p:nvSpPr>
        <p:spPr>
          <a:xfrm flipH="1">
            <a:off x="1547640" y="4581360"/>
            <a:ext cx="72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 flipH="1">
            <a:off x="2484360" y="580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20"/>
          <p:cNvSpPr/>
          <p:nvPr/>
        </p:nvSpPr>
        <p:spPr>
          <a:xfrm flipV="1">
            <a:off x="6300720" y="1988640"/>
            <a:ext cx="57636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V="1">
            <a:off x="6948360" y="3213000"/>
            <a:ext cx="648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877080" y="4653000"/>
            <a:ext cx="647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6227640" y="5734080"/>
            <a:ext cx="4320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4" descr="http://www.edu54.ru/sites/default/files/images/2010/01/a0677950f7538a21fdcb330f6fcf4825c82e2750.jpg"/>
          <p:cNvPicPr/>
          <p:nvPr/>
        </p:nvPicPr>
        <p:blipFill>
          <a:blip r:embed="rId2"/>
          <a:stretch/>
        </p:blipFill>
        <p:spPr>
          <a:xfrm>
            <a:off x="357120" y="1643040"/>
            <a:ext cx="42861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mediasubs.ru/group/uploads/mi/mir-iskusstva-tvorchestva-i-krasotyi/image2/gtZTI5OC0.jpg"/>
          <p:cNvPicPr/>
          <p:nvPr/>
        </p:nvPicPr>
        <p:blipFill>
          <a:blip r:embed="rId3"/>
          <a:stretch/>
        </p:blipFill>
        <p:spPr>
          <a:xfrm>
            <a:off x="4649760" y="1714680"/>
            <a:ext cx="4494240" cy="335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many rooms are there in your …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… have you g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ll be … all day Tuesda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live in the beautiful three-bedroom …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no place like …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way…from </a:t>
            </a:r>
            <a:r>
              <a:rPr b="0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chool, I met Su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is my 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year I stayed in Britain too long and I missed … very mu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5160" indent="-478080"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have a big … in the centre of the par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ch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nglish prover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 Englishman's home is his castl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ast or West home is bes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bird likes its own nes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wider the roam, the welcomer hom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n make houses, women  make hom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re is no places like hom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ith Russian equival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сякому мила своя сторон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ужчины создают дома, а женщины – домашний очаг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Мой дом – моя крепость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сяк кулик свое болото хвалит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гостях хорошо, а дома лучш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Нет лучше места чем дом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ached ho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mi-detached ho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rraced ho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lock of fla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D:\egl.house\IMG_2116.JPG"/>
          <p:cNvPicPr/>
          <p:nvPr/>
        </p:nvPicPr>
        <p:blipFill>
          <a:blip r:embed="rId2"/>
          <a:stretch/>
        </p:blipFill>
        <p:spPr>
          <a:xfrm>
            <a:off x="971640" y="4437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egl.house\Typical Victorian terraced houses in England.jpg"/>
          <p:cNvPicPr/>
          <p:nvPr/>
        </p:nvPicPr>
        <p:blipFill>
          <a:blip r:embed="rId3"/>
          <a:stretch/>
        </p:blipFill>
        <p:spPr>
          <a:xfrm>
            <a:off x="5076720" y="1628640"/>
            <a:ext cx="295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C:\Users\User\Desktop\mini_20.jpg"/>
          <p:cNvPicPr/>
          <p:nvPr/>
        </p:nvPicPr>
        <p:blipFill>
          <a:blip r:embed="rId4"/>
          <a:stretch/>
        </p:blipFill>
        <p:spPr>
          <a:xfrm>
            <a:off x="5148360" y="4508640"/>
            <a:ext cx="2950920" cy="217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User\Desktop\Англия\2.jpg"/>
          <p:cNvPicPr/>
          <p:nvPr/>
        </p:nvPicPr>
        <p:blipFill>
          <a:blip r:embed="rId5"/>
          <a:stretch/>
        </p:blipFill>
        <p:spPr>
          <a:xfrm>
            <a:off x="971640" y="1557360"/>
            <a:ext cx="2952720" cy="2303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285560"/>
            <a:ext cx="40384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st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D:\egl.house\Bodiam Castle in England.jpg"/>
          <p:cNvPicPr/>
          <p:nvPr/>
        </p:nvPicPr>
        <p:blipFill>
          <a:blip r:embed="rId2"/>
          <a:stretch/>
        </p:blipFill>
        <p:spPr>
          <a:xfrm>
            <a:off x="1071720" y="1857240"/>
            <a:ext cx="3270240" cy="225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User\Pictures\евротур 2008 фото-видео\4-England\Buckingham Palace\IMG_2288.JPG"/>
          <p:cNvPicPr/>
          <p:nvPr/>
        </p:nvPicPr>
        <p:blipFill>
          <a:blip r:embed="rId3"/>
          <a:stretch/>
        </p:blipFill>
        <p:spPr>
          <a:xfrm>
            <a:off x="4572000" y="4071960"/>
            <a:ext cx="3652920" cy="250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al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a5fc7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centre of Lond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t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rd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h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aht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mi-deta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staur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ed-room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itting ro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our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www.marieclaire.it/var/marieclaire/storage/images/magazine/appuntamenti/milano-non-solo-moda/via-della-spiga/8092459-1-ita-IT/via_della_spiga_slideshow_gallery_sfilate.jpg"/>
          <p:cNvPicPr/>
          <p:nvPr/>
        </p:nvPicPr>
        <p:blipFill>
          <a:blip r:embed="rId1"/>
          <a:stretch/>
        </p:blipFill>
        <p:spPr>
          <a:xfrm>
            <a:off x="357120" y="2286000"/>
            <a:ext cx="3981600" cy="29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7:02:47Z</dcterms:created>
  <dc:creator>Valiahmetova</dc:creator>
  <dc:description/>
  <dc:language>en-US</dc:language>
  <cp:lastModifiedBy>User</cp:lastModifiedBy>
  <dcterms:modified xsi:type="dcterms:W3CDTF">2014-03-25T18:02:11Z</dcterms:modified>
  <cp:revision>127</cp:revision>
  <dc:subject/>
  <dc:title>An Englishman’s home is his castle.</dc:title>
</cp:coreProperties>
</file>