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748-47C2-47D8-8121-6D9F07E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650-62BA-4A04-9987-C5F2BB4B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303-15B2-49EB-BEB1-94263F23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C6B-5B5E-4A9B-BA62-860854D1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E0AC-E826-4128-93B1-8A706C49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C0E-B499-41EF-9006-2E92B77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CC44-7963-47E4-8800-5BB89B8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CDAD-BC96-4520-BBDC-9BE0BD3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EFBC-B291-4439-9CD5-B97FDCB2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3F2D-0E4B-4512-87E4-5A8203A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58A8-2D50-439C-A77B-AE323DE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85C-94B7-4963-87DB-7801B2C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7ED0-D569-486F-8D5F-707AC2A4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60C0-ABD0-45A1-B7CA-EFDBC6A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66F2-2B40-4A0B-9547-864318E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20BF-137E-4D5A-8A1A-C438DDF5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AD07-6B1A-4A73-AF7F-6F1F726E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0C96-A511-47B2-9A5E-F7118189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15C0-B99E-4AD4-B1BF-9A343D89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51A3-2491-4E5F-8A84-CED3AADE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87B5-5917-48E4-AB6F-739C7BA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BC75-FAAB-4E8C-A4B9-73F3DF2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D7F-06E5-4C7A-A3D8-E6F93FC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C7E8-DEBF-4EC3-93E8-EA1523AF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6C8C-00A3-46F7-9FA9-8B932C8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B39B-9F86-4BE8-B04A-23C05E5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EF8F-9804-4AA5-AED0-BCC4FAA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7202-2126-47AF-8046-A36FC2A9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A832-704C-4894-90CB-E5108BF2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687D-CDA9-4DDB-BB27-D6013A99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ABF-1178-4F89-80F0-D67843B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7FC-B71B-4220-B1F3-87891B7F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7E8-9593-47F9-9F92-B9D6524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089-BAD7-4201-8107-8B47AA01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396-260D-4A8D-87C8-60F7F40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3E7-221C-4EE4-B884-3BED46A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E431-CB12-4A92-86D8-10612AE1D8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867-A2B5-4A63-8847-86A08B9F9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269B-3D9E-4C65-8B8D-42627D64B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572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Эпиграф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Теперь, когда мы научились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Летать по воздуху, как птицы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лавать под водой, как рыбы,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м не хватает только одного: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учиться жить на земле, как люди.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 Шо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539640" y="404640"/>
            <a:ext cx="82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такое толерантность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61" name="Picture 5" descr="DD00117_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6"/>
          <p:cNvSpPr/>
          <p:nvPr/>
        </p:nvSpPr>
        <p:spPr>
          <a:xfrm>
            <a:off x="3059280" y="2060640"/>
            <a:ext cx="2881080" cy="26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ТОЛЕРАНТ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24360" y="523800"/>
            <a:ext cx="28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ерпимость к чуж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нениям, верова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687840" y="47160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о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917680" y="5428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важение прав други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2920" y="321300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страд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49480" y="54450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инятие друг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3778920" y="56610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илосерд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884200" y="5373720"/>
            <a:ext cx="32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важение челове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остоин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515280" y="3068640"/>
            <a:ext cx="24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трудничест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ух партнер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 flipH="1">
            <a:off x="2195640" y="3429000"/>
            <a:ext cx="792000" cy="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 flipV="1">
            <a:off x="4500720" y="907560"/>
            <a:ext cx="0" cy="108108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 flipH="1">
            <a:off x="2410920" y="4437000"/>
            <a:ext cx="1008360" cy="86364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5580000" y="4437000"/>
            <a:ext cx="792360" cy="792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4500720" y="4724280"/>
            <a:ext cx="0" cy="9367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 flipH="1" flipV="1">
            <a:off x="2627280" y="1267920"/>
            <a:ext cx="1008000" cy="1008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6084720" y="3357720"/>
            <a:ext cx="503280" cy="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651640" y="1196640"/>
            <a:ext cx="1150920" cy="115236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58760" y="404640"/>
            <a:ext cx="89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ТОЛЕРАНТНАЯ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ИНТОЛЕРАН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ЛИЧ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ЛИЧНОСТЬ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79280" y="1557360"/>
            <a:ext cx="417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Уважение мнения 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Доброжела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Желание что-либо делать в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Понимание и принят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Чуткость, любозна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Снисходи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Доверие, гуманиз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2000" y="1773360"/>
            <a:ext cx="4572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по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Игнор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Эго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терпи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Выражение пренебре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Раздражите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Равнодуш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Циниз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Немотивированная агресс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79280" y="1341360"/>
            <a:ext cx="8713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84720" y="260280"/>
            <a:ext cx="71280" cy="6337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6:14:47Z</dcterms:created>
  <dc:creator>ГУЛЬНАРА</dc:creator>
  <dc:description/>
  <dc:language>en-US</dc:language>
  <cp:lastModifiedBy>Admin</cp:lastModifiedBy>
  <dcterms:modified xsi:type="dcterms:W3CDTF">2010-11-05T03:13:29Z</dcterms:modified>
  <cp:revision>26</cp:revision>
  <dc:subject/>
  <dc:title>Слайд 1</dc:title>
</cp:coreProperties>
</file>