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4369E-E27A-4F1E-B1C4-BE34E6ACE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C53F5-1094-4613-B879-4669921B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4DC67-E2EC-4287-90C4-F11BAFF3C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7D95-891B-4FAF-8388-F87B5B7FC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6AD30-79AB-43AB-954B-B3CC3F28B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2EBFC-4A4D-452D-BFA5-606B61973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6DD15-AD0F-4111-ACE5-8D8027362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AC8B2-25D8-4822-A06E-CDF6AEE47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962F-FAC9-4392-9E21-06CA66FA0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2017E-8A14-4F0F-AC59-C5CC5E944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7A912-3C69-421F-A891-CD0962315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F5755-372F-42EE-8875-AC4BDFCC8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8FE35-F761-492B-B7D6-9617C646E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E3FC-BDD0-4C8C-8938-FF77C806E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821F8-D83F-4BAC-86F3-7F7BE52E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373A4-0CC7-4551-B9B4-50293FDF7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7F27F-82B5-4DD8-80F9-253D90BA6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ECF8AB3-75A3-49A4-8DD0-A8DF40497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CF9268-452B-4879-AECF-68A93C83A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80BA79-0324-4E98-AC8A-E2F2A4C0C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51040F-8117-41BB-B4DD-B788BF499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A8C816-FAB4-4DD3-8F12-601143CF8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445C-D5D1-4781-BC82-4840FC06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8F6010-3016-4C4C-8A66-528149582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D78DA0-7531-4F74-A431-D66C4F0BD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25B3CE-C931-442E-B9EC-36EC51BB7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42D8C0-21A6-41B6-A32D-66A696E32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325A10-A91B-4823-A9E4-8D44D89E2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3B5108-C724-459B-9676-5789A517F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FB6B6D-07BB-4631-8A55-44078F81C8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CFF35B-531A-488A-A50F-26ACC8CD4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31BBE-DD7B-4629-95B0-83F7119B4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ECB27-B4D3-41D0-9ECB-A400E9100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A7D1-29F8-4BB3-B23A-D4A4C89DA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76D81-A617-4B9C-8D1C-056070878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BDA42-911D-4826-85C8-DCBA04146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1F228-7656-4005-B5AC-712EC5B85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31555-FEB3-4A32-81E2-DF21220CE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C278D-A4E8-4A45-91C5-1AFB27275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CAAE4-A87E-4BEE-9183-480DB9420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E0356-766E-4877-9121-EC141943B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1895E1-AF9D-4B26-BCA9-95C642038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3F8513-3314-4821-9924-429B6B423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BAB0-2A7D-473B-9196-64045148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B203-52E5-4C10-BD30-9E5B8C3A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57A5-836B-49A3-BB59-47B280C90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8FD5-9613-4FA7-B2B2-0BB83824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5AE5-A122-46D1-88B6-3E6E9D76D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039D-AE01-4346-BB5C-350FEFE6ED8E}"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fefe"/>
                </a:solidFill>
                <a:latin typeface="Century Gothic"/>
              </a:rPr>
              <a:t>&lt;date/time&gt;</a:t>
            </a:r>
            <a:endParaRPr b="0" lang="en-US" sz="2400" spc="-1" strike="noStrike">
              <a:solidFill>
                <a:srgbClr val="000000"/>
              </a:solidFill>
              <a:latin typeface="Century Gothic"/>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4c6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9729-360A-4713-94F9-E404F24F95A7}" type="slidenum">
              <a:rPr b="0" lang="ru-RU" sz="1200" spc="-1" strike="noStrike">
                <a:solidFill>
                  <a:srgbClr val="94c6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6AD5-2100-4FFA-83E8-1827E9123080}"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6596-214C-45E7-A56A-6944E2C491F5}" type="slidenum">
              <a:rPr b="0" lang="ru-RU"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3" descr=""/>
          <p:cNvPicPr/>
          <p:nvPr/>
        </p:nvPicPr>
        <p:blipFill>
          <a:blip r:embed="rId1"/>
          <a:stretch/>
        </p:blipFill>
        <p:spPr>
          <a:xfrm>
            <a:off x="743040" y="682560"/>
            <a:ext cx="4230720" cy="3121200"/>
          </a:xfrm>
          <a:prstGeom prst="rect">
            <a:avLst/>
          </a:prstGeom>
          <a:ln w="0">
            <a:noFill/>
          </a:ln>
        </p:spPr>
      </p:pic>
      <p:sp>
        <p:nvSpPr>
          <p:cNvPr id="336" name="Прямоугольник 4"/>
          <p:cNvSpPr/>
          <p:nvPr/>
        </p:nvSpPr>
        <p:spPr>
          <a:xfrm>
            <a:off x="293760" y="4132440"/>
            <a:ext cx="871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entury Gothic"/>
            </a:endParaRPr>
          </a:p>
        </p:txBody>
      </p:sp>
      <p:pic>
        <p:nvPicPr>
          <p:cNvPr id="337" name="Picture 5" descr="ÐÐ°ÑÑÐ¸Ð½ÐºÐ¸ Ð¿Ð¾ Ð·Ð°Ð¿ÑÐ¾ÑÑ Ð±Ð»ÑÐ¶Ð´Ð°ÑÑÐ°Ñ Ð²Ð¾Ð»Ð½Ð°"/>
          <p:cNvPicPr/>
          <p:nvPr/>
        </p:nvPicPr>
        <p:blipFill>
          <a:blip r:embed="rId2"/>
          <a:stretch/>
        </p:blipFill>
        <p:spPr>
          <a:xfrm>
            <a:off x="3627360" y="3925800"/>
            <a:ext cx="4668840" cy="2341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755640" y="1052640"/>
            <a:ext cx="75614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Задача. </a:t>
            </a:r>
            <a:endParaRPr b="0" lang="en-US" sz="24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ысота волны во время шторма в океане достигает 8 метров, а высота блуждающей волны достигает 32 метров. На сколько метров высота блуждающей волны выше, чем высота волны во время шторма? Во сколько раз высота блуждающей волны выше, чем высота волны во время шторма?</a:t>
            </a:r>
            <a:endParaRPr b="0" lang="en-US" sz="24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755640" y="1052640"/>
            <a:ext cx="7561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entury Gothic"/>
            </a:endParaRPr>
          </a:p>
        </p:txBody>
      </p:sp>
      <p:pic>
        <p:nvPicPr>
          <p:cNvPr id="340" name="Picture 13" descr=""/>
          <p:cNvPicPr/>
          <p:nvPr/>
        </p:nvPicPr>
        <p:blipFill>
          <a:blip r:embed="rId1"/>
          <a:stretch/>
        </p:blipFill>
        <p:spPr>
          <a:xfrm>
            <a:off x="1239840" y="2928960"/>
            <a:ext cx="6662880" cy="87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8T08:39:40Z</dcterms:created>
  <dc:creator>Настя</dc:creator>
  <dc:description/>
  <dc:language>en-US</dc:language>
  <cp:lastModifiedBy>Irina</cp:lastModifiedBy>
  <dcterms:modified xsi:type="dcterms:W3CDTF">2023-04-24T03:20:41Z</dcterms:modified>
  <cp:revision>30</cp:revision>
  <dc:subject/>
  <dc:title>Презентация PowerPoint</dc:title>
</cp:coreProperties>
</file>