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"/>
          <p:cNvSpPr/>
          <p:nvPr/>
        </p:nvSpPr>
        <p:spPr>
          <a:xfrm>
            <a:off x="0" y="0"/>
            <a:ext cx="6760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dt" idx="112"/>
          </p:nvPr>
        </p:nvSpPr>
        <p:spPr>
          <a:xfrm>
            <a:off x="3828600" y="-36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8840" cy="370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 type="ftr" idx="113"/>
          </p:nvPr>
        </p:nvSpPr>
        <p:spPr>
          <a:xfrm>
            <a:off x="0" y="938664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 type="sldNum" idx="114"/>
          </p:nvPr>
        </p:nvSpPr>
        <p:spPr>
          <a:xfrm>
            <a:off x="3828600" y="9386640"/>
            <a:ext cx="2930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3865-CCBF-46DC-8852-2226168D5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676080" y="4694040"/>
            <a:ext cx="54082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Номер слайда 3"/>
          <p:cNvSpPr/>
          <p:nvPr/>
        </p:nvSpPr>
        <p:spPr>
          <a:xfrm>
            <a:off x="3828960" y="9387000"/>
            <a:ext cx="2930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7355-E865-45BD-878A-E6AE05E71507}" type="slidenum"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9E4-CDE0-4C3D-A25F-350A24E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685-09CA-4073-9B95-EEBD8AB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F73D5-12B2-4753-BAAB-441FD43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EA80F-1B2C-427C-8AF5-EE45A34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BA510-7940-49A8-B657-A988230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07780-03E4-434E-A2A5-9783753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B1B90-2260-4644-B596-09D709E7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C71A4-809E-4674-95BE-FB588B7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DBA6-7C78-450C-A040-11A546B5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5DD1A-CEBE-4400-8628-82CEC923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6E48-57AA-4D23-A4E9-04534A9F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4B286-F960-4E4B-AE59-ECB26F23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187-C1CA-471B-9456-CA2E0F0E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1C8F1-6F3C-4788-A8F6-77D5E2C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A7BB7-E4A7-4982-9ECC-BFE9C542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C11B4-5980-47B6-B3CE-4A5FE943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36248-78D0-4AE9-B6E3-3FA077D9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445C8-8BAE-4D13-BD0F-F04E516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C7DAA-D897-4044-B42F-F1AB1CE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A2A3D-D499-48E7-8932-499A8D7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F2BAE-F030-4CFC-99BB-F50BAF8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1FE81-A70A-44AB-BAAF-C41B8E53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1ADD-704D-4D04-873E-C94C4151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37A-887A-4190-8674-F517E839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5D071-CEA1-48D6-ADC2-758D7D31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8FBF3-D4D6-423D-BF3D-36B4FECA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A4E6-B9AC-42C7-BC59-A6A9472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39423-7610-48EE-A0A8-27289C7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44727-DE25-4D38-B0E8-588C3B8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DBB16-AA74-433F-A92A-342DF2C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19DAC-6C22-4061-9C0F-1FA5FE7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D04DD-9C50-4E65-91E5-EDBE128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96013-4BA2-42F3-9816-0EFFD02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0CAA-48EA-45A3-8801-1178D4D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41E8-2476-4B56-8D1C-DB893B59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3822-E7BB-4C76-B35D-67EA8925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2DB5F-A183-41DC-9C13-93468942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8F522-E68B-4904-8FDF-CFCE6E4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481756-872E-4AEA-8E32-FA118BA3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DD23E7-CE3C-4032-86B2-44C78DE9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E818F-4AE6-456C-8A25-7B015A0A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556AAE-8D2B-4D37-9380-6D32B189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FB5033-4970-434D-9D74-5AC291E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C75B0A-5312-4C82-9457-88218653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26988B-73E0-4E14-ADA7-E8CAB16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4D59-524A-48BE-BE57-DFBDF8DB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8919DD-8EEB-4D23-A9C3-9D9475A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5F4899-E019-4D4A-B92E-8B076D5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D41F4A-59C5-47F5-A25F-F1CAFF77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3EBBE5-007C-4816-AAC9-18BC41FD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75DDE1-5C60-4752-B2AB-10DC8945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DA86E-9C17-479E-B31F-D28ADF4C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DDDAF-BF96-4478-A14F-8A6E02DC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94A25-88B5-4945-850B-79C0D83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FD4C2-125A-4847-AFC9-B637D019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5673C-2B13-499C-B6EE-2CD3AB0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7B6B-2C6D-4A17-BC4F-E5531B46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8203F-7641-4C80-B901-16DF2C0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892E5-B3FF-47D4-A45E-B48F208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48D32-69BF-493C-AA19-A040988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673D9-CAAA-4C5B-8C9A-AF0BFAA5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DC2FD-7F29-4B33-A05A-221F511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E9A6E-C00F-47FB-9895-76DD9AF9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13715-B6CE-44FA-9CD0-99F2BD1E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EAA93-B667-477D-816F-F9FD6BBA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B0C97-20F7-4C8A-A759-428C7914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214B9-1E33-4E20-B2B2-5466BF80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30B-B4E4-4AD9-82AF-826AC732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7F200-9E18-470D-AF8A-318BF68F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794E9-B0B3-43CC-9ED9-2BE3CB9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346A9-45B7-4C6E-ADAB-6AF61C7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866D1-D449-4791-ADE4-2231A31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33AAE-DD0D-4A6B-9EB6-BD57B4C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B6DD3-417D-445E-BD18-41B7F3C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5473A-7279-4C48-AF48-76CED21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9112A-54EE-497D-A5DB-01C23F08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435C9-8631-4179-A324-B9737DAF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13C54-CEE6-45CE-BA61-B3FA6C70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F30C-1CB5-4BE5-9690-595F4334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737D4-FD8F-4716-9304-DEF8DA19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EBE3A-8583-4EB5-A8A1-8D1857F8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6D31E-E680-43BC-A5FB-7272208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850C8-4688-4EFB-950C-7406FF3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94B06-77F0-459D-A363-D98375F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6947F-7656-4D3F-B9D6-582D126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80C6E-1C8A-4C5A-AE45-9345300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00C22-21A2-41CA-A8A3-B8EFC53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D05BE-0319-404F-A239-200729AC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A9EFD-BF16-4CF2-A710-8A667D26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97F8-FF80-4D4D-A88F-B86EA7BE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F5261-AAC6-408F-9E0D-8C368661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FFA3C-8114-44DD-8423-A8095418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5BDCB-5964-49ED-A4A5-4CBF8577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21BDB-C0B8-4E57-B98F-175713E5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14EE3-224C-424B-ADDA-0AD68D8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41E3E-6FF7-4679-BECD-1894954D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8567A-3092-47CC-B0BC-F7C8D4F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46643-B3FF-4F32-88A6-4A0AE1B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D9ACE-49A5-48D1-8B81-A94A6309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BE4A0-56CD-4BB1-80E4-6B48405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46F4-B76D-4106-9BBE-FD1D440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90405-B252-4A8F-A335-E3D1641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5BCCB-7403-48D4-B8DB-F7FC2267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0E75C-13F0-45BB-816F-1946E620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9BE0A-7F72-4DF3-BDE3-A1082583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63757-AFB9-4C7C-9B6F-0556FE68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5F388-E901-4578-9261-024B383F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EF7BE-2BC3-468F-BEDC-4E2B2C0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91D13-89C1-4480-8A4E-0556720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1E9E1-96B0-44BA-87A3-DA5E785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8199E-5BC6-47A9-B107-FA2BF0A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3AD-ED86-4365-96F5-A3A09F77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50C-8C8D-459C-A21C-42CEF37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05DA5-10DE-4D65-BB98-9AF13A5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56862-C39B-4CA7-9081-C2EA90C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7C30E-D8F1-48D0-83D4-FA7B94D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59C7F-17F5-45FF-8C57-D378410A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B1143-2BF9-4399-B254-C88B3A0E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ED0D0-67A1-4B7D-8620-AF6DE99C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BE2CA-D705-4654-A30D-D507C2C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FB9B2-AD0E-4C2D-B3E9-C97F179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CEF32-5EE4-49F0-861B-4FCF094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1D72A-D72B-4285-B35C-F9CC95D0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1C39-2001-45BE-97C8-617EC7A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6992B-D7D6-42F1-9568-E17D231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6139B-D870-4E03-B244-E3952237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64C55-DB8E-4695-A2E3-2340C90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24471-8B93-4C1C-B52A-481A69F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EDD47-691C-44DD-ADB3-7D79262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DE437-8DC4-4DFC-BB9B-A5F9DEC2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7CBF5-133A-4B18-838D-0D0D2217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FBA0D-F088-4079-9503-0F9847DE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ED934-EB89-4E62-B387-CC36A88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9B3C2-C462-4990-959E-B7F8E07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458D-E958-4622-955A-1CCEA91D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5A411-8E4F-4AAE-BED9-737B43D1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AB46F-B438-4AC9-B503-4B8E3A45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4A214-675C-4A76-9B1B-8C37AA0E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89AD2-328B-42EE-97EB-E23295D6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0DDD2-7920-4C55-9590-4707667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F6581C-FC57-4772-9394-30AC3A33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03840-9E65-431A-8772-70D7435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3A547-8D26-44F6-9B94-C3B7D70B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4337F-DC2C-4039-BCC0-5A0663F5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E3DF0-D966-4197-BB4E-872F2612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ABD-C813-4705-A7E3-413F6BD9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BDA7B-00ED-4F25-9B38-1C64B9A8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62D91-ACE0-4E1F-9301-76D36DEA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69233-1270-4F63-9A95-4C111ABF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66198-5E4E-4F71-8DA2-8392759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B3340-0430-4B7A-9CAD-C0F0931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D18AA-2811-45CB-A16B-3CCDC5A7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030B9-E55A-444D-8A47-C96D75C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37CA6-CF6D-4536-BB95-1260DCB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8EF7B-7FE4-45DA-823F-2768D893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7CF29-B303-4A22-90BC-C0596EAC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FC5-9CDE-4752-8B56-0813E352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19C66-F00C-4B94-9274-80CBD4ED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C411C-BC6B-47C4-B256-A2D09713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7A3BD-B145-4471-B839-E11A6505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3951D-D503-4EFE-A4ED-93CEEBAE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EC41A-1E52-4CEA-936F-DF70E4A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815CB-618E-44AE-A334-6728F54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D9D24-CB12-4BB7-AEEC-18989AF6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2B2EA7-2774-4315-B732-4A4B47E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BAA6C1-AF0D-43A2-B7F1-AE1F5B1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64FA4-4418-40B0-9CC8-BF6028F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17E6-3172-4C24-A2BF-5B995DB2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9AAB8-BCFF-4D97-8672-27DA1290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DBBE2-47E6-430F-90E8-8A36479E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197EE-4921-4E1F-87C8-E88366A1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A5F30-B224-42C6-A848-44A5AD46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4D846-CA9F-45E0-9002-F80459D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7BF89E-1C08-49E7-9C08-9AEF19B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468DB-BC21-44EF-A8F7-AE25988C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E19515-5AFE-45BB-B7D6-EAFEF02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4B4BE-3167-471D-89F4-AD68A55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1575DE-98A6-4546-901A-B907981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271B-F95A-486E-9E74-52865CA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FF850A-E468-4F25-95C1-7278A91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06696E-4FD1-4140-A8BE-A22B2B5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34DA0-AEEF-4B1C-A5C2-4E5696CC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F2286-8A11-48E0-94BC-0242F98F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DD7669-C790-447C-B820-007F17EE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E9D8F3-207C-41FD-BB3D-D708191D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05D84-128B-4FA7-949C-35291909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345D3-FF0F-45BD-B853-3D27915D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D2820-00F0-4205-AD95-A80DC4C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071C19-A114-4D12-9932-2E4DE42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2C20-08BC-4E5D-B646-AB11289F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88CCF-30A4-43EC-8C6F-11B63C46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4F2494-770C-4D7D-A500-27C6F483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B7A76-8ED3-4EE2-A4EC-A1998D7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3EFB6D-115D-4525-8E4A-DB3DE35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6DA81E-0E8A-4382-B338-376BC2BB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B3A90-A211-433A-B77C-8D98B23B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B2799-ED1F-4EF8-8A73-431310EA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2CE64F-9A4C-49A5-BF30-7BAAEDE0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F78782-476F-4D55-9B1D-74EFDE5B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A14E90-8E82-4EBF-A6F5-3717E8DD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B13D-703A-4C6D-A502-EE5483F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52AA4B-6430-49F4-A58F-AB861EC0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0CAF00-6AE9-4E6C-AE65-746184B3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7F3DF-5AFF-402B-B94A-1F2E7C8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29EA31-ECD1-4D1D-99B6-0A7F864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860CCC-D027-4818-B09E-668CB43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584EDF-FBE4-47D9-B7EE-B5471E4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1756F3-4182-4AE2-AF99-1157DD0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55C869-526D-4821-A534-7B3F0A0D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698DEC-E174-4ABE-8F72-C481033D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16E762-37FC-4EA4-A73B-AAD4D46A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042F-4DEC-4802-AA75-08B571B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9E08F5-F402-4784-B005-F5EBFE2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4C2768-7842-484C-AB79-7408FA6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F78B0-8B6A-4ECE-B9FF-931B2E79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D6A7D7-51CB-47A5-95AC-D3F0F657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3755F4-321B-4069-915C-26D5FEB0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7CFD37-4553-45EA-A2A4-581476A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8D30A2-676F-48F7-888A-A782C7B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657C83-A703-4350-AE06-DE0D9D6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D7003C-D2BE-4D48-B501-4F0C91C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E44956-03AC-42E6-829A-3902DF10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57C-26A1-4465-871E-FFCF0BF6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1DA8-7FDC-43AB-B8CD-05388845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279DD-B138-453E-871F-6E287AB1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F03DC9-A8D0-4565-B6D2-AB891822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B0B907-BAE0-4776-A5B3-8A0E092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6A43B3-89EA-4EAF-84EE-E17AC228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F5F712-E26D-414E-ABF7-6BE6748B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1C8EAF-4CDD-45DB-9847-3F4175CF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703B32-3ED9-46F5-84BE-201ADFB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C17D41-E2F1-4DE3-9DCA-16FBBD2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9E6B19-7D67-46B1-924F-D6A33FB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79693C-5CFA-4089-8353-253DD39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A7CF-AB2D-4862-8089-B9548646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B24B6A-53ED-475A-ABB1-BF0EBF2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3CD4F7-D8C0-4EB6-8451-9E7BC0F2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A75E8F-1CFC-497F-94F1-633D9E71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74752A-94BE-470F-9087-6D19D134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ED3D5D-80F6-4D38-A910-E4570BA6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26770E-0B93-43E0-9FBC-2C3F714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691B44-71AA-4A97-833E-8AA37EB7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0D14BE-B9F2-4286-80D7-9CE0052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84FF96-ED4B-4FFC-973A-DBF0DF13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4AF27A-1CFB-4E05-A27D-5077573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B61F-2844-4CF2-B325-AEF8EAA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ACD1E3-3315-4CB5-90F0-22A32DA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ED642A-5BF5-40A5-B9F0-24242472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7FAA97-89F6-416C-A1E8-4875D104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9560A9-2F96-491A-B178-FEE78B26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FE1D06-6949-4DA0-B6CC-FF85FCED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44C8E0-0629-4681-AD65-28BC535B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2E12FE-C526-4813-A959-11C45454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4D8D8A-6339-4BEF-9249-65AB5996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F4BE4C-1A11-4AE1-B5A0-C895C1D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B051DC-1DE0-406E-A934-08697272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0259-B48C-456A-8DCD-9B17929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F5195E-578F-4015-9457-6A1392BE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D3A979-0CF4-499F-AA53-2077AB10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8683AD-D35F-456F-81AE-452BB8B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1A66C5-3B98-40D9-8D4B-11C1B21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853CBF-0D88-4D8C-91DE-E0A6CED2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DBF063-4559-4EDB-AACB-46B42C2A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E6AA0-D73C-422B-9A4D-0E9CBDE2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239A57-4323-4E0B-9321-FCCD333D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F7EA05-74EA-4E8F-BF6E-0C13E18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0ACDDB-8E71-496E-8BCA-F5CA78B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56A5-BE9D-4D87-8E96-955E92C3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4239C-FFA9-4C19-9A3E-FFCE9254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F91469-B604-448F-B474-8793230B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740312-95F3-4691-AB0A-9E563343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9B03BD-F083-4AF4-AF1F-E4305A4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98F5A9-781B-4C01-9190-071462C8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F397F9-2F7D-4329-A7A1-3F27627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2AFC2D-45BB-400D-8D44-48CAE095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9FB609-8ACF-4C87-BDD5-BA51C46E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85AF86-83F2-4943-88D8-B70A7169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37AA99-7984-4271-96DB-ED688336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2508-DD30-4542-94A7-5A46182A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3B3950-CC06-4EE1-A39D-7A6D492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0DFE29-0787-413E-8EF9-3B2B24E1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941CE9-0A7C-44EF-9B53-42FA406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262D38-3328-401E-9854-5EBC34F0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D5C9B4-C3D5-489E-B160-7561958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0C771D-2C0E-4ECA-9C3E-3D6995F3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B7C527-B7D7-4697-9DF8-737CB91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FB816A-7FC2-45EF-930E-C3428FF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8D3E99-15FF-4E37-8DDA-4A5B337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6A8B9E-C949-4839-9ECA-4A846A44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5432-FBC4-41E9-83C2-83B67B7B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C60F05-2A64-45AC-B8A5-A45E3E3E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8350C7-03E0-4E3D-960C-953C9AE8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1DAC00-57BD-48E0-B842-3E06C6E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90C0AA-EB2D-47EA-9936-F409DF1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226618-E6E4-4D97-BFAF-53ED949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4B482-668E-4DA6-BC20-8FF5EAC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F1E2A8-F6CC-4CAB-9F1F-97358959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834CB4-4006-4686-B7F5-269BFB0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DF287F-8220-4080-8032-4E6C9E6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297E0B-0C48-4C94-98E9-3843D078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1248-4C6E-436B-9722-DA24A439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F29001-5E35-4BAD-A194-693F5AC7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478C09-3E45-48D1-96BD-105C1650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C4AB64-5BE2-453A-A6DB-E5251FED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EEBC6C-5614-4D3A-882F-AB4D472C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838F1A-0430-4ACD-B97B-D34A6646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ACBE1C-332C-4E06-BD71-341E0A5D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ACD564-19B4-4056-807B-A8157C9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939049-ED88-4942-9B6B-4425770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A08F18-76FA-42E4-9A50-367310C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DC7F5F-B5BB-4A51-8CA6-AF0974D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0CAC-9EEE-410C-B314-62E2596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7656F1-DB96-41FA-9CBE-2AA6095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4A9E14-825F-4990-A5DA-9722238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2567D0-4FC4-47DA-9E33-BFC471E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17BE3D-94E3-44F9-AA3C-53F4BEFA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7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65FBD7-1F31-4459-8158-DC872FB7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3BA90A-6190-4A42-9843-0F401E30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B4B8C0-FC10-4380-BF26-27DD178E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936C9B-9A70-441D-A872-0629C80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4491C0-D7FD-4B8F-913D-652D1C56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781C53-7840-4D73-B859-BD130359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14DB-16E1-430F-A932-7959659A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64E301-EFB6-4E16-8AFC-718AD62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81CFCF-B63A-4810-A728-857A1E21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E035DC-628A-4FDC-A6F1-671961D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F0A98E-4D88-43A6-9FBC-4EC2795D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E70C9F-FD03-4A25-9AAB-9C6C4DDB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49CF25-69A1-426A-81CC-948AF1CF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D592CC-7A3E-464A-B7E6-E00DBC32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B28A3F0-C7DE-45F0-AB59-E3BD0392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39FF623-1650-40DC-A141-7E6B032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87E9A5B-AA89-4A4C-8320-5A8099A9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3A5-7231-42D0-8710-4E5333B5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9BB0D-A16D-49A3-85A5-70EC37DA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9329C11-0263-4EA3-ADEB-D007646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419F9F5-741E-463F-9CD7-B5EAC8C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199F6E5-195C-4FF6-8554-676F12F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ECC0002-4AA7-4709-92DB-15AB9A1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624E6BC-6005-473C-81A3-225C2BA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22F90B-AA5E-4231-B1ED-541E8B5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EEDAB0E-EAF6-48D6-B448-9A780D8C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49886F5-30F9-42D8-8B07-EE1EF0FC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14A2CA5-43C3-4E0B-83C3-D5661C49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3B3ADB-4653-48E7-820E-02502E61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EE12F-4AEF-430B-B083-49050309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A6DD77-9DDF-4905-86B8-73933FE1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69AE5B-ADA0-4ECA-967C-5CFE10F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ECDD6B-F2C1-496B-85CE-510B2517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C33069-11DD-4CE3-8C94-349A4A5B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2513EB-A15E-4027-987A-9EB79D3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BCA109-69A0-4B87-9378-CA174CE6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593F533-24B9-4D61-8AC1-0323699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CC9729-C965-440D-A8B9-DA340D6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67B6A8-C5A4-43A7-B105-0C70D0BF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C408A9-D30B-4F43-B21F-B6DBDEC0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A150-7F25-4DB6-A183-588058B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0EEA70-8FDD-432A-A5AD-113783BE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761756-1E43-49F0-87B3-7182B277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AAE9C5-A4E3-467C-AD25-1AB57CA4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CA4A95-0645-4E06-ACCC-3C4CD15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6F3977-CA56-4DAC-891E-CA2F5F6F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D6B08E-8CBB-4B90-954A-9CADDBD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D5EAF8-AF59-459B-93D2-8996C2F3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1D4B77-3442-4AF6-8158-E1BABA2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FDCE0A-85DC-4146-A377-41DA432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00DC16-0A73-483F-85C1-9C14B7E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FAD2-80C9-472C-90DB-EA44ACE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A7B481-1C8E-4A9A-9F54-5A6B5E1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3C144B-0CB8-44DB-9EE8-CDD5F3B7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953ED7-8AD3-4D3C-BE07-F0FB30D1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4669E2-4AD2-43FA-8D31-965452A1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A9CD40-00F5-4F37-A2D7-27A33B12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1392CD-76B1-40AA-844F-76486273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C82506-1E30-4FDF-88CE-3AF7901A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29C20A-D5AF-4A6D-8A5F-5C028BD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907BBE-60E6-465F-8786-2270C3E3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98642A-300C-4CFC-862B-6AE2157D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0513-EDDD-4E8C-A6C4-FBF5CC9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6837BB-8BD8-41F4-B851-0D4C462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C708B8-8962-4965-91A9-90FDB92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9F61F5-836B-4AA6-866A-E7FE4BB3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8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C66BFE-66A2-48A1-B8FE-9BCCCFE2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9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8BD9CF-3A63-4C36-8C82-78CE7705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9476-80F0-4C00-8E87-8EB0D6F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A501-371E-4C9D-A6BC-ED221B2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6900-87ED-4810-8DCD-E3E88E1A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1A04-9178-4685-820B-1B51F745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8DD6-64A8-4F1E-BDB6-88AFE8A4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59A-B190-4DF1-AA04-EAA49ADD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2CA9-092E-4843-A3C6-32ECFBA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5394-7D13-4AA9-8154-A4547F1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640F-382A-4AAC-A8D6-FB8C84F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51BF-FD8A-42C5-965B-CAC3B902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4DC4-0348-48FB-9C68-5E0F071F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DCE82-EED0-4CE1-B727-791440E7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64FD-42E6-4CFA-A594-C09ABC3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DA40-BCFE-4FD3-A2C4-91583B6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AB006-1561-4DF9-ADD0-4ECE3AC2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33DB-D559-4F19-A734-B86155AD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FBE-84FB-4776-8364-0341C832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0DD1-66ED-4FB7-BE16-C7769B5A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8C30-2E6D-48F5-832C-266BB44E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078E0-2C85-44DB-9CEE-007D46F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B7FC-0D9D-4E78-8429-CB8EC2E8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83DAA-891F-4D0F-9CAC-02FCDD09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A1152-D073-411A-80A8-9B67C49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FEF1-4F92-416F-B51C-2E829F1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B103A-5B2A-4800-BA2A-E1EEFEB8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3B37-65E7-432B-8BCD-7B0B020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C5E7-89B8-408E-8056-657DC28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20E-C363-4DE3-9801-611A0F9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4C2F0-B712-4BF4-B464-643C2A09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91B5-BFF1-4992-8CEB-A4DF844A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8C7B-FD7A-445C-B854-7823FE76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5C1E-A4E0-49E5-9CF7-6B8A5CCD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9134-9C57-436C-AD90-8DB445C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954B3-0894-403F-B908-5CC6F6F9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F62DB-DE64-49E9-A642-C05751F1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F32C-081E-41C5-8FC7-485BF4AB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599C-21AC-41FD-AB50-362ABC38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1DA9-CF12-4A4B-8345-A778EF28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4FB-7E63-4678-8B8A-41FC6CC2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57A3-7D15-4AC1-A72B-95F5F12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6299-FF50-4C89-9609-934ACF1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43C0-38FC-4128-B69D-19E6288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5CB0D-90AD-4070-9A94-0DFDF639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8D31D-FEDE-4D5F-BAB4-676E9306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A2ACD-2173-45A1-9AA2-9CCFE81D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FADB3-49B3-463E-9364-F383514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E969-06F6-4AB7-9FD4-BB3134AD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15061-A46C-489F-87B3-130BA29B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B59BA-C551-4C9D-AB49-76479EB8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B0B-EBC7-48ED-8143-ACB1834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CDAD-2BCA-420B-AEAE-C0C720A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4A032-939F-4315-9C00-5C68DEE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57DD-A740-4E4E-AFE2-9BCC872F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7D40E-9BF0-475F-BEA6-D2C2CD5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453E7-3DC8-43DA-A382-2346CD2E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53E8E-59A9-42C4-9164-C7E2B4FF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5ACB-8849-49D6-BE35-C9DFF53E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B9FAE-424C-4513-97CA-23DF9183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9D51D-B5EB-4F0F-8635-583ECE60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F081-12B2-43AB-919F-5FAB4D7F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E281-F036-49FA-9FFE-288B34225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67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67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67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7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67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7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8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8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68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8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8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8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1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8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74A3-A478-4E51-9FF6-43F3113C684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75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75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75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5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5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6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6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6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76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6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76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7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71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2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3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4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5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6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7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8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9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0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1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2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3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4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5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6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7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8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9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0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1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2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9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3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B2D-BBFD-4CDD-A3BF-F92EC910315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3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3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4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84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84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84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4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4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85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85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5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5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85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7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7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4C3B-848B-4C70-9882-D5B24A54E98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ftr" idx="36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92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92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92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2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3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3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93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3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3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3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4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5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6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3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38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3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92E-EA5F-4D59-ACF2-B9EE5BABF09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00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00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00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0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1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01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1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01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1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01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02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02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4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4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4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41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4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2A7-63DE-4FFE-8C65-1D7936EC8CF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08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09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09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9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09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09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09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09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0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0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10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0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0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10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0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1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2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4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4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4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9E6-8CD9-441B-8079-D4F480BF22C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7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7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7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78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179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8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9435-0FF0-4C03-84BC-196C8F33F7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225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2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2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4226-0627-4020-A6C9-04D3E4798E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27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27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7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1F7-9FCF-4907-88E0-ED5A504796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BD4-9D49-47F4-A2F7-7B1B31EB86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4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97E9-505F-4172-B49A-E72487B93389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5DED-FE20-4062-941A-E1D60F30DC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0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6AE-3708-472A-94AC-464DAF8AC2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903-F104-475D-A4DA-1667075F21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A91-6BDA-4C3C-9651-FD0B957937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4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C4E-8E26-4156-88CA-DE9D0F999F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8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9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5FB8-26D6-466C-ADB8-0389C0E8DC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35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3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3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12AE-3885-46F1-B055-227E0630CA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8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684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8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688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9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0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9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69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4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9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98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1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2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3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4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5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6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7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8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9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0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1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2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3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5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6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7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8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9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1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2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dt" idx="79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 type="ftr" idx="80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 type="sldNum" idx="81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6B9-521D-4285-B32F-3AC036A71BDC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76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76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6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7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7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7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7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7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0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8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83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8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9891-6A00-4C47-BCB0-96AEE8C970F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84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85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85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5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85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5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85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6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6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6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6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8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8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86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87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76F-1015-4638-B850-4FE24B9F153B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2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964-CEB0-45F7-9015-A0549E3778A7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93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93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93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3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93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4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94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4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4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7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 type="dt" idx="88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 type="ftr" idx="89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 type="sldNum" idx="9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88C1-AF95-488C-AF3A-1ECDF765EE40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4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01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01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01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2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02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2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02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2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31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2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3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4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5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6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7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8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9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0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1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2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3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4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5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6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7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8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9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0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1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2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5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 type="dt" idx="9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 type="ftr" idx="9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 type="sldNum" idx="9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92E4-B99F-4F9D-97D3-2BEE2ECEA28C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7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098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099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100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1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2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03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104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5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6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07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108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9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0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111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2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3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14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5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6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7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8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9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0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1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2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3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4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5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6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7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8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9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0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1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2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3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4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5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36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7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8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 type="dt" idx="9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 type="ftr" idx="9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 type="sldNum" idx="9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E35-8662-44D0-AAD3-1DE509F1AFF5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18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18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18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8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18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8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9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19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9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9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19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9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9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9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1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9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9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9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64A-CFD0-4C85-A666-6E509C8355A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3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26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26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266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6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6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26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270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1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2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27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27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276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27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27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27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280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3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4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5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6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7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8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9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0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1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2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3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4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5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6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7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8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99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00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01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30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3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4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5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0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sldNum" idx="10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02D-74D6-4FBC-879A-3468A12F44BD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ftr" idx="10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34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34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350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35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354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5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6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35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358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59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360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361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62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363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364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5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6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7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8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9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0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1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2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3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4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5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6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7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8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9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0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1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2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3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4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5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386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7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8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9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 type="dt" idx="10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 type="ftr" idx="10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 type="sldNum" idx="10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15E-2D99-484E-B204-B8B940693E5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43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43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43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3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3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43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43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3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4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44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44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4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44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44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44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44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44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4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47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 type="dt" idx="10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 type="ftr" idx="10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 type="sldNum" idx="10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9312-C6D3-40E9-9A7D-92C3D9CC535C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4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51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51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51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1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1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52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52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52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52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2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52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2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53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531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2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3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4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5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6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7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8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9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0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1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2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3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4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5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6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7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8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9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0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1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2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55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 type="dt" idx="10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 type="ftr" idx="110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 type="sldNum" idx="1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7E4-8E37-4EDA-9573-BB06382CB15D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7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7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8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9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2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86F9-79D4-483D-807C-313A8C189029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6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6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7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9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5C71-87F7-4BD8-87D9-33D54A121C77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40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41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42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3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4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45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6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7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48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349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50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51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52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53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56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7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59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0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1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2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3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4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5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6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7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8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69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0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1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2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3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4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5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6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7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78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EC6B-DFBD-4657-B48A-3463F2B3077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2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2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2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42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43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3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3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43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43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39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0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1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2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3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4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5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6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7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8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49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0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1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2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3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4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5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6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7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8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59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60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46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0959-71D1-448B-893A-E06F3860E99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50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0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0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1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1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1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1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1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2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3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FE6-1E88-435E-947F-DE572AC16D6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58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9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9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9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9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9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9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0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0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0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0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BF1-7FE9-4E4C-9753-24F62E7198D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05" name="Picture 2" descr=""/>
          <p:cNvPicPr/>
          <p:nvPr/>
        </p:nvPicPr>
        <p:blipFill>
          <a:blip r:embed="rId1"/>
          <a:stretch/>
        </p:blipFill>
        <p:spPr>
          <a:xfrm>
            <a:off x="1163520" y="1587600"/>
            <a:ext cx="681696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Прямоугольник 3"/>
          <p:cNvSpPr/>
          <p:nvPr/>
        </p:nvSpPr>
        <p:spPr>
          <a:xfrm>
            <a:off x="611280" y="8366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ПО ВИДАМ УГЛОВ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0" name="Line 5"/>
          <p:cNvSpPr/>
          <p:nvPr/>
        </p:nvSpPr>
        <p:spPr>
          <a:xfrm flipH="1">
            <a:off x="1771200" y="1628640"/>
            <a:ext cx="2800440" cy="341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1" name="Line 6"/>
          <p:cNvSpPr/>
          <p:nvPr/>
        </p:nvSpPr>
        <p:spPr>
          <a:xfrm>
            <a:off x="1763640" y="5084640"/>
            <a:ext cx="439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2" name="Line 5"/>
          <p:cNvSpPr/>
          <p:nvPr/>
        </p:nvSpPr>
        <p:spPr>
          <a:xfrm>
            <a:off x="4572000" y="1628640"/>
            <a:ext cx="158436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4" name="Line 4"/>
          <p:cNvSpPr/>
          <p:nvPr/>
        </p:nvSpPr>
        <p:spPr>
          <a:xfrm>
            <a:off x="3635280" y="191628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5" name="Line 5"/>
          <p:cNvSpPr/>
          <p:nvPr/>
        </p:nvSpPr>
        <p:spPr>
          <a:xfrm>
            <a:off x="3635280" y="5229360"/>
            <a:ext cx="28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6" name="Line 6"/>
          <p:cNvSpPr/>
          <p:nvPr/>
        </p:nvSpPr>
        <p:spPr>
          <a:xfrm>
            <a:off x="3635280" y="1916280"/>
            <a:ext cx="2881440" cy="331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8" name="Line 4"/>
          <p:cNvSpPr/>
          <p:nvPr/>
        </p:nvSpPr>
        <p:spPr>
          <a:xfrm>
            <a:off x="1305000" y="1989000"/>
            <a:ext cx="136836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9" name="Line 5"/>
          <p:cNvSpPr/>
          <p:nvPr/>
        </p:nvSpPr>
        <p:spPr>
          <a:xfrm>
            <a:off x="2673360" y="5084640"/>
            <a:ext cx="420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0" name="Line 6"/>
          <p:cNvSpPr/>
          <p:nvPr/>
        </p:nvSpPr>
        <p:spPr>
          <a:xfrm>
            <a:off x="1332000" y="1989000"/>
            <a:ext cx="554364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Прямоугольник 3"/>
          <p:cNvSpPr/>
          <p:nvPr/>
        </p:nvSpPr>
        <p:spPr>
          <a:xfrm>
            <a:off x="611280" y="836640"/>
            <a:ext cx="7777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ПО ВИДАМ УГЛОВ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УГОЛЬНЫЕ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Е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2" name="Равнобедренный треугольник 4"/>
          <p:cNvSpPr/>
          <p:nvPr/>
        </p:nvSpPr>
        <p:spPr>
          <a:xfrm>
            <a:off x="4443480" y="1773360"/>
            <a:ext cx="1655640" cy="115092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3" name="Равнобедренный треугольник 5"/>
          <p:cNvSpPr/>
          <p:nvPr/>
        </p:nvSpPr>
        <p:spPr>
          <a:xfrm>
            <a:off x="4656240" y="5300640"/>
            <a:ext cx="1500120" cy="1058760"/>
          </a:xfrm>
          <a:prstGeom prst="triangle">
            <a:avLst>
              <a:gd name="adj" fmla="val 7165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4" name="Прямая соединительная линия 7"/>
          <p:cNvSpPr/>
          <p:nvPr/>
        </p:nvSpPr>
        <p:spPr>
          <a:xfrm>
            <a:off x="4514760" y="3479760"/>
            <a:ext cx="2136960" cy="124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5" name="Прямая соединительная линия 9"/>
          <p:cNvSpPr/>
          <p:nvPr/>
        </p:nvSpPr>
        <p:spPr>
          <a:xfrm>
            <a:off x="4500720" y="3479760"/>
            <a:ext cx="80640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6" name="Прямая соединительная линия 11"/>
          <p:cNvSpPr/>
          <p:nvPr/>
        </p:nvSpPr>
        <p:spPr>
          <a:xfrm>
            <a:off x="5307120" y="4613400"/>
            <a:ext cx="1352520" cy="11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7" name="Дуга 22"/>
          <p:cNvSpPr/>
          <p:nvPr/>
        </p:nvSpPr>
        <p:spPr>
          <a:xfrm>
            <a:off x="4971960" y="4344840"/>
            <a:ext cx="588960" cy="648000"/>
          </a:xfrm>
          <a:custGeom>
            <a:avLst/>
            <a:gdLst/>
            <a:ahLst/>
            <a:rect l="l" t="t" r="r" b="b"/>
            <a:pathLst>
              <a:path stroke="0" w="588963" h="647700">
                <a:moveTo>
                  <a:pt x="177714" y="26547"/>
                </a:moveTo>
                <a:cubicBezTo>
                  <a:pt x="268521" y="-16586"/>
                  <a:pt x="372953" y="-6702"/>
                  <a:pt x="455723" y="52859"/>
                </a:cubicBezTo>
                <a:cubicBezTo>
                  <a:pt x="529140" y="105690"/>
                  <a:pt x="577312" y="191770"/>
                  <a:pt x="587118" y="287652"/>
                </a:cubicBezTo>
                <a:lnTo>
                  <a:pt x="294482" y="323850"/>
                </a:lnTo>
                <a:lnTo>
                  <a:pt x="177714" y="26547"/>
                </a:lnTo>
                <a:close/>
              </a:path>
              <a:path fill="none" w="588963" h="647700">
                <a:moveTo>
                  <a:pt x="177714" y="26547"/>
                </a:moveTo>
                <a:cubicBezTo>
                  <a:pt x="268521" y="-16586"/>
                  <a:pt x="372953" y="-6702"/>
                  <a:pt x="455723" y="52859"/>
                </a:cubicBezTo>
                <a:cubicBezTo>
                  <a:pt x="529140" y="105690"/>
                  <a:pt x="577312" y="191770"/>
                  <a:pt x="587118" y="2876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8" name="Дуга 31"/>
          <p:cNvSpPr/>
          <p:nvPr/>
        </p:nvSpPr>
        <p:spPr>
          <a:xfrm rot="21058800">
            <a:off x="4043160" y="605448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814387" y="171807"/>
                </a:moveTo>
                <a:cubicBezTo>
                  <a:pt x="855753" y="223579"/>
                  <a:pt x="885370" y="283725"/>
                  <a:pt x="901187" y="348079"/>
                </a:cubicBezTo>
                <a:lnTo>
                  <a:pt x="457200" y="457200"/>
                </a:lnTo>
                <a:lnTo>
                  <a:pt x="814387" y="171807"/>
                </a:lnTo>
                <a:close/>
              </a:path>
              <a:path fill="none" w="914400" h="914400">
                <a:moveTo>
                  <a:pt x="814387" y="171807"/>
                </a:moveTo>
                <a:cubicBezTo>
                  <a:pt x="855753" y="223579"/>
                  <a:pt x="885370" y="283725"/>
                  <a:pt x="901187" y="3480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9" name="Прямая соединительная линия 33"/>
          <p:cNvSpPr/>
          <p:nvPr/>
        </p:nvSpPr>
        <p:spPr>
          <a:xfrm>
            <a:off x="4443480" y="2708280"/>
            <a:ext cx="1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0" name="Прямая соединительная линия 35"/>
          <p:cNvSpPr/>
          <p:nvPr/>
        </p:nvSpPr>
        <p:spPr>
          <a:xfrm flipH="1">
            <a:off x="4599000" y="2708280"/>
            <a:ext cx="7920" cy="1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Равнобедренный треугольник 1"/>
          <p:cNvSpPr/>
          <p:nvPr/>
        </p:nvSpPr>
        <p:spPr>
          <a:xfrm>
            <a:off x="1231920" y="1665360"/>
            <a:ext cx="1584360" cy="1368360"/>
          </a:xfrm>
          <a:prstGeom prst="triangle">
            <a:avLst>
              <a:gd name="adj" fmla="val 500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2" name="Равнобедренный треугольник 2"/>
          <p:cNvSpPr/>
          <p:nvPr/>
        </p:nvSpPr>
        <p:spPr>
          <a:xfrm>
            <a:off x="3054240" y="3321000"/>
            <a:ext cx="1060560" cy="914400"/>
          </a:xfrm>
          <a:prstGeom prst="triangle">
            <a:avLst>
              <a:gd name="adj" fmla="val 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3" name="Прямоугольный треугольник 3"/>
          <p:cNvSpPr/>
          <p:nvPr/>
        </p:nvSpPr>
        <p:spPr>
          <a:xfrm rot="10800000">
            <a:off x="4834080" y="2906640"/>
            <a:ext cx="1706400" cy="914400"/>
          </a:xfrm>
          <a:prstGeom prst="rtTriangl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4" name="Полилиния 4"/>
          <p:cNvSpPr/>
          <p:nvPr/>
        </p:nvSpPr>
        <p:spPr>
          <a:xfrm>
            <a:off x="674640" y="2960640"/>
            <a:ext cx="2700360" cy="2286000"/>
          </a:xfrm>
          <a:custGeom>
            <a:avLst/>
            <a:gdLst/>
            <a:ahLst/>
            <a:rect l="l" t="t" r="r" b="b"/>
            <a:pathLst>
              <a:path w="2699657" h="2286000">
                <a:moveTo>
                  <a:pt x="1458686" y="1306286"/>
                </a:moveTo>
                <a:lnTo>
                  <a:pt x="2699657" y="2286000"/>
                </a:lnTo>
                <a:lnTo>
                  <a:pt x="957943" y="2242457"/>
                </a:lnTo>
                <a:lnTo>
                  <a:pt x="0" y="0"/>
                </a:lnTo>
                <a:lnTo>
                  <a:pt x="1524000" y="1349829"/>
                </a:lnTo>
                <a:lnTo>
                  <a:pt x="1524000" y="1349829"/>
                </a:lnTo>
              </a:path>
            </a:pathLst>
          </a:custGeom>
          <a:solidFill>
            <a:srgbClr val="94c600"/>
          </a:solidFill>
          <a:ln w="9360">
            <a:solidFill>
              <a:srgbClr val="94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5" name="Прямоугольный треугольник 5"/>
          <p:cNvSpPr/>
          <p:nvPr/>
        </p:nvSpPr>
        <p:spPr>
          <a:xfrm rot="5400000">
            <a:off x="5713560" y="4653000"/>
            <a:ext cx="914400" cy="914400"/>
          </a:xfrm>
          <a:prstGeom prst="rtTriangl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6" name="Равнобедренный треугольник 6"/>
          <p:cNvSpPr/>
          <p:nvPr/>
        </p:nvSpPr>
        <p:spPr>
          <a:xfrm>
            <a:off x="6883560" y="2333520"/>
            <a:ext cx="1368360" cy="1635120"/>
          </a:xfrm>
          <a:prstGeom prst="triangle">
            <a:avLst>
              <a:gd name="adj" fmla="val 2453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7" name="Полилиния 10"/>
          <p:cNvSpPr/>
          <p:nvPr/>
        </p:nvSpPr>
        <p:spPr>
          <a:xfrm>
            <a:off x="4741920" y="1501920"/>
            <a:ext cx="3375000" cy="653760"/>
          </a:xfrm>
          <a:custGeom>
            <a:avLst/>
            <a:gdLst/>
            <a:ahLst/>
            <a:rect l="l" t="t" r="r" b="b"/>
            <a:pathLst>
              <a:path w="3374571" h="653143">
                <a:moveTo>
                  <a:pt x="0" y="631371"/>
                </a:moveTo>
                <a:lnTo>
                  <a:pt x="3374571" y="653143"/>
                </a:lnTo>
                <a:lnTo>
                  <a:pt x="1589314" y="0"/>
                </a:lnTo>
                <a:lnTo>
                  <a:pt x="0" y="63137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8" name="Равнобедренный треугольник 11"/>
          <p:cNvSpPr/>
          <p:nvPr/>
        </p:nvSpPr>
        <p:spPr>
          <a:xfrm>
            <a:off x="4479840" y="3767040"/>
            <a:ext cx="1062000" cy="2614680"/>
          </a:xfrm>
          <a:prstGeom prst="triangle">
            <a:avLst>
              <a:gd name="adj" fmla="val 500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9" name="Полилиния 12"/>
          <p:cNvSpPr/>
          <p:nvPr/>
        </p:nvSpPr>
        <p:spPr>
          <a:xfrm>
            <a:off x="6662880" y="4103640"/>
            <a:ext cx="1152360" cy="2373480"/>
          </a:xfrm>
          <a:custGeom>
            <a:avLst/>
            <a:gdLst/>
            <a:ahLst/>
            <a:rect l="l" t="t" r="r" b="b"/>
            <a:pathLst>
              <a:path w="1153886" h="2373086">
                <a:moveTo>
                  <a:pt x="914400" y="0"/>
                </a:moveTo>
                <a:lnTo>
                  <a:pt x="0" y="2373086"/>
                </a:lnTo>
                <a:lnTo>
                  <a:pt x="1153886" y="892628"/>
                </a:lnTo>
                <a:lnTo>
                  <a:pt x="914400" y="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0" name="Равнобедренный треугольник 13"/>
          <p:cNvSpPr/>
          <p:nvPr/>
        </p:nvSpPr>
        <p:spPr>
          <a:xfrm rot="4203600">
            <a:off x="3340080" y="530676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1" name="Равнобедренный треугольник 14"/>
          <p:cNvSpPr/>
          <p:nvPr/>
        </p:nvSpPr>
        <p:spPr>
          <a:xfrm rot="20115000">
            <a:off x="3538440" y="1758600"/>
            <a:ext cx="1060560" cy="914400"/>
          </a:xfrm>
          <a:prstGeom prst="triangle">
            <a:avLst>
              <a:gd name="adj" fmla="val 48995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2" name="Прямоугольный треугольник 15"/>
          <p:cNvSpPr/>
          <p:nvPr/>
        </p:nvSpPr>
        <p:spPr>
          <a:xfrm>
            <a:off x="1042920" y="5246640"/>
            <a:ext cx="1297080" cy="979560"/>
          </a:xfrm>
          <a:prstGeom prst="rtTriangl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3" name="TextBox 18"/>
          <p:cNvSpPr/>
          <p:nvPr/>
        </p:nvSpPr>
        <p:spPr>
          <a:xfrm>
            <a:off x="674640" y="333360"/>
            <a:ext cx="50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Прямоугольник 3"/>
          <p:cNvSpPr/>
          <p:nvPr/>
        </p:nvSpPr>
        <p:spPr>
          <a:xfrm>
            <a:off x="611280" y="836640"/>
            <a:ext cx="777708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 номера остроугольных, прямоугольных и тупоугольных треугольников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роугольные_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ямоугольные__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упоугольные______________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Прямоугольник 3"/>
          <p:cNvSpPr/>
          <p:nvPr/>
        </p:nvSpPr>
        <p:spPr>
          <a:xfrm>
            <a:off x="611280" y="836640"/>
            <a:ext cx="777708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15 баллов     «5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11-13 баллов        «4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8-10  баллов         «3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0-7 баллов            «2»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Прямоугольник 3"/>
          <p:cNvSpPr/>
          <p:nvPr/>
        </p:nvSpPr>
        <p:spPr>
          <a:xfrm>
            <a:off x="611280" y="836640"/>
            <a:ext cx="777708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. 85 № 1 + один № по выбору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-360" y="286920"/>
            <a:ext cx="871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еугольник - это геометрическая фиг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Line 23"/>
          <p:cNvSpPr/>
          <p:nvPr/>
        </p:nvSpPr>
        <p:spPr>
          <a:xfrm>
            <a:off x="4714920" y="50720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8" name="Line 25"/>
          <p:cNvSpPr/>
          <p:nvPr/>
        </p:nvSpPr>
        <p:spPr>
          <a:xfrm>
            <a:off x="6143760" y="2643120"/>
            <a:ext cx="1439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9" name="Line 26"/>
          <p:cNvSpPr/>
          <p:nvPr/>
        </p:nvSpPr>
        <p:spPr>
          <a:xfrm flipH="1">
            <a:off x="4714560" y="2643120"/>
            <a:ext cx="1439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0" name="Arc 28"/>
          <p:cNvSpPr/>
          <p:nvPr/>
        </p:nvSpPr>
        <p:spPr>
          <a:xfrm rot="2508000">
            <a:off x="4754520" y="4574880"/>
            <a:ext cx="611280" cy="784080"/>
          </a:xfrm>
          <a:custGeom>
            <a:avLst/>
            <a:gdLst>
              <a:gd name="textAreaLeft" fmla="*/ 0 w 611280"/>
              <a:gd name="textAreaRight" fmla="*/ 611640 w 6112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fill="none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</a:path>
              <a:path stroke="0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1" name="Arc 29"/>
          <p:cNvSpPr/>
          <p:nvPr/>
        </p:nvSpPr>
        <p:spPr>
          <a:xfrm rot="15983400">
            <a:off x="6801480" y="4583160"/>
            <a:ext cx="506520" cy="362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2" name="Arc 30"/>
          <p:cNvSpPr/>
          <p:nvPr/>
        </p:nvSpPr>
        <p:spPr>
          <a:xfrm rot="8422200">
            <a:off x="5860440" y="3052440"/>
            <a:ext cx="546120" cy="431640"/>
          </a:xfrm>
          <a:custGeom>
            <a:avLst/>
            <a:gdLst>
              <a:gd name="textAreaLeft" fmla="*/ 0 w 546120"/>
              <a:gd name="textAreaRight" fmla="*/ 546120 w 5461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3" name="Text Box 34"/>
          <p:cNvSpPr/>
          <p:nvPr/>
        </p:nvSpPr>
        <p:spPr>
          <a:xfrm>
            <a:off x="395280" y="155736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ри сторон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4" name="Text Box 35"/>
          <p:cNvSpPr/>
          <p:nvPr/>
        </p:nvSpPr>
        <p:spPr>
          <a:xfrm>
            <a:off x="395280" y="205596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ри угл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5" name="Блок-схема: узел 21"/>
          <p:cNvSpPr/>
          <p:nvPr/>
        </p:nvSpPr>
        <p:spPr>
          <a:xfrm>
            <a:off x="6072120" y="257184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6" name="Блок-схема: узел 22"/>
          <p:cNvSpPr/>
          <p:nvPr/>
        </p:nvSpPr>
        <p:spPr>
          <a:xfrm>
            <a:off x="7500960" y="500076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7" name="Блок-схема: узел 23"/>
          <p:cNvSpPr/>
          <p:nvPr/>
        </p:nvSpPr>
        <p:spPr>
          <a:xfrm>
            <a:off x="4643280" y="5000760"/>
            <a:ext cx="142920" cy="1429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8" name="Text Box 35"/>
          <p:cNvSpPr/>
          <p:nvPr/>
        </p:nvSpPr>
        <p:spPr>
          <a:xfrm>
            <a:off x="285840" y="257184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ри  вершины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20" name="Picture 2" descr=""/>
          <p:cNvPicPr/>
          <p:nvPr/>
        </p:nvPicPr>
        <p:blipFill>
          <a:blip r:embed="rId1"/>
          <a:stretch/>
        </p:blipFill>
        <p:spPr>
          <a:xfrm>
            <a:off x="1149480" y="1523880"/>
            <a:ext cx="68436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22" name="Picture 14" descr=""/>
          <p:cNvPicPr/>
          <p:nvPr/>
        </p:nvPicPr>
        <p:blipFill>
          <a:blip r:embed="rId1"/>
          <a:stretch/>
        </p:blipFill>
        <p:spPr>
          <a:xfrm>
            <a:off x="1149480" y="1523880"/>
            <a:ext cx="68436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-Как называется этот угол?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4" name="Line 5"/>
          <p:cNvSpPr/>
          <p:nvPr/>
        </p:nvSpPr>
        <p:spPr>
          <a:xfrm flipH="1">
            <a:off x="1771200" y="1628640"/>
            <a:ext cx="2800440" cy="341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5" name="Line 6"/>
          <p:cNvSpPr/>
          <p:nvPr/>
        </p:nvSpPr>
        <p:spPr>
          <a:xfrm flipV="1">
            <a:off x="1763640" y="5013000"/>
            <a:ext cx="4392720" cy="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0" lang="ru-RU" sz="31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называется этот угол? </a:t>
            </a:r>
            <a:br>
              <a:rPr sz="3100"/>
            </a:br>
            <a:endParaRPr b="0" lang="en-US" sz="3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7" name="Line 7"/>
          <p:cNvSpPr/>
          <p:nvPr/>
        </p:nvSpPr>
        <p:spPr>
          <a:xfrm>
            <a:off x="1908000" y="2421000"/>
            <a:ext cx="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8" name="Line 8"/>
          <p:cNvSpPr/>
          <p:nvPr/>
        </p:nvSpPr>
        <p:spPr>
          <a:xfrm>
            <a:off x="1908000" y="5516640"/>
            <a:ext cx="360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Как  называется этот угол?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1" name="Line 4"/>
          <p:cNvSpPr/>
          <p:nvPr/>
        </p:nvSpPr>
        <p:spPr>
          <a:xfrm>
            <a:off x="1835280" y="2349360"/>
            <a:ext cx="2023920" cy="295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2" name="Line 5"/>
          <p:cNvSpPr/>
          <p:nvPr/>
        </p:nvSpPr>
        <p:spPr>
          <a:xfrm>
            <a:off x="3851280" y="5300640"/>
            <a:ext cx="331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3" name="Line 6"/>
          <p:cNvSpPr/>
          <p:nvPr/>
        </p:nvSpPr>
        <p:spPr>
          <a:xfrm>
            <a:off x="13320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35" name="Picture 3" descr=""/>
          <p:cNvPicPr/>
          <p:nvPr/>
        </p:nvPicPr>
        <p:blipFill>
          <a:blip r:embed="rId1"/>
          <a:stretch/>
        </p:blipFill>
        <p:spPr>
          <a:xfrm>
            <a:off x="762120" y="5745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TextBox 1"/>
          <p:cNvSpPr/>
          <p:nvPr/>
        </p:nvSpPr>
        <p:spPr>
          <a:xfrm>
            <a:off x="611280" y="197316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37" name="Picture 2" descr=""/>
          <p:cNvPicPr/>
          <p:nvPr/>
        </p:nvPicPr>
        <p:blipFill>
          <a:blip r:embed="rId1"/>
          <a:stretch/>
        </p:blipFill>
        <p:spPr>
          <a:xfrm>
            <a:off x="762120" y="5745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6:14:10Z</dcterms:created>
  <dc:creator>1</dc:creator>
  <dc:description/>
  <dc:language>en-US</dc:language>
  <cp:lastModifiedBy>Irina</cp:lastModifiedBy>
  <cp:lastPrinted>2023-04-24T23:51:41Z</cp:lastPrinted>
  <dcterms:modified xsi:type="dcterms:W3CDTF">2023-04-24T23:54:20Z</dcterms:modified>
  <cp:revision>205</cp:revision>
  <dc:subject/>
  <dc:title>Математика 3 класс.</dc:title>
</cp:coreProperties>
</file>