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72D-A4BC-4952-B4C8-6AC90ECC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9C3-4ED4-4B4A-9241-8B1CA735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569-FA95-474A-95E9-676ED301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53D-2326-4567-8025-DAA2AEA8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2CF-D584-44D6-9BDD-76968D2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B3F-8563-406D-8132-40193F0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EDB-42BF-42B4-A8A4-B4496D2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A21-B00A-4505-8293-F2132807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F6A-4CA2-44A1-8C9A-2565015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587-E343-4BFD-AE76-688743F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4FF-6E50-4050-812E-3C091A3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840-3CD7-46ED-B886-49C4D48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4CB-CCBA-45FE-BB57-7A5745BEB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74640" y="1125360"/>
          <a:ext cx="7840800" cy="405936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4059360">
                <a:tc>
                  <a:txBody>
                    <a:bodyPr lIns="114120" rIns="114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(…)сна, зу(…), (…)гурец, со(…)нце, к(…)рмушка, гла(…), з(…)ря, з(…)рно, п(….)года, сапо(…)ки, сер(…)це, р(…)ка, ст(…)лица, извес(…)ный, сне(…), мес(…)ный, р(…)са, ё(…),   грус(….)ный,  ср(…)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74640" y="612720"/>
          <a:ext cx="7840800" cy="524988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5249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олжи фраз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годня я узнал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ло интересн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ло трудн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понял, ч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перь я могу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приобрел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научил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меня получилось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смог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е захотелось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3787920" y="1125360"/>
            <a:ext cx="444024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Monotype Corsiva"/>
                <a:ea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ставить 5 предложений, употребив   слова с непроизносимыми согласными в корне сл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йти и записать 5 пословиц, в которых употреблены   слова с непроизносимыми согласными в корне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74640" y="1125360"/>
          <a:ext cx="7840800" cy="405936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4059360">
                <a:tc>
                  <a:txBody>
                    <a:bodyPr lIns="114120" rIns="114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22440" y="1649520"/>
          <a:ext cx="6095880" cy="25304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м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ур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у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по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е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87920" y="776160"/>
          <a:ext cx="4727520" cy="5631120"/>
        </p:xfrm>
        <a:graphic>
          <a:graphicData uri="http://schemas.openxmlformats.org/drawingml/2006/table">
            <a:tbl>
              <a:tblPr/>
              <a:tblGrid>
                <a:gridCol w="4727520"/>
              </a:tblGrid>
              <a:tr h="563112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о(…)нц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ер(…)ц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Calibri"/>
                        </a:rPr>
                        <a:t>извес(…)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мес(…)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грус(…)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787920" y="776160"/>
          <a:ext cx="4727520" cy="5631120"/>
        </p:xfrm>
        <a:graphic>
          <a:graphicData uri="http://schemas.openxmlformats.org/drawingml/2006/table">
            <a:tbl>
              <a:tblPr/>
              <a:tblGrid>
                <a:gridCol w="4727520"/>
              </a:tblGrid>
              <a:tr h="563112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0" lang="ru-RU" sz="4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ц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r>
                        <a:rPr b="0" lang="ru-RU" sz="4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ц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Calibri"/>
                        </a:rPr>
                        <a:t>извес</a:t>
                      </a:r>
                      <a:r>
                        <a:rPr b="0" lang="ru-RU" sz="44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Calibri"/>
                        </a:rPr>
                        <a:t>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мес</a:t>
                      </a:r>
                      <a:r>
                        <a:rPr b="0" lang="ru-RU" sz="4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грус</a:t>
                      </a:r>
                      <a:r>
                        <a:rPr b="0" lang="ru-RU" sz="4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ru-RU" sz="44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9720" y="950760"/>
          <a:ext cx="7998120" cy="5024520"/>
        </p:xfrm>
        <a:graphic>
          <a:graphicData uri="http://schemas.openxmlformats.org/drawingml/2006/table">
            <a:tbl>
              <a:tblPr/>
              <a:tblGrid>
                <a:gridCol w="7998120"/>
              </a:tblGrid>
              <a:tr h="502452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1f4e79"/>
                          </a:solidFill>
                          <a:uFillTx/>
                          <a:latin typeface="Times New Roman"/>
                          <a:ea typeface="Times New Roman"/>
                        </a:rPr>
                        <a:t>АЛГОРИТМ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Читаю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хожу рядом несколько согласных зву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одбираю однокоренное слово так, чтобы согласный произносился отчетливо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ишу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74640" y="1125360"/>
          <a:ext cx="7840800" cy="405936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4059360">
                <a:tc>
                  <a:txBody>
                    <a:bodyPr lIns="114120" rIns="114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ес…ный, прекрасн…ая, вкусн…ый, ужасн…ое, интересн…ая, опасн…ый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4640" y="1125360"/>
          <a:ext cx="7840800" cy="405936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4059360">
                <a:tc>
                  <a:txBody>
                    <a:bodyPr lIns="114120" rIns="114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есный, прекрасная, вкусный, ужасное, интересная, опасный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69720" y="950760"/>
          <a:ext cx="7998120" cy="5248440"/>
        </p:xfrm>
        <a:graphic>
          <a:graphicData uri="http://schemas.openxmlformats.org/drawingml/2006/table">
            <a:tbl>
              <a:tblPr/>
              <a:tblGrid>
                <a:gridCol w="7998120"/>
              </a:tblGrid>
              <a:tr h="524844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1f4e79"/>
                          </a:solidFill>
                          <a:uFillTx/>
                          <a:latin typeface="Times New Roman"/>
                          <a:ea typeface="Times New Roman"/>
                        </a:rPr>
                        <a:t>АЛГОРИТМ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Читаю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хожу рядом несколько согласных зву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одбираю однокоренное слово так, чтобы согласный произносился отчетливо или заменяю слово однокоренным так, чтобы  после согласного был глас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buClr>
                          <a:srgbClr val="1f4e7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ишу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98280" y="11268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787920" y="1125360"/>
            <a:ext cx="4440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7" descr=""/>
          <p:cNvPicPr/>
          <p:nvPr/>
        </p:nvPicPr>
        <p:blipFill>
          <a:blip r:embed="rId2"/>
          <a:stretch/>
        </p:blipFill>
        <p:spPr>
          <a:xfrm>
            <a:off x="438120" y="401760"/>
            <a:ext cx="4030560" cy="3537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8"/>
          <p:cNvSpPr/>
          <p:nvPr/>
        </p:nvSpPr>
        <p:spPr>
          <a:xfrm>
            <a:off x="4668840" y="401760"/>
            <a:ext cx="3808440" cy="3609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авь буквы, подбирая проверочное сл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у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й – вкус, вкусе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н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й – ненастье, ненасте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д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й  - чудеса, чудесе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й  - честь, чест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9"/>
          <p:cNvSpPr/>
          <p:nvPr/>
        </p:nvSpPr>
        <p:spPr>
          <a:xfrm>
            <a:off x="676440" y="4332240"/>
            <a:ext cx="7551720" cy="2405520"/>
          </a:xfrm>
          <a:prstGeom prst="rect">
            <a:avLst/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3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 предложения, найди ошибки в словах с непроизносимой согласной, запиши их правильно, подбирая проверочное сло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люблю смотреть на звёз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е небо. Завтра мой любимый праз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.  Сильно стучит сер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 гру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Irina</cp:lastModifiedBy>
  <dcterms:modified xsi:type="dcterms:W3CDTF">2022-12-15T01:57:08Z</dcterms:modified>
  <cp:revision>52</cp:revision>
  <dc:subject/>
  <dc:title>Презентация PowerPoint</dc:title>
</cp:coreProperties>
</file>