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A7D8-BA9A-4FC3-85EF-5E1D7319C3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534D-1D74-4384-B946-D836E1EEA1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9E7E-DFF5-4B40-8057-968E50D3F0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C11A-F384-40DB-BE47-1F5C924156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7E6-6FCD-4788-B8BB-6DEA110B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4B7-7393-40BA-939D-1EED754B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8EF-A93D-49FB-90A4-FEA77EAF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907-68BB-4316-B278-457B5515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C7C-9D38-49EF-8D37-4E6A33F8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5A6-087E-46B3-B588-9599E3AC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11D-1691-4168-8353-EA3DF996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F18-C71A-4A66-A950-5F0BEF0D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F36-D25D-41F5-AB23-E69881BC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D83-604C-4C5C-9178-572F74DC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B6C-4130-48AC-9D5E-0C5D9B7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4CF-7FB4-48D4-9046-AFA086EF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2B8B-EDEE-4BBA-9B2D-579632F25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000080" y="214200"/>
            <a:ext cx="1843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500280" y="114300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500040" y="1928880"/>
            <a:ext cx="5143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285840" y="3357720"/>
            <a:ext cx="56433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автор.png"/>
          <p:cNvPicPr/>
          <p:nvPr/>
        </p:nvPicPr>
        <p:blipFill>
          <a:blip r:embed="rId1"/>
          <a:stretch/>
        </p:blipFill>
        <p:spPr>
          <a:xfrm>
            <a:off x="0" y="6649920"/>
            <a:ext cx="3236760" cy="2080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9"/>
          <p:cNvSpPr/>
          <p:nvPr/>
        </p:nvSpPr>
        <p:spPr>
          <a:xfrm flipV="1" rot="10800000">
            <a:off x="3714840" y="486216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Arial"/>
              </a:rPr>
              <a:t>Живнина Римма Борис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1143000" y="5000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Arial"/>
                <a:ea typeface="Arial"/>
              </a:rPr>
              <a:t>МБОУ « Красивская СОШ» Тамб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928800" y="1285920"/>
            <a:ext cx="485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Arial"/>
              </a:rPr>
              <a:t>«Уроки милосердия»</a:t>
            </a:r>
            <a:br>
              <a:rPr sz="3200"/>
            </a:br>
            <a:r>
              <a:rPr b="0" lang="ru-RU" sz="3200" spc="-1" strike="noStrike">
                <a:solidFill>
                  <a:srgbClr val="b00000"/>
                </a:solidFill>
                <a:latin typeface="Arial"/>
              </a:rPr>
              <a:t>            2 класс</a:t>
            </a:r>
            <a:br>
              <a:rPr sz="3200"/>
            </a:br>
            <a:r>
              <a:rPr b="0" lang="ru-RU" sz="3200" spc="-1" strike="noStrike">
                <a:solidFill>
                  <a:srgbClr val="b00000"/>
                </a:solidFill>
                <a:latin typeface="Arial"/>
              </a:rPr>
              <a:t>Урок 7 </a:t>
            </a:r>
            <a:r>
              <a:rPr b="1" lang="ru-RU" sz="3200" spc="-1" strike="noStrike">
                <a:solidFill>
                  <a:srgbClr val="b00000"/>
                </a:solidFill>
                <a:latin typeface="Arial"/>
              </a:rPr>
              <a:t>«Именины»</a:t>
            </a:r>
            <a:br>
              <a:rPr sz="3200"/>
            </a:br>
            <a:r>
              <a:rPr b="1" lang="ru-RU" sz="3200" spc="-1" strike="noStrike">
                <a:solidFill>
                  <a:srgbClr val="b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Daria\Desktop\i.jpg"/>
          <p:cNvPicPr/>
          <p:nvPr/>
        </p:nvPicPr>
        <p:blipFill>
          <a:blip r:embed="rId2"/>
          <a:stretch/>
        </p:blipFill>
        <p:spPr>
          <a:xfrm>
            <a:off x="5210280" y="857160"/>
            <a:ext cx="3576600" cy="2643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:\Users\Daria\Desktop\i (2).jpg"/>
          <p:cNvPicPr/>
          <p:nvPr/>
        </p:nvPicPr>
        <p:blipFill>
          <a:blip r:embed="rId3"/>
          <a:stretch/>
        </p:blipFill>
        <p:spPr>
          <a:xfrm>
            <a:off x="658800" y="2948040"/>
            <a:ext cx="291312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357120" y="714240"/>
            <a:ext cx="45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щий святой, получивший при рождении имя Варфоломей, родился в семье боярина. Русская Церковь традиционно считает днем его рождения 3 мая 1314 года. В возрасте 10 лет Варфоломей обучался грамоте вместе с братьями: он существенно отставал в обучении, несмотря на то, что много и усердно занимался, в отличие от своих успешных в учебе братьев. И тем не менее, несмотря на недовольство учителей и родителей, а также насмешки сверстников, Варфоломей, благодаря терпению и труду, смог ознакомиться со Священным Писанием и пристрастился к церкви и иноческому жит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Daria\Desktop\урок именины\i.jpg"/>
          <p:cNvPicPr/>
          <p:nvPr/>
        </p:nvPicPr>
        <p:blipFill>
          <a:blip r:embed="rId1"/>
          <a:stretch/>
        </p:blipFill>
        <p:spPr>
          <a:xfrm>
            <a:off x="4797360" y="1857240"/>
            <a:ext cx="42926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384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лась она в первой половине 18 века. После замужеств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ла с супругом в Санкт-Петербурге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смерть рано разлучила Ксению с мужем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  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евшись в мужские одежды, стала нести подвиг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рпения во имя спасения души муж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а кротко сносила все насмешки и издевательства людей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Ксения не только не обижалась, а напротив -  молила для обидчиков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щения у Господ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проводила она ночи, долгое время оставалось неизвестным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азалось, что Ксения, несмотря ни на какое время года и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году, уходила на ночь в поле и здесь в коленопреклонной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литве простаивала до утра, делая земные поклоны на вс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ыре сторон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 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Шла стройка каменной церкви на Смоленском кладбище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чие стали замечать, что кто-то ночью натаскивает наверх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ые горы кирпича. Этим неутомимым тружеником оказалась Кс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ее подвиги и терпение Господь даровал Ксении дар прозр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умрет в народе память о Святой Блаженной Ксени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памяти Блаженной Ксении Петербургской – 6 феврал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нас она – символ веры, смирения и терп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15000"/>
              </a:lnSpc>
              <a:spcBef>
                <a:spcPts val="275"/>
              </a:spcBef>
              <a:spcAft>
                <a:spcPts val="100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32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St"/>
          <p:cNvPicPr/>
          <p:nvPr/>
        </p:nvPicPr>
        <p:blipFill>
          <a:blip r:embed="rId2"/>
          <a:stretch/>
        </p:blipFill>
        <p:spPr>
          <a:xfrm>
            <a:off x="5364000" y="1614600"/>
            <a:ext cx="350856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2286000" y="428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вятой благоверный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нязь Александр Не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4214880" y="3357720"/>
            <a:ext cx="8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1000080" y="2136600"/>
            <a:ext cx="400068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той благоверный князь Александр Невский – покровитель воинов и защитник всей Руси. Сотрудники ФСБ и ДОСААФ считают святого Александра Невского своим небесным покровителе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 же мужчинам, которые носят имя Александр, лучше держать святой образ дома, он поможет им сохранить крепкое здоровье, построить хорошую карь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5357880" y="3214800"/>
            <a:ext cx="1500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Daria\Desktop\урок именины\иконы\i.jpg"/>
          <p:cNvPicPr/>
          <p:nvPr/>
        </p:nvPicPr>
        <p:blipFill>
          <a:blip r:embed="rId1"/>
          <a:stretch/>
        </p:blipFill>
        <p:spPr>
          <a:xfrm>
            <a:off x="4857840" y="1785960"/>
            <a:ext cx="3429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Александр Невский П. Корин.jpg"/>
          <p:cNvPicPr/>
          <p:nvPr/>
        </p:nvPicPr>
        <p:blipFill>
          <a:blip r:embed="rId1"/>
          <a:stretch/>
        </p:blipFill>
        <p:spPr>
          <a:xfrm>
            <a:off x="5786280" y="214200"/>
            <a:ext cx="3167280" cy="6435720"/>
          </a:xfrm>
          <a:prstGeom prst="rect">
            <a:avLst/>
          </a:prstGeom>
          <a:ln w="28440">
            <a:solidFill>
              <a:srgbClr val="984204"/>
            </a:solidFill>
            <a:miter/>
          </a:ln>
        </p:spPr>
      </p:pic>
      <p:sp>
        <p:nvSpPr>
          <p:cNvPr id="97" name="Прямоугольник 3"/>
          <p:cNvSpPr/>
          <p:nvPr/>
        </p:nvSpPr>
        <p:spPr>
          <a:xfrm>
            <a:off x="3714840" y="6000840"/>
            <a:ext cx="196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84204"/>
                </a:solidFill>
                <a:latin typeface="Times New Roman"/>
              </a:rPr>
              <a:t>Александр Невский Корин П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28999197_Vasnecov_V.jpg"/>
          <p:cNvPicPr/>
          <p:nvPr/>
        </p:nvPicPr>
        <p:blipFill>
          <a:blip r:embed="rId2"/>
          <a:stretch/>
        </p:blipFill>
        <p:spPr>
          <a:xfrm>
            <a:off x="214200" y="214200"/>
            <a:ext cx="2030400" cy="6429600"/>
          </a:xfrm>
          <a:prstGeom prst="rect">
            <a:avLst/>
          </a:prstGeom>
          <a:ln w="28440">
            <a:solidFill>
              <a:srgbClr val="984204"/>
            </a:solidFill>
            <a:miter/>
          </a:ln>
        </p:spPr>
      </p:pic>
      <p:sp>
        <p:nvSpPr>
          <p:cNvPr id="99" name="Прямоугольник 5"/>
          <p:cNvSpPr/>
          <p:nvPr/>
        </p:nvSpPr>
        <p:spPr>
          <a:xfrm>
            <a:off x="2286000" y="4643280"/>
            <a:ext cx="196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84204"/>
                </a:solidFill>
                <a:latin typeface="Times New Roman"/>
              </a:rPr>
              <a:t>Александр Невский Васнецов 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Daria\Desktop\урок именин милос\FqTnqWnMivY.jpg"/>
          <p:cNvPicPr/>
          <p:nvPr/>
        </p:nvPicPr>
        <p:blipFill>
          <a:blip r:embed="rId1"/>
          <a:stretch/>
        </p:blipFill>
        <p:spPr>
          <a:xfrm>
            <a:off x="4287960" y="0"/>
            <a:ext cx="4424400" cy="6072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785880" y="523440"/>
            <a:ext cx="307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Ангел небесный хранит нас на свете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Ангел-хранитель у каждого свой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Он за тебя в этой жизни в ответе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Он охраняет и жизнь, и по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Может, ему не всегда удаётся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Беды людские рукой отвести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Знай, что сегодня твой праздник начнётся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Значит, сегодня должно повез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Валентина Толкунова – Молитва Ангелу-Хранителю (www.petamusic.ru).mp3" descr=""/>
          <p:cNvPicPr/>
          <p:nvPr/>
        </p:nvPicPr>
        <p:blipFill>
          <a:blip r:embed="rId2"/>
          <a:stretch/>
        </p:blipFill>
        <p:spPr>
          <a:xfrm>
            <a:off x="2700360" y="5273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684360" y="907920"/>
            <a:ext cx="669600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к нужно отмечать име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ень Именин пойти с семьёй в 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литься своему Святому, поставить св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чером приготовить угощение, позвать г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о пригласите на этот праздник своих крестных, ведь они считаются самыми почетными гостями, которым непременно следует оставить самый красивый и вкусный кусок пир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ниннику дарят подарки (иконки, книги, фильмы о жизни Свят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6227640" y="4008600"/>
            <a:ext cx="27925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539640" y="1125360"/>
            <a:ext cx="63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Имена становятся отчеством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Это ваши уже име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Пусть достойно звуч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— </a:t>
            </a:r>
            <a:r>
              <a:rPr b="0" i="1" lang="ru-R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мне хочется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И в грядущие врем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И не просто так, по традиции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Чтоб звучали, смысла пол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И могли бы ими горд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Ваши дочери и сын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5508720" y="907920"/>
            <a:ext cx="30542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071720" y="100008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Именины и и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500040" y="2143080"/>
            <a:ext cx="414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ины и имена - крайне любопытная вещь! Имя, данное человеку, может повлиять на его судьбу. Имя - это самый сладостный и самый важный для человека звук на любом языке. И каждое имя скрывает сво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Daria\Desktop\4.jpg"/>
          <p:cNvPicPr/>
          <p:nvPr/>
        </p:nvPicPr>
        <p:blipFill>
          <a:blip r:embed="rId1"/>
          <a:stretch/>
        </p:blipFill>
        <p:spPr>
          <a:xfrm>
            <a:off x="5000760" y="207180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5"/>
          <p:cNvSpPr/>
          <p:nvPr/>
        </p:nvSpPr>
        <p:spPr>
          <a:xfrm>
            <a:off x="2286000" y="4357800"/>
            <a:ext cx="578628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ины - это день памяти святого, чье имя было дано человеку при крещении. Поэтому, несмотря на большое количество дат именин для некоторых имён, у каждого конкретного носителя имени могут быть всего одни именины в году, которые определяются датой его дня рождения. Можно верить или не верить в то, что каждое имя "диктует" хозяину определенны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Users\Daria\Desktop\i.jpg"/>
          <p:cNvPicPr/>
          <p:nvPr/>
        </p:nvPicPr>
        <p:blipFill>
          <a:blip r:embed="rId1"/>
          <a:stretch/>
        </p:blipFill>
        <p:spPr>
          <a:xfrm>
            <a:off x="2214720" y="214200"/>
            <a:ext cx="58672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Daria\Desktop\inner.jpg"/>
          <p:cNvPicPr/>
          <p:nvPr/>
        </p:nvPicPr>
        <p:blipFill>
          <a:blip r:embed="rId1"/>
          <a:stretch/>
        </p:blipFill>
        <p:spPr>
          <a:xfrm>
            <a:off x="4429080" y="857160"/>
            <a:ext cx="4483080" cy="4010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511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004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сотен лет 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си, раньше и тепер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решению род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ладенца крестя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дают ему имя святог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нь памя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торого совпад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и стоит ряд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нём его рож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1"/>
          <a:stretch/>
        </p:blipFill>
        <p:spPr>
          <a:xfrm>
            <a:off x="542880" y="54936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8d7dc7321c9bd1fee67325d37b0e6adcbc81d696517710"/>
          <p:cNvPicPr/>
          <p:nvPr/>
        </p:nvPicPr>
        <p:blipFill>
          <a:blip r:embed="rId2"/>
          <a:stretch/>
        </p:blipFill>
        <p:spPr>
          <a:xfrm>
            <a:off x="2928960" y="1692360"/>
            <a:ext cx="328608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5267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гел-Хранитель предупреждает об опасностях, помогает избежать искушения. Чудесное спасение людей, уцелевших в катастрофах, интуитивные озарения или пророческие сны – так Ангел-Хранитель оберегает своего подопечного. Он никогда не причинит вред человеку-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гел-Хранитель не является реально жившим человеком. Это светлый дух, не имеющий имени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о обладающий личностными качествами. К каждому человеку приставлен один Ангел-Хранитель. На иконах он изображается с белыми крыльями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857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 различать Ангела-Хранителя и святого покровителя. Последний выбирается по имени и дате рождения. Святой покровитель – реальный человек, прошедший свой жизненный путь и причисленный к лику святых (например, Александр Невский, Серафим Саровский).-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 не менее святого покровителя тоже именуют Ангелом-Хранителем. А его день рождения – днем анге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174456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2"/>
          <a:stretch/>
        </p:blipFill>
        <p:spPr>
          <a:xfrm>
            <a:off x="3975120" y="0"/>
            <a:ext cx="2622600" cy="26226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"/>
          <p:cNvPicPr/>
          <p:nvPr/>
        </p:nvPicPr>
        <p:blipFill>
          <a:blip r:embed="rId3"/>
          <a:stretch/>
        </p:blipFill>
        <p:spPr>
          <a:xfrm>
            <a:off x="1943280" y="92160"/>
            <a:ext cx="189360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/>
          <p:cNvPicPr/>
          <p:nvPr/>
        </p:nvPicPr>
        <p:blipFill>
          <a:blip r:embed="rId4"/>
          <a:stretch/>
        </p:blipFill>
        <p:spPr>
          <a:xfrm>
            <a:off x="3205080" y="2405160"/>
            <a:ext cx="2733840" cy="20476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"/>
          <p:cNvPicPr/>
          <p:nvPr/>
        </p:nvPicPr>
        <p:blipFill>
          <a:blip r:embed="rId5"/>
          <a:stretch/>
        </p:blipFill>
        <p:spPr>
          <a:xfrm>
            <a:off x="6819840" y="2305080"/>
            <a:ext cx="1649520" cy="21477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"/>
          <p:cNvPicPr/>
          <p:nvPr/>
        </p:nvPicPr>
        <p:blipFill>
          <a:blip r:embed="rId6"/>
          <a:stretch/>
        </p:blipFill>
        <p:spPr>
          <a:xfrm>
            <a:off x="60480" y="868320"/>
            <a:ext cx="1966680" cy="28749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"/>
          <p:cNvPicPr/>
          <p:nvPr/>
        </p:nvPicPr>
        <p:blipFill>
          <a:blip r:embed="rId7"/>
          <a:stretch/>
        </p:blipFill>
        <p:spPr>
          <a:xfrm>
            <a:off x="5076720" y="4003560"/>
            <a:ext cx="1819440" cy="2737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9" descr=""/>
          <p:cNvPicPr/>
          <p:nvPr/>
        </p:nvPicPr>
        <p:blipFill>
          <a:blip r:embed="rId8"/>
          <a:stretch/>
        </p:blipFill>
        <p:spPr>
          <a:xfrm>
            <a:off x="2889360" y="4675320"/>
            <a:ext cx="1647720" cy="20476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0" descr=""/>
          <p:cNvPicPr/>
          <p:nvPr/>
        </p:nvPicPr>
        <p:blipFill>
          <a:blip r:embed="rId9"/>
          <a:stretch/>
        </p:blipFill>
        <p:spPr>
          <a:xfrm>
            <a:off x="1593720" y="2719440"/>
            <a:ext cx="1514520" cy="20476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1" descr=""/>
          <p:cNvPicPr/>
          <p:nvPr/>
        </p:nvPicPr>
        <p:blipFill>
          <a:blip r:embed="rId10"/>
          <a:stretch/>
        </p:blipFill>
        <p:spPr>
          <a:xfrm>
            <a:off x="-138240" y="4368960"/>
            <a:ext cx="26575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3278160" y="571680"/>
            <a:ext cx="25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ергий Радонеж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857160" y="1143000"/>
            <a:ext cx="328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ий Радонежский почитается Русской православной церковью в лике святых как преподобный, заступник земли Русской, наставник монашествующих, покровитель русского воинства и особенный покровитель детей, желающих успехов в школьном у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:\Users\Daria\Desktop\1_sergiy.jpg"/>
          <p:cNvPicPr/>
          <p:nvPr/>
        </p:nvPicPr>
        <p:blipFill>
          <a:blip r:embed="rId1"/>
          <a:stretch/>
        </p:blipFill>
        <p:spPr>
          <a:xfrm>
            <a:off x="4356000" y="1268280"/>
            <a:ext cx="4410000" cy="38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ria</dc:creator>
  <dc:description/>
  <dc:language>en-US</dc:language>
  <cp:lastModifiedBy>Microsoft Office</cp:lastModifiedBy>
  <dcterms:modified xsi:type="dcterms:W3CDTF">2016-10-10T19:55:11Z</dcterms:modified>
  <cp:revision>294</cp:revision>
  <dc:subject/>
  <dc:title>Слайд 1</dc:title>
</cp:coreProperties>
</file>