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E55C-3D23-4899-BF74-91F4692D3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D928-31D9-4561-B060-18B956C12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A0A3-25B2-4E16-9BE6-0F159EAFC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605-FBF9-4956-9DE6-93381A8E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F69-0F07-4609-BF0A-D13A822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40E-CFF9-463F-ACB5-25FDD07A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E06-65B3-4CE4-AA5E-E89D9E03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0DDB-E783-4E52-9A5A-EC9F5CF3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8F81-C6EB-42D8-B575-B4FA9957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7D95-5B5F-4916-876D-AC712644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B59-6278-40C3-B83E-A45ABB00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73B3-DC00-4B2C-8E6A-7920B963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A552-99CF-42AB-966B-CFE86383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C14B-1497-4BDD-B70A-04EB92DF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9E4-2D5F-4E46-812B-2AA22D6D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7ADD-722A-4C00-BAA0-34F25055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F857-685C-4128-ACD5-B870F00A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EF7C-B96D-4C43-B987-2C1942FC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35A4-7190-407A-AD05-F40BC59F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8668-0806-4EDA-A2D6-BF921E7B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3EBD-1AFB-4D45-AE24-E309D7AB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EFFA-E1EA-4965-8B7B-CF307B99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6778B-74FF-46F3-BE9B-5D6A29A9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A185-092C-48F1-B173-B36754A7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DF85-16DA-48BF-98D1-93924C01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CFB-8219-48DE-AEA9-BCEE4AB0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8F76-48F0-4B54-8A0B-1E293A7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E79B-3C83-4E59-B712-86D3CFE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09D6-06E7-47E1-B75A-595161E6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F909-7386-438C-99CD-7E69AB06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5601-0E6C-4B97-BC78-B3331F29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0F5A-0965-47C4-9652-DFE5C5A0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9FE2-7DFE-4D47-B1A2-5E6EF3DE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EC0A-C756-4C83-A85B-DB66DD56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D6952-1CCD-48FC-8D81-DE5743A1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0DF0-65A6-42ED-99AD-E2779ACB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753-CAFA-44D2-A710-D7841420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220D-4B31-41DB-B00B-8E5BB181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27EBA-BC34-46D9-8934-454FF606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8E69-4855-4C57-9721-1624C5A9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57DE4-AD29-4842-88B5-BC0B4DFC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0B60-F1FC-4507-A21D-294F39FF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04461-10C7-45D8-AE74-64F0DE83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695F-5083-4781-BEB4-9AC1454B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1D6B-D839-4646-AAE4-19490090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ED30-CDEC-4A50-AE5B-BECDA637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E9EC7-E8DA-4E57-B128-60AFF643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696-61C9-43EC-9E63-FD7BC4FE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69E4F-230B-4A98-A172-3C50CE1B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C1E69-A9EC-4889-90A6-2C9CBB0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64A85-E792-4A75-8CE3-13760656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2A03A-0846-4230-9BF7-4D091107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B3D4-65B9-4B35-B240-F2677856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CBD28-F558-4C72-B271-A8D833B4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78A29-D1C7-4DC5-8FD1-A1D92A5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2C4D-6DF0-411B-8FCF-0FAAFBE1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695F-CB21-4FE7-B11A-BA1A0144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4ED0F-087C-4429-9FE1-3A8297D5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B64-C442-43D7-B565-133200A1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4C954-FFCA-4048-A143-AD8A7CCE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56A7B-FDA5-4BBB-AA00-2C5EE12C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61A9-72A7-46F1-92EE-206ADF2D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EB67F-3F95-487B-B277-375A120C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1D6B0-6871-4969-9AD9-6C584D91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582C-C7E7-4BF4-B4AB-998DFA99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2D4C5-CDFC-4A74-A2F1-5BFB61A8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6F93-27FC-40B5-A63C-7DEFF5C5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A581E-5F03-4BE3-B527-712A5BD6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D247-4760-4C9A-AADF-C2CDF8E0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5B7-F28A-4447-9EBD-8425F5C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54CE6-8C45-41CA-AB44-8DFD1A82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65209-D86D-4279-BA5B-AE0202E1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D42CE-6E8A-4797-B2B2-BC315D62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07D6-9737-4068-A8A5-0D4D15E8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6BD0F-77C9-4D04-9B5A-E8F0861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6566-9FBA-4F52-A48F-023EDD6F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3C8A6-01B5-4E51-BDB2-046B50E9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E843B-1472-40BF-A5A3-5FC64577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9A9ED-8320-43E6-BE5C-AABE6D67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20040-D3A8-4E83-8915-982907C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F48-E217-4CDB-80ED-18FC81F8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90899-0229-4AD9-AEFD-E932D5CE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B4B0-2AD4-4605-8E9F-157F62F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416F2-8D93-4ED6-848C-03714A6F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61A78-01DC-407C-9F8C-559CBD60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92A0-0971-49BF-93BF-86DCF392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976-9143-446C-B598-5323314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B695-9CEF-4260-9656-EE457C1BDB5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4416-1CF0-4E6F-919D-663E386E910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256E-D388-408D-89CA-3CBFC83D416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33F-D9FC-4ADB-9CF4-E77F479F046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0F15-9619-4C2A-9027-EDD2C35EC16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7F78-5092-4403-9634-2075242D062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E0B6-F9EC-4BB0-ABCC-D7DF61E4623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1617"/>
                </a:solidFill>
                <a:latin typeface="Calibri"/>
              </a:rPr>
              <a:t>Добро пожаловать </a:t>
            </a:r>
            <a:br>
              <a:rPr sz="4300"/>
            </a:br>
            <a:r>
              <a:rPr b="1" lang="ru-RU" sz="4300" spc="-1" strike="noStrike">
                <a:solidFill>
                  <a:srgbClr val="611617"/>
                </a:solidFill>
                <a:latin typeface="Calibri"/>
              </a:rPr>
              <a:t>на урок русского язы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1617"/>
                </a:solidFill>
                <a:latin typeface="Calibri"/>
              </a:rPr>
              <a:t>Цели урока: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Прямоугольник 2"/>
          <p:cNvSpPr/>
          <p:nvPr/>
        </p:nvSpPr>
        <p:spPr>
          <a:xfrm>
            <a:off x="1476360" y="1413000"/>
            <a:ext cx="6480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161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ть условия слитного и раздельного написания не с причас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Научиться правильно писать не с причас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2"/>
          <p:cNvSpPr/>
          <p:nvPr/>
        </p:nvSpPr>
        <p:spPr>
          <a:xfrm>
            <a:off x="1187280" y="549360"/>
            <a:ext cx="7272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11617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. Не замеченная, а пропущенная ошиб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 замеченная учениками ошиб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замеченная ошиб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Ошибка не замеч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Негодующий взгл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Развернутая стрелка 4"/>
          <p:cNvSpPr/>
          <p:nvPr/>
        </p:nvSpPr>
        <p:spPr>
          <a:xfrm>
            <a:off x="2987640" y="1844640"/>
            <a:ext cx="2089080" cy="289080"/>
          </a:xfrm>
          <a:custGeom>
            <a:avLst/>
            <a:gdLst/>
            <a:ahLst/>
            <a:rect l="l" t="t" r="r" b="b"/>
            <a:pathLst>
              <a:path w="2089150" h="288925">
                <a:moveTo>
                  <a:pt x="0" y="288925"/>
                </a:moveTo>
                <a:lnTo>
                  <a:pt x="0" y="126405"/>
                </a:lnTo>
                <a:lnTo>
                  <a:pt x="0" y="126405"/>
                </a:lnTo>
                <a:arcTo wR="126405" hR="126405" stAng="10800000" swAng="5400000"/>
                <a:lnTo>
                  <a:pt x="1926630" y="0"/>
                </a:lnTo>
                <a:lnTo>
                  <a:pt x="1926630" y="0"/>
                </a:lnTo>
                <a:arcTo wR="126405" hR="126405" stAng="-5400000" swAng="5400000"/>
                <a:lnTo>
                  <a:pt x="2053034" y="144463"/>
                </a:lnTo>
                <a:lnTo>
                  <a:pt x="2089150" y="144463"/>
                </a:lnTo>
                <a:lnTo>
                  <a:pt x="2016919" y="216694"/>
                </a:lnTo>
                <a:lnTo>
                  <a:pt x="1944688" y="144463"/>
                </a:lnTo>
                <a:lnTo>
                  <a:pt x="1980803" y="144463"/>
                </a:lnTo>
                <a:lnTo>
                  <a:pt x="1980803" y="126405"/>
                </a:lnTo>
                <a:lnTo>
                  <a:pt x="1980803" y="126405"/>
                </a:lnTo>
                <a:arcTo wR="54173" hR="54173" stAng="0" swAng="-5400000"/>
                <a:lnTo>
                  <a:pt x="126405" y="72231"/>
                </a:lnTo>
                <a:lnTo>
                  <a:pt x="126405" y="72231"/>
                </a:lnTo>
                <a:arcTo wR="54173" hR="54173" stAng="-5400000" swAng="-5400000"/>
                <a:lnTo>
                  <a:pt x="72231" y="288925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2"/>
          <p:cNvSpPr/>
          <p:nvPr/>
        </p:nvSpPr>
        <p:spPr>
          <a:xfrm>
            <a:off x="2484360" y="47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Calibri"/>
              </a:rPr>
              <a:t>НЕ с Причаст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1835280" y="148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0a2b"/>
                </a:solidFill>
                <a:latin typeface="Arial"/>
              </a:rPr>
              <a:t>РАЗ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2"/>
          <p:cNvSpPr/>
          <p:nvPr/>
        </p:nvSpPr>
        <p:spPr>
          <a:xfrm>
            <a:off x="6443640" y="1484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0a2b"/>
                </a:solidFill>
                <a:latin typeface="Arial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6"/>
          <p:cNvSpPr/>
          <p:nvPr/>
        </p:nvSpPr>
        <p:spPr>
          <a:xfrm>
            <a:off x="1042920" y="2924280"/>
            <a:ext cx="2521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Calibri"/>
              </a:rPr>
              <a:t>Кр. П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Calibri"/>
              </a:rPr>
              <a:t>Пч. + З.С.</a:t>
            </a:r>
            <a:r>
              <a:rPr b="1" lang="en-US" sz="2400" spc="-1" strike="noStrike">
                <a:solidFill>
                  <a:srgbClr val="61161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1617"/>
                </a:solidFill>
                <a:latin typeface="Calibri"/>
              </a:rPr>
              <a:t>&gt;</a:t>
            </a:r>
            <a:r>
              <a:rPr b="1" lang="ru-RU" sz="2400" spc="-1" strike="noStrike">
                <a:solidFill>
                  <a:srgbClr val="611617"/>
                </a:solidFill>
                <a:latin typeface="Calibri"/>
              </a:rPr>
              <a:t>,а</a:t>
            </a:r>
            <a:r>
              <a:rPr b="1" lang="en-US" sz="2400" spc="-1" strike="noStrike">
                <a:solidFill>
                  <a:srgbClr val="611617"/>
                </a:solidFill>
                <a:latin typeface="Calibri"/>
              </a:rPr>
              <a:t> 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6012000" y="2924280"/>
            <a:ext cx="2663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Calibri"/>
              </a:rPr>
              <a:t>Не упо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Calibri"/>
              </a:rPr>
              <a:t>Нет З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Calibri"/>
              </a:rPr>
              <a:t>Нет </a:t>
            </a:r>
            <a:r>
              <a:rPr b="1" lang="en-US" sz="2400" spc="-1" strike="noStrike">
                <a:solidFill>
                  <a:srgbClr val="611617"/>
                </a:solidFill>
                <a:latin typeface="Calibri"/>
              </a:rPr>
              <a:t>&gt;</a:t>
            </a:r>
            <a:r>
              <a:rPr b="1" lang="ru-RU" sz="2400" spc="-1" strike="noStrike">
                <a:solidFill>
                  <a:srgbClr val="611617"/>
                </a:solidFill>
                <a:latin typeface="Calibri"/>
              </a:rPr>
              <a:t>,а </a:t>
            </a:r>
            <a:r>
              <a:rPr b="1" lang="en-US" sz="2400" spc="-1" strike="noStrike">
                <a:solidFill>
                  <a:srgbClr val="611617"/>
                </a:solidFill>
                <a:latin typeface="Calibri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трелка вниз 9"/>
          <p:cNvSpPr/>
          <p:nvPr/>
        </p:nvSpPr>
        <p:spPr>
          <a:xfrm>
            <a:off x="1979640" y="1989000"/>
            <a:ext cx="431640" cy="7192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трелка вниз 10"/>
          <p:cNvSpPr/>
          <p:nvPr/>
        </p:nvSpPr>
        <p:spPr>
          <a:xfrm>
            <a:off x="6804000" y="1989000"/>
            <a:ext cx="432000" cy="7192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https://im0-tub-ru.yandex.net/i?id=9dc30fcca9c74bca3fff75e0e77f56e3-l&amp;n=13"/>
          <p:cNvPicPr/>
          <p:nvPr/>
        </p:nvPicPr>
        <p:blipFill>
          <a:blip r:embed="rId1"/>
          <a:stretch/>
        </p:blipFill>
        <p:spPr>
          <a:xfrm>
            <a:off x="7524720" y="5084640"/>
            <a:ext cx="1368360" cy="15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32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alibri"/>
              </a:rPr>
              <a:t>Попытайтесь объяснить правописание данных причастий, используя алгорит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916280"/>
            <a:ext cx="749952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е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ранные гри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ке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(не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ранные гри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ибы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(не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ран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alibri"/>
              </a:rPr>
              <a:t>Эталон провер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ранные гри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ке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ранные гри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ибы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ран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228240" y="333360"/>
            <a:ext cx="8736120" cy="619128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Calibri"/>
                <a:ea typeface="Times New Roman"/>
              </a:rPr>
              <a:t>Задание: объясните правописание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НЕ</a:t>
            </a:r>
            <a:r>
              <a:rPr b="1" lang="ru-RU" sz="2800" spc="-1" strike="noStrike">
                <a:solidFill>
                  <a:srgbClr val="611617"/>
                </a:solidFill>
                <a:latin typeface="Calibri"/>
                <a:ea typeface="Times New Roman"/>
              </a:rPr>
              <a:t> с причастия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 дописанное письмо; письмо (не) дописан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 вспаханное поле; (не) забываемая встреч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 ослабевающая ни на минуту тревог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 прекращающийся дождь; (не) сжатая, а скошенная  рожь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 успокоившееся после бури озеро; телефон (не) от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нтирован.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(не) исследованной мест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са, (не) замеченная охотник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ряд, никем (не) защищённый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 отправленная бандероль; (не) законченный рассказ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 освещённая с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цем комната; (не) прикрытая дверь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тицы, (не) улетевшие на юг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оль, (не) успевший взобраться на дере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8543-CEA2-4560-A311-B36E6103033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3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3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3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3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3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alibri"/>
              </a:rPr>
              <a:t>Работа в пар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763272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alibri"/>
              </a:rPr>
              <a:t>Эталон провер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ойманная рыб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 пришитая, а оторванная пуговиц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ясо не поджарено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ройденный пу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 мигающие на небе звезд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ниги не сложены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лышимый шоро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https://ds04.infourok.ru/uploads/ex/02f7/0015251e-931bf1f2/img1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1617"/>
                </a:solidFill>
                <a:latin typeface="Calibri"/>
              </a:rPr>
              <a:t>Не с причастиям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чет (не)оплаче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рога (не)расчище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Не)оплаченный  вовремя сч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Не)сорванные, а срезанные цве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все (не)просохшая зем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Заголовок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alibri"/>
              </a:rPr>
              <a:t>Эталон проверки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одержимое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чет не оплач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рога не расчищ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 оплаченный  вовремя с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 сорванные, а срезанны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все  не просохшая зе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4" name="Picture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0" y="35100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Calibri"/>
                <a:ea typeface="Arial"/>
              </a:rPr>
              <a:t>Распределительн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0" y="2781360"/>
            <a:ext cx="860436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258920" y="1125360"/>
            <a:ext cx="756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ределите слова на группы по написанию с Н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замеченная учеником 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греющее сол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проветренная ком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ната (не)прове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освещенная у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доумевающий взгл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сложенные, а разбросанные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 прекращавшийся всю ночь дож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s://fs00.infourok.ru/images/doc/313/312932/1/img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alibri"/>
              </a:rPr>
              <a:t>Эталон провер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619280" y="1483920"/>
            <a:ext cx="7315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литно                     Раздельно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                                1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                                 4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                                 7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                               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Picture 2" descr="https://fs00.infourok.ru/images/doc/188/214661/img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1332000" y="5652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Calibri"/>
              </a:rPr>
              <a:t>хорошо усвоил</a:t>
            </a:r>
            <a:r>
              <a:rPr b="1" lang="ru-RU" sz="3600" spc="-1" strike="noStrike">
                <a:solidFill>
                  <a:srgbClr val="611617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468360" y="2195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Calibri"/>
              </a:rPr>
              <a:t>отлично усвоил и могу применить на практике</a:t>
            </a:r>
            <a:r>
              <a:rPr b="1" lang="ru-RU" sz="3600" spc="-1" strike="noStrike">
                <a:solidFill>
                  <a:srgbClr val="611617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971640" y="4167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Calibri"/>
              </a:rPr>
              <a:t>усвоил хорошо, но есть воп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привет"/>
          <p:cNvPicPr/>
          <p:nvPr/>
        </p:nvPicPr>
        <p:blipFill>
          <a:blip r:embed="rId1"/>
          <a:stretch/>
        </p:blipFill>
        <p:spPr>
          <a:xfrm>
            <a:off x="4788000" y="2602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отлично"/>
          <p:cNvPicPr/>
          <p:nvPr/>
        </p:nvPicPr>
        <p:blipFill>
          <a:blip r:embed="rId2"/>
          <a:stretch/>
        </p:blipFill>
        <p:spPr>
          <a:xfrm>
            <a:off x="7642080" y="2781360"/>
            <a:ext cx="1501920" cy="915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есть вопросы"/>
          <p:cNvPicPr/>
          <p:nvPr/>
        </p:nvPicPr>
        <p:blipFill>
          <a:blip r:embed="rId3"/>
          <a:stretch/>
        </p:blipFill>
        <p:spPr>
          <a:xfrm>
            <a:off x="7308720" y="4221000"/>
            <a:ext cx="9907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76000" y="836640"/>
            <a:ext cx="7497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b2203"/>
                </a:solidFill>
                <a:latin typeface="Calibri"/>
              </a:rPr>
              <a:t>Пров</a:t>
            </a:r>
            <a:r>
              <a:rPr b="1" lang="ru-RU" sz="4300" spc="-1" strike="noStrike">
                <a:solidFill>
                  <a:srgbClr val="572314"/>
                </a:solidFill>
                <a:latin typeface="Calibri"/>
              </a:rPr>
              <a:t>ерка домашнего зад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2" descr="https://myslide.ru/documents_4/e8bbf08c36841da56940a4a7bb48d5a9/img0.jpg"/>
          <p:cNvPicPr/>
          <p:nvPr/>
        </p:nvPicPr>
        <p:blipFill>
          <a:blip r:embed="rId1"/>
          <a:stretch/>
        </p:blipFill>
        <p:spPr>
          <a:xfrm>
            <a:off x="1116000" y="620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http://images.myshared.ru/31/1313537/slide_9.jpg"/>
          <p:cNvPicPr/>
          <p:nvPr/>
        </p:nvPicPr>
        <p:blipFill>
          <a:blip r:embed="rId1"/>
          <a:stretch/>
        </p:blipFill>
        <p:spPr>
          <a:xfrm>
            <a:off x="1332000" y="476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1116000" y="1162800"/>
            <a:ext cx="763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тех, кто понял, но сомневаетс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составить таблицу- шпаргалку по теме « Слитное и раздельное написание не с причастиям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тех, кто понял, но не может объяснить другом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упражнение 154 ( по условию – запишите все возможные варианты слитного и раздельного написания не с причастиями, входящих в состав данных словосочета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тех, кто понял и  может объяснить другом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упражнение 1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я для умников и умни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ворческое задание .  Написать лингвистическую сказку на тему: «Тайна рождения и жизни Причас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1619280" y="189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11617"/>
                </a:solidFill>
                <a:latin typeface="Calibri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1617"/>
                </a:solidFill>
                <a:latin typeface="Calibri"/>
              </a:rPr>
              <a:t>Эталон проверки упр.145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8868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i="1" lang="ru-RU" sz="3900" spc="-1" strike="noStrike">
                <a:solidFill>
                  <a:srgbClr val="572314"/>
                </a:solidFill>
                <a:latin typeface="Calibri"/>
              </a:rPr>
              <a:t>Четырнадцатое ноября.</a:t>
            </a:r>
            <a:br>
              <a:rPr sz="3900"/>
            </a:br>
            <a:r>
              <a:rPr b="1" i="1" lang="ru-RU" sz="3900" spc="-1" strike="noStrike">
                <a:solidFill>
                  <a:srgbClr val="572314"/>
                </a:solidFill>
                <a:latin typeface="Calibri"/>
              </a:rPr>
              <a:t>Классная работ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1617"/>
                </a:solidFill>
                <a:latin typeface="Calibri"/>
              </a:rPr>
              <a:t>О какой части речи говорится в высказывани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ии глагольные имен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ужат к сокращению человеческого слова, заключая в себе имени и глагола силу»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.В.Ломоносов</a:t>
            </a:r>
            <a:r>
              <a:rPr b="0" lang="ru-RU" sz="3200" spc="-1" strike="noStrike">
                <a:solidFill>
                  <a:srgbClr val="611617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alibri"/>
              </a:rPr>
              <a:t>Запишите правильно предложения, раскрывая скобк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1116000" y="2195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дух, ещё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ставши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знойным, приятно освеж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нью идут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)прекращающиес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ожд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alibri"/>
              </a:rPr>
              <a:t>Тема уро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1187280" y="2276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11617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611617"/>
                </a:solidFill>
                <a:latin typeface="Calibri"/>
              </a:rPr>
              <a:t>Слитное и раздельное написание не с причас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9:16:57Z</dcterms:created>
  <dc:creator>Buh</dc:creator>
  <dc:description/>
  <dc:language>en-US</dc:language>
  <cp:lastModifiedBy>asus</cp:lastModifiedBy>
  <dcterms:modified xsi:type="dcterms:W3CDTF">2019-02-13T18:51:00Z</dcterms:modified>
  <cp:revision>99</cp:revision>
  <dc:subject/>
  <dc:title>Работа с модулем</dc:title>
</cp:coreProperties>
</file>