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719-5973-4AB0-B0E0-14499AC6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C47-D474-4410-BFAF-BDA94735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00C-5C14-48DC-ACEC-542CC4EA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0C4-0EA2-4F4A-AF38-AC9920E2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716C-DFC5-40C5-9B97-B47C6394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D31E-5B3F-4A63-BCF0-E56BBCB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44C7-1F16-4EEB-B4DA-044766F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832C-C638-42B3-903D-C6FC412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A8C9-CA8C-414A-89D8-5FDF60E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FC0-E79C-43D2-A36A-44DD2A9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98D2-5065-4A4A-8D1D-D076321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ADF-FA2E-43AC-BA71-53D7FE1B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37A9-B032-489F-B262-7A51536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4F92-3C6F-492E-AAA8-55CD38BF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666-9F18-4EA0-A29A-29514E9C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951-A0A6-4817-A381-3AFB4E1E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19EA-840E-45EF-B6E9-994C9379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C65-983F-4C0A-BC5F-AF9EE2F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7C6-50FD-41DC-88AB-AFBD222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84F-3CC6-4289-92EA-5C09C75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B2A-A631-4D51-93B2-F444EA6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8A9-D94F-4072-A019-9B54710B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1BA-226D-4156-934C-238176E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E70-3D1B-4216-A631-EC85732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4A4-3CB8-4BA8-9E89-4B0CD32F3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131C-A3EF-46B4-98DF-C7478595B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806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Юрий Иосифович Ков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Вода с закрытыми глазам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240000" cy="4680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11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404280"/>
            <a:ext cx="74059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/З Письмен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равните образы природы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 произведениях Пришвина и Коваля. Чем они схожи? Чем различны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ие мысли передают нам автор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сказывая о природе и человеке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оих произведения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2349360"/>
          <a:ext cx="8234280" cy="1548000"/>
        </p:xfrm>
        <a:graphic>
          <a:graphicData uri="http://schemas.openxmlformats.org/drawingml/2006/table">
            <a:tbl>
              <a:tblPr/>
              <a:tblGrid>
                <a:gridCol w="4118040"/>
                <a:gridCol w="41162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од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лич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377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Сегодня я узнал (-а)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Было интерес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Я понял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Мне захоте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088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«Улыбка сближает людей, она похожа на лучи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протянувшийся от человека к человеку…» Ю. Ков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90920" cy="31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82616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3744720" cy="285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32590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76720" cy="3044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4105440" cy="3097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048200" cy="3029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16360" y="3500280"/>
            <a:ext cx="4175280" cy="309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377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 Ю.Коваля есть свой волшеб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фонарь, яркий и многоцветны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торый может так высветить знакомую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  повседневную жизнь, что м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чинаем в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обычно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находить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необычно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.А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8360" y="260280"/>
          <a:ext cx="8377200" cy="5769000"/>
        </p:xfrm>
        <a:graphic>
          <a:graphicData uri="http://schemas.openxmlformats.org/drawingml/2006/table">
            <a:tbl>
              <a:tblPr/>
              <a:tblGrid>
                <a:gridCol w="4189320"/>
                <a:gridCol w="4187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 он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чём писал?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бр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имательн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лантлив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ивительн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ёлог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еобычного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не такой, как все, не похожий на обычное или привычное) человек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временах год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природ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животны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Необычное в обычно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(по расска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Ю.И.Коваля «Вода с закрыт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азами»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 урок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видеть необычное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ычн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герои рассказ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де происходит их встреча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38200" cy="41911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3097080" cy="374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3598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Фуфайк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тёплая нательная одежда, закрывающая туловище и ру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Миновал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прошёл, преодолел пу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Студёная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очень холодна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рестились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от слова – нерест – процесс размножения ры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Язи (язь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- рыба семейства карпов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зможно, это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бра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тогда: какой он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ли это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бщени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тогда: какое оно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жет, это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тношени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к природе, тогда: какое он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11280" y="404640"/>
          <a:ext cx="8089920" cy="5478480"/>
        </p:xfrm>
        <a:graphic>
          <a:graphicData uri="http://schemas.openxmlformats.org/drawingml/2006/table">
            <a:tbl>
              <a:tblPr/>
              <a:tblGrid>
                <a:gridCol w="4044960"/>
                <a:gridCol w="40449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ЫЧ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ЫЧН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1:01:10Z</dcterms:created>
  <dc:creator>Татьяна </dc:creator>
  <dc:description/>
  <dc:language>en-US</dc:language>
  <cp:lastModifiedBy>Татьяна </cp:lastModifiedBy>
  <dcterms:modified xsi:type="dcterms:W3CDTF">2019-03-10T12:51:17Z</dcterms:modified>
  <cp:revision>4</cp:revision>
  <dc:subject/>
  <dc:title>Слайд 1</dc:title>
</cp:coreProperties>
</file>