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F95-E676-43F1-A644-D92EE71E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511-AA51-4A3D-A267-5F84BB2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EE3-7CFC-4AB2-98AD-3B8746F9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498-F241-4608-9311-965161F4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3D87-822B-4FA5-BD80-DBC46270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1FFA-7E49-4B7E-A0DF-292DE03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2E1-BF68-4E93-B371-04387BE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351-35C7-4D47-B3F1-11B398F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C49-9EFD-44B2-BB06-B372390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D8FE-80D9-4532-B000-DD1FBD8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184E-FA56-4890-8A38-D2DE4E7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CC4-3440-4838-9677-009C4A2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DDF-76C1-4F1C-8265-4F3ED42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B6B-DC7D-4E39-97C0-89F16A8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F5EA-834C-4E2F-B218-8E51A16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9AFB-CC62-4B3A-920C-CF051224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8C6E-5ADE-4B4A-B384-A3B74485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A30-3283-4672-BE1C-B6EC6A2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B2C-A2B7-452B-AD8D-5BECDB5E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574-69F2-4865-ADFD-23D3A9C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67B-DD00-4440-A131-E32745E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13C-158E-428B-A913-550D053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1F9-36A1-4B38-91EA-D4ABF71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BC1-7AD5-4503-9C41-DE8CE292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BCFA-4990-46F5-B122-3AEE253AC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AD1B-996A-4D2F-B888-1D79C2580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0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Юрий Иосифович Ков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ода с закрытыми глазам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4680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1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404280"/>
            <a:ext cx="74059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/З Письмен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равните образы природ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 произведениях Пришвина и Коваля. Чем они схожи? Чем различны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мысли передают нам авто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сказывая о природе и человеке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их произведен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2349360"/>
          <a:ext cx="8234280" cy="1548000"/>
        </p:xfrm>
        <a:graphic>
          <a:graphicData uri="http://schemas.openxmlformats.org/drawingml/2006/table">
            <a:tbl>
              <a:tblPr/>
              <a:tblGrid>
                <a:gridCol w="4118040"/>
                <a:gridCol w="41162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од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лич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377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Сегодня я узнал (-а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Я понял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088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«Улыбка сближает людей, она похожа на лучи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протянувшийся от человека к человеку…» Ю. Ков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90920" cy="31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82616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744720" cy="285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3259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76720" cy="3044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4105440" cy="3097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048200" cy="3029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175280" cy="309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377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 Ю.Коваля есть свой волшеб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фонарь, яркий и многоцвет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торый может так высветить знакомую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  повседневную жизнь, что м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чинаем в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обычно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ходит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необычно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.А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260280"/>
          <a:ext cx="8377200" cy="5769000"/>
        </p:xfrm>
        <a:graphic>
          <a:graphicData uri="http://schemas.openxmlformats.org/drawingml/2006/table">
            <a:tbl>
              <a:tblPr/>
              <a:tblGrid>
                <a:gridCol w="4189320"/>
                <a:gridCol w="4187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 он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чём писал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бр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имательн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лантлив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ивительн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ёл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еобычного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не такой, как все, не похожий на обычное или привычное) человек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временах год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природ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животны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Необычное в обычно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(по расска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Ю.И.Коваля «Вода с закрыт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зами»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 урок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видеть необычное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ыч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герои рассказ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де происходит их встреча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38200" cy="41911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3097080" cy="374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3598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Фуфай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тёплая нательная одежда, закрывающая туловище и ру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Миновал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прошёл, преодолел пу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Студёна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очень холодн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рестились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от слова – нерест – процесс размножения ры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Язи (язь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рыба семейства карпов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зможно,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ра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тогда: какой он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ли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щени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тогда: какое оно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жет,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тношени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к природе, тогда: какое о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11280" y="404640"/>
          <a:ext cx="8089920" cy="5478480"/>
        </p:xfrm>
        <a:graphic>
          <a:graphicData uri="http://schemas.openxmlformats.org/drawingml/2006/table">
            <a:tbl>
              <a:tblPr/>
              <a:tblGrid>
                <a:gridCol w="4044960"/>
                <a:gridCol w="40449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ЫЧ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ЫЧ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01:10Z</dcterms:created>
  <dc:creator>Татьяна </dc:creator>
  <dc:description/>
  <dc:language>en-US</dc:language>
  <cp:lastModifiedBy>Татьяна </cp:lastModifiedBy>
  <dcterms:modified xsi:type="dcterms:W3CDTF">2019-03-10T12:51:17Z</dcterms:modified>
  <cp:revision>4</cp:revision>
  <dc:subject/>
  <dc:title>Слайд 1</dc:title>
</cp:coreProperties>
</file>