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CA5-76C2-4891-BF14-96ED3A75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6BE-C3A3-4FB5-8BC6-B430D5EA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729-433D-4AEA-B900-81063464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7E1-271B-4D2B-88A6-61152729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C6E1-4D5C-4A72-85A3-F4179706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9ED0-A56D-4FEC-8220-31AC2C5E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AE26-101B-44AA-B399-89FFDA8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371F-FB03-43C4-BFF2-174EF66B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AB3-9A3F-4565-8E07-600AB822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B17A-4705-4873-993F-A6A1E1D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48FF-C65E-44A7-A566-D71EC145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80A-8966-40CB-B1A1-56178DC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4E84-6687-4826-B374-8604DA5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A6B8-311C-4D3B-8753-D045008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F35-379A-4BE2-A32C-5EF2957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63C5-5279-480E-857F-0AFA30A5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0D0E-E06E-44BD-A810-AE8AF394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3F3-7344-47A7-BA95-9C71679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965-A7E0-42ED-9E50-4655EB0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4ED-2855-482C-97FF-0CB2A1EF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F51-B1E7-43D3-BE13-2E6176CF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DC7-FA3C-47DF-81A5-9ED3747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745-8D88-4980-A9DA-0CDE259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E35-4B37-4D8D-956C-435C3BD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>
              <a:gd name="textAreaLeft" fmla="*/ 0 w 5359320"/>
              <a:gd name="textAreaRight" fmla="*/ 5359320 w 5359320"/>
              <a:gd name="textAreaTop" fmla="*/ 0 h 2425680"/>
              <a:gd name="textAreaBottom" fmla="*/ 2426040 h 2425680"/>
            </a:gdLst>
            <a:ahLst/>
            <a:rect l="textAreaLeft" t="textAreaTop" r="textAreaRight" b="textAreaBottom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44360 w 695160"/>
                  <a:gd name="textAreaRight" fmla="*/ 550800 w 695160"/>
                  <a:gd name="textAreaTop" fmla="*/ 37800 h 183960"/>
                  <a:gd name="textAreaBottom" fmla="*/ 1461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623880"/>
                  <a:gd name="textAreaBottom" fmla="*/ 624240 h 623880"/>
                </a:gdLst>
                <a:ahLst/>
                <a:rect l="textAreaLeft" t="textAreaTop" r="textAreaRight" b="textAreaBottom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585720"/>
                  <a:gd name="textAreaBottom" fmla="*/ 585720 h 585720"/>
                </a:gdLst>
                <a:ahLst/>
                <a:rect l="textAreaLeft" t="textAreaTop" r="textAreaRight" b="textAreaBottom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8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2168640"/>
                <a:gd name="textAreaBottom" fmla="*/ 2169000 h 2168640"/>
              </a:gdLst>
              <a:ahLst/>
              <a:rect l="textAreaLeft" t="textAreaTop" r="textAreaRight" b="textAreaBottom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custGeom>
            <a:avLst/>
            <a:gdLst>
              <a:gd name="textAreaLeft" fmla="*/ 0 w 560520"/>
              <a:gd name="textAreaRight" fmla="*/ 560880 w 56052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>
              <a:gd name="textAreaLeft" fmla="*/ 0 w 5359320"/>
              <a:gd name="textAreaRight" fmla="*/ 5359320 w 5359320"/>
              <a:gd name="textAreaTop" fmla="*/ 0 h 2425680"/>
              <a:gd name="textAreaBottom" fmla="*/ 2426040 h 2425680"/>
            </a:gdLst>
            <a:ahLst/>
            <a:rect l="textAreaLeft" t="textAreaTop" r="textAreaRight" b="textAreaBottom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65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66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0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44360 w 695160"/>
                  <a:gd name="textAreaRight" fmla="*/ 550800 w 695160"/>
                  <a:gd name="textAreaTop" fmla="*/ 37800 h 183960"/>
                  <a:gd name="textAreaBottom" fmla="*/ 1461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1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2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623880"/>
                  <a:gd name="textAreaBottom" fmla="*/ 624240 h 623880"/>
                </a:gdLst>
                <a:ahLst/>
                <a:rect l="textAreaLeft" t="textAreaTop" r="textAreaRight" b="textAreaBottom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5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585720"/>
                  <a:gd name="textAreaBottom" fmla="*/ 585720 h 585720"/>
                </a:gdLst>
                <a:ahLst/>
                <a:rect l="textAreaLeft" t="textAreaTop" r="textAreaRight" b="textAreaBottom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8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22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2168640"/>
                <a:gd name="textAreaBottom" fmla="*/ 2169000 h 2168640"/>
              </a:gdLst>
              <a:ahLst/>
              <a:rect l="textAreaLeft" t="textAreaTop" r="textAreaRight" b="textAreaBottom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84" name="Freeform 23"/>
          <p:cNvSpPr/>
          <p:nvPr/>
        </p:nvSpPr>
        <p:spPr>
          <a:xfrm>
            <a:off x="600120" y="3164040"/>
            <a:ext cx="560520" cy="2022480"/>
          </a:xfrm>
          <a:custGeom>
            <a:avLst/>
            <a:gdLst>
              <a:gd name="textAreaLeft" fmla="*/ 0 w 560520"/>
              <a:gd name="textAreaRight" fmla="*/ 560880 w 56052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>
              <a:gd name="textAreaLeft" fmla="*/ 0 w 7480440"/>
              <a:gd name="textAreaRight" fmla="*/ 7480800 w 748044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87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88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9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0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60360 w 1728720"/>
                  <a:gd name="textAreaRight" fmla="*/ 1368360 w 1728720"/>
                  <a:gd name="textAreaTop" fmla="*/ 84240 h 405000"/>
                  <a:gd name="textAreaBottom" fmla="*/ 3207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3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1271520"/>
                  <a:gd name="textAreaBottom" fmla="*/ 1271880 h 1271520"/>
                </a:gdLst>
                <a:ahLst/>
                <a:rect l="textAreaLeft" t="textAreaTop" r="textAreaRight" b="textAreaBottom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grpSp>
            <p:nvGrpSpPr>
              <p:cNvPr id="96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97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3" name="Freeform 20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4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106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>
                  <a:gd name="textAreaLeft" fmla="*/ 0 w 1209600"/>
                  <a:gd name="textAreaRight" fmla="*/ 1209960 w 1209600"/>
                  <a:gd name="textAreaTop" fmla="*/ 0 h 3676680"/>
                  <a:gd name="textAreaBottom" fmla="*/ 3677040 h 3676680"/>
                </a:gdLst>
                <a:ahLst/>
                <a:rect l="textAreaLeft" t="textAreaTop" r="textAreaRight" b="textAreaBottom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a64c4c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7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>
                  <a:gd name="textAreaLeft" fmla="*/ 0 w 1452600"/>
                  <a:gd name="textAreaRight" fmla="*/ 1452960 w 1452600"/>
                  <a:gd name="textAreaTop" fmla="*/ 0 h 4875120"/>
                  <a:gd name="textAreaBottom" fmla="*/ 4875480 h 4875120"/>
                </a:gdLst>
                <a:ahLst/>
                <a:rect l="textAreaLeft" t="textAreaTop" r="textAreaRight" b="textAreaBottom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.encyc.yandex.net/illustrations/rges/pictures/3-111-02.jpg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az.lib.ru/p/pushkin_a_s/.photo1.jp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908000" y="285840"/>
            <a:ext cx="687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0000"/>
                </a:solidFill>
                <a:latin typeface="Segoe Script"/>
              </a:rPr>
              <a:t>«Классика Золотого века: хранилище мёртвых  текстов или источник живой поэзии»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№1.mp3" descr=""/>
          <p:cNvPicPr/>
          <p:nvPr/>
        </p:nvPicPr>
        <p:blipFill>
          <a:blip r:embed="rId1"/>
          <a:stretch/>
        </p:blipFill>
        <p:spPr>
          <a:xfrm>
            <a:off x="7956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94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s://www.sunhome.ru/i/poetry/142/strannik-vechnii-po-beskonechnosti.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Блок-схема: ИЛИ 2"/>
          <p:cNvSpPr/>
          <p:nvPr/>
        </p:nvSpPr>
        <p:spPr>
          <a:xfrm>
            <a:off x="2071800" y="928800"/>
            <a:ext cx="5214960" cy="5143320"/>
          </a:xfrm>
          <a:prstGeom prst="flowChartOr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2" descr="Картинка 73 из 102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9600" y="2120760"/>
            <a:ext cx="2792520" cy="3737160"/>
          </a:xfrm>
          <a:prstGeom prst="rect">
            <a:avLst/>
          </a:prstGeom>
          <a:ln w="0">
            <a:noFill/>
          </a:ln>
        </p:spPr>
      </p:pic>
      <p:sp>
        <p:nvSpPr>
          <p:cNvPr id="175" name="Блок-схема: ИЛИ 3"/>
          <p:cNvSpPr/>
          <p:nvPr/>
        </p:nvSpPr>
        <p:spPr>
          <a:xfrm>
            <a:off x="2428920" y="1285920"/>
            <a:ext cx="4429080" cy="4357800"/>
          </a:xfrm>
          <a:prstGeom prst="flowChartOr">
            <a:avLst/>
          </a:prstGeom>
          <a:gradFill rotWithShape="0">
            <a:gsLst>
              <a:gs pos="0">
                <a:srgbClr val="b0852f"/>
              </a:gs>
              <a:gs pos="100000">
                <a:srgbClr val="ebb13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Блок-схема: ИЛИ 4"/>
          <p:cNvSpPr/>
          <p:nvPr/>
        </p:nvSpPr>
        <p:spPr>
          <a:xfrm>
            <a:off x="2786040" y="1714680"/>
            <a:ext cx="3714840" cy="3571560"/>
          </a:xfrm>
          <a:prstGeom prst="flowChartOr">
            <a:avLst/>
          </a:prstGeom>
          <a:solidFill>
            <a:srgbClr val="cc66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4" descr="Картинка 11 из 102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4240" y="2048040"/>
            <a:ext cx="3243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imagesait.ru/photos/aHR0cDovL3R2b3lhc2themthLnJ1L3dwLWNvbnRlbnQvdXBsb2Fkcy8yMDEyLzA5L2ltZ0IuYXNwXy5qcGc=/tsygany-pushkin-chit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№1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5960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428760" y="42876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Евгений Абрамович Баратынски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0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Picture 2" descr="Картинка 1 из 35"/>
          <p:cNvPicPr/>
          <p:nvPr/>
        </p:nvPicPr>
        <p:blipFill>
          <a:blip r:embed="rId1"/>
          <a:stretch/>
        </p:blipFill>
        <p:spPr>
          <a:xfrm>
            <a:off x="2428920" y="1714680"/>
            <a:ext cx="3994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428760" y="42876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Константин Николаевич Батюшков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87- 1855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Picture 2" descr="Картинка 1 из 197"/>
          <p:cNvPicPr/>
          <p:nvPr/>
        </p:nvPicPr>
        <p:blipFill>
          <a:blip r:embed="rId1"/>
          <a:stretch/>
        </p:blipFill>
        <p:spPr>
          <a:xfrm>
            <a:off x="2428920" y="1714680"/>
            <a:ext cx="314316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Картинка 5 из 748"/>
          <p:cNvPicPr/>
          <p:nvPr/>
        </p:nvPicPr>
        <p:blipFill>
          <a:blip r:embed="rId1"/>
          <a:stretch/>
        </p:blipFill>
        <p:spPr>
          <a:xfrm>
            <a:off x="2643120" y="1643040"/>
            <a:ext cx="3268800" cy="4357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>
            <a:off x="428760" y="42876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Николай Михайлович Языков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3- 46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536760" y="428760"/>
            <a:ext cx="574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Василий Андреевич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Жуковски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83- 1852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Picture 2" descr="Картинка 1 из 2195"/>
          <p:cNvPicPr/>
          <p:nvPr/>
        </p:nvPicPr>
        <p:blipFill>
          <a:blip r:embed="rId1"/>
          <a:stretch/>
        </p:blipFill>
        <p:spPr>
          <a:xfrm>
            <a:off x="2374920" y="1714680"/>
            <a:ext cx="3483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92- 1878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428760" y="42876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Пётр Андреевич Вяземски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Picture 2" descr="Картинка 9 из 449"/>
          <p:cNvPicPr/>
          <p:nvPr/>
        </p:nvPicPr>
        <p:blipFill>
          <a:blip r:embed="rId1"/>
          <a:stretch/>
        </p:blipFill>
        <p:spPr>
          <a:xfrm>
            <a:off x="2571840" y="1428840"/>
            <a:ext cx="353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98- 1831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2" descr="http://mypresentation.ru/documents/f388dce507d9580626552fc320910eaf/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№11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9407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3357720" y="285840"/>
            <a:ext cx="5429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00000"/>
                </a:solidFill>
                <a:latin typeface="Segoe Script"/>
              </a:rPr>
              <a:t>Золотой век русской поэзии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№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53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971640" y="42876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Урок литературы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69 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6" descr="http://www.playcast.ru/uploads/2013/09/05/6017185.png"/>
          <p:cNvPicPr/>
          <p:nvPr/>
        </p:nvPicPr>
        <p:blipFill>
          <a:blip r:embed="rId1"/>
          <a:stretch/>
        </p:blipFill>
        <p:spPr>
          <a:xfrm>
            <a:off x="0" y="907920"/>
            <a:ext cx="9334440" cy="5616720"/>
          </a:xfrm>
          <a:prstGeom prst="rect">
            <a:avLst/>
          </a:prstGeom>
          <a:ln w="0">
            <a:noFill/>
          </a:ln>
        </p:spPr>
      </p:pic>
      <p:pic>
        <p:nvPicPr>
          <p:cNvPr id="156" name="№3.mp3" descr=""/>
          <p:cNvPicPr/>
          <p:nvPr/>
        </p:nvPicPr>
        <p:blipFill>
          <a:blip r:embed="rId2"/>
          <a:stretch/>
        </p:blipFill>
        <p:spPr>
          <a:xfrm>
            <a:off x="860436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848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ttp://static.esosedi.org/fiber/244729/fit/1400x1000/dnem_ne_tak_krut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№4.mp3" descr=""/>
          <p:cNvPicPr/>
          <p:nvPr/>
        </p:nvPicPr>
        <p:blipFill>
          <a:blip r:embed="rId2"/>
          <a:stretch/>
        </p:blipFill>
        <p:spPr>
          <a:xfrm>
            <a:off x="8675640" y="5516640"/>
            <a:ext cx="2923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361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http://ps-shtychki.ucoz.ru/_ld/16/65548324.jpg"/>
          <p:cNvPicPr/>
          <p:nvPr/>
        </p:nvPicPr>
        <p:blipFill>
          <a:blip r:embed="rId1"/>
          <a:stretch/>
        </p:blipFill>
        <p:spPr>
          <a:xfrm>
            <a:off x="0" y="-14400"/>
            <a:ext cx="91263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271160" y="7488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Calibri"/>
                <a:ea typeface="Calibri"/>
              </a:rPr>
              <a:t>«Классика Золотого века: хранилище мертвых текстов или источник живой поэзии».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Picture 2" descr="http://www.fainaidea.com/wp-content/uploads/2016/05/1404332732_13011087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№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41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4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0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438880" y="6296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0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2" descr="http://www.stevsky.ru/dibujos/2017/10/versusn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№7.mp3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857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http://900igr.net/up/datas/243818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763640" y="69228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4a724a"/>
                </a:solidFill>
                <a:latin typeface="Monotype Corsiva"/>
              </a:rPr>
              <a:t>Золотой век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№8.mp3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266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s://pbs.twimg.com/media/C0hBn90XAAANfY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№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467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07:05Z</dcterms:created>
  <dc:creator>Андрей</dc:creator>
  <dc:description/>
  <cp:keywords/>
  <dc:language>en-US</dc:language>
  <cp:lastModifiedBy>Admin</cp:lastModifiedBy>
  <dcterms:modified xsi:type="dcterms:W3CDTF">2018-01-30T08:06:49Z</dcterms:modified>
  <cp:revision>38</cp:revision>
  <dc:subject/>
  <dc:title>чернильн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