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95C-43E2-417B-B0C1-FDC223B6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B8C-E3BF-4F8B-BDEA-F22438E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2EB-2D8C-42C3-9E02-20B2810F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A58-A6D5-47EC-9CFF-1C5D595D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184-B294-4142-9C42-24A93D23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83D-721A-4CA3-BA9E-232A9BC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DEC-8636-4236-9627-6550DDEE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0466-9CC4-4A2A-97D0-A2EEC6B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B829-1D0D-4D6C-9A5B-93A8AA6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FCC-9F66-4B44-BFC1-28A0A633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D856-406F-4A8F-8695-961E8C2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A5A-0CBD-4B21-9DD7-14D18AF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E2EF-AA33-4417-85A4-E4CDC22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954E-5EBF-4195-96B0-5B78C7D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384D-6B31-408F-9B40-AD5BCBB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5C1-B9BE-4E98-B305-F1C8D313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C996-1DB4-47F5-B07F-AA377EE2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AF50-0E37-438E-A0FB-D2753EE0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EF1C-D130-4811-AC3E-283F0CF4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443A-7817-4AF3-9EA3-A03242D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0B3C-EE44-48B9-9CAC-980FAB6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9265-7D6F-4CD7-8A92-77F3733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05C-BB4C-4034-B4A3-CC6338A0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02F7-37CC-4040-B89B-CD08D80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083C-E506-45DF-B5F4-05B6C41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31F4-9EDF-4EC3-B5F4-994C357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F057-FB0A-4ABB-9A8B-60DF3EA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6E57-4B05-4EFA-8961-BF8A43C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53B5-87B2-44B1-AB7F-ABDB3FC9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02EE-D539-494C-9E3C-69C5B81F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8825-FD6E-4789-91E6-8A2E4814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0551-D44A-41AE-A517-99C3E6E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301F-B1DE-4976-9BB1-986F2966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4E9-B2E9-4FD8-9085-DB2F32C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49CF-D35B-4B45-9878-E986BD1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C4CD-E6E7-4444-8089-188FBFE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EACC-FA15-4760-A21E-B66FD5B2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3BC7-35B9-498B-9F43-73A7E1A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2B85-ABE3-43FA-8989-83D412F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A799-FECF-4FD0-8333-304FB9C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E97F-EC3B-45CE-B723-5816CF9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8D8B-EA9E-4371-9EDC-476C6D3B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DF80-4050-4918-988A-C7D3C5A5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078-AE5D-4971-B06E-0A1A4AEB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6BB-9F9D-4720-8E40-338D4219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B92-C26C-4FCD-903D-F5B5994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694-2C96-40B4-AA45-C52F136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F10-0BFB-46EA-A3ED-F72ADBF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27461-1FF3-4E42-B92C-CF6688BEF5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47ED4-87E8-4788-857D-3A018360D14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06EFE-AB49-4E8E-A114-C4C72D08D6E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CD4DA-826C-42B5-AF94-10193F8044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My working day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4</a:t>
            </a:r>
            <a:r>
              <a:rPr b="0" lang="en-US" sz="1800" spc="-1" strike="noStrike" baseline="30000">
                <a:solidFill>
                  <a:srgbClr val="7f7f7f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 f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Petrunina Anastasiy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ture background"/>
          <p:cNvPicPr/>
          <p:nvPr/>
        </p:nvPicPr>
        <p:blipFill>
          <a:blip r:embed="rId1"/>
          <a:stretch/>
        </p:blipFill>
        <p:spPr>
          <a:xfrm>
            <a:off x="1889280" y="162000"/>
            <a:ext cx="6783120" cy="5099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735120" y="545940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omework : write a short story (10-15 sentences) about your day off (weekends or only Saturday or Sunday, as you like. Draw a poster if you want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853920" y="257040"/>
            <a:ext cx="79614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tch 2 parts of the wor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Some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Ne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Usu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Alw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Sel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Of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89680" y="2160360"/>
            <a:ext cx="4184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a.     ally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b.    do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c.    ay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d.    tim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e.    v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f.    ten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Picture background"/>
          <p:cNvPicPr/>
          <p:nvPr/>
        </p:nvPicPr>
        <p:blipFill>
          <a:blip r:embed="rId1"/>
          <a:stretch/>
        </p:blipFill>
        <p:spPr>
          <a:xfrm>
            <a:off x="120636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topic of our less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is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My working da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Picture background"/>
          <p:cNvPicPr/>
          <p:nvPr/>
        </p:nvPicPr>
        <p:blipFill>
          <a:blip r:embed="rId1"/>
          <a:stretch/>
        </p:blipFill>
        <p:spPr>
          <a:xfrm>
            <a:off x="6697800" y="2001960"/>
            <a:ext cx="4706640" cy="4706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596880" y="1652760"/>
            <a:ext cx="610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ello! I’m Ted! I’m 9 years old. I usually get 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seven o’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Then I have breakfast and clean my teeth. I go to scho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to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have 5 or 6 lessons at school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hree o’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go home. My granny cooks wonderful lunch! After it I play football or make toys till din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half past si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I always do my home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to sev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en I read books or sometimes watch T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past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take a sh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wenty - five past n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usually go to b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en o’clock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  <a:ea typeface="Calibri"/>
              </a:rPr>
              <a:t>Make up the word combinations: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880" y="1528920"/>
            <a:ext cx="418320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Cle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sh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Pla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l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av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Rea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tch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Me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89680" y="1528920"/>
            <a:ext cx="418464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a. a boo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b. to schoo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с.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the do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. my roo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e. lunc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f. homewor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. the dish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. my frien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i.TV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j. u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k. spor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The answ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9160"/>
            <a:ext cx="85964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Clean my roo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o homewor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sh dish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Play spor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lk the do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et u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ave lunc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o to schoo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Read a boo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tch TV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Meet my frien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0c226"/>
                </a:solidFill>
                <a:latin typeface="Times New Roman"/>
                <a:ea typeface="Calibri"/>
              </a:rPr>
              <a:t>Correct mistakes.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1348920"/>
            <a:ext cx="85964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do my homework in the mor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usually get up at night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have lunch in the eve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4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go to school in the eve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5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have dinner in the afternoon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6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wash dishes at night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7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water the flowers in the morning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icture background"/>
          <p:cNvPicPr/>
          <p:nvPr/>
        </p:nvPicPr>
        <p:blipFill>
          <a:blip r:embed="rId1"/>
          <a:stretch/>
        </p:blipFill>
        <p:spPr>
          <a:xfrm>
            <a:off x="1784520" y="141120"/>
            <a:ext cx="863424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5T09:49:19Z</dcterms:created>
  <dc:creator>Анастасия Петрунина</dc:creator>
  <dc:description/>
  <dc:language>en-US</dc:language>
  <cp:lastModifiedBy>Анастасия Петрунина</cp:lastModifiedBy>
  <dcterms:modified xsi:type="dcterms:W3CDTF">2024-10-20T10:21:12Z</dcterms:modified>
  <cp:revision>12</cp:revision>
  <dc:subject/>
  <dc:title/>
</cp:coreProperties>
</file>