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9E3A-B870-4866-82F9-F8F880DF8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2C5A-99F4-4D33-900E-D857F06E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CADC-A40E-4A1A-839B-45B4A65E9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1E72-F81B-42FE-8D4B-386A6C141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9B17-6E04-4D61-A42D-A14FD33EA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376A-3C2E-4971-8195-665C6EAF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66B1-63FB-47E7-80D2-F4A7C0A1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46C8-A469-419C-A6D5-83C30127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6D7A-09BA-4889-A045-768B093C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B28C-CEEF-481E-AC19-38FAAAE2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060A-4DBC-4610-8AAC-C56015FE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23E7-6295-4297-8435-DBCA3BDE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96C4-DC3E-437F-98A9-326AC4E0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B0BF-F440-4634-A581-21F064D9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29CF-4078-48B8-8583-7DCA47B0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4CEE-34CB-46B5-8977-03ADEF731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AA8F-4FE0-4757-8A15-7F101600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EEAD2-1659-40EB-9775-180233530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0DA02-1E42-4507-BCE8-9A74CA0C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26C69-1283-49BE-B65B-9A7F7356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73F15-7FB3-4B7A-B66D-F120688B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9DDEE-B146-4A1D-838E-95F0DDB9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F900-08CE-4780-9BA6-22D5EE78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D93D7-DC20-4F42-9CC4-14BE5AFE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7A23C-5937-4668-8105-58F79D8D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9CC8D-36DF-4070-A085-1D248348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E9DDE-AF4E-4C28-AAAE-3879AD7C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0EF05-A755-4589-B111-E0583118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9C64D-2742-4966-9B25-CD870BEE9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6ACD5-4893-4185-B60B-9EBD6D644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88001-CB6A-4800-B6A1-F9E9ECEB1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6825F-F097-42B5-867F-BD6C2902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85C68-5625-4A34-BE16-C72A824C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D418-F4FB-43CC-B444-215ABCD9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048FC-3C0E-435E-9324-AC6F4079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4B9DC-CFA3-40D5-91D9-91DA6A84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75917-9B27-4FA9-A001-FDCEB622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B35F6-56CA-4819-B1F3-B15D096C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52CB4-B4AE-4AE5-BCB4-096855F2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9A3E1-F263-4297-9E64-FA1E95D6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C0091-5263-4AA1-94C1-8AB51A72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45652-B318-4E43-8C94-1D98F0FBF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7CA0F-C286-474D-96BA-52071DB9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C808-406F-4ED8-92D9-6A097F45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C56E-E685-40BB-A84B-F4E19FA9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2EE9-9BFA-4D76-A352-D1C9CC19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FE6E-570D-4795-A9F9-34D044F7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81D8-4547-4918-B276-180F757A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84970D-BC37-4F1C-893B-9BB4A03D8F4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DC2E22-8EB9-40FF-A097-C555B922B12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6E9870-9859-42A9-9DEB-639ABF27C31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5335F9-7313-488D-B411-2DAABEEB4BB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90c226"/>
                </a:solidFill>
                <a:latin typeface="Trebuchet MS"/>
              </a:rPr>
              <a:t>My working day!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Trebuchet MS"/>
              </a:rPr>
              <a:t>4</a:t>
            </a:r>
            <a:r>
              <a:rPr b="0" lang="en-US" sz="1800" spc="-1" strike="noStrike" baseline="30000">
                <a:solidFill>
                  <a:srgbClr val="7f7f7f"/>
                </a:solidFill>
                <a:latin typeface="Trebuchet MS"/>
              </a:rPr>
              <a:t>th</a:t>
            </a:r>
            <a:r>
              <a:rPr b="0" lang="en-US" sz="1800" spc="-1" strike="noStrike">
                <a:solidFill>
                  <a:srgbClr val="7f7f7f"/>
                </a:solidFill>
                <a:latin typeface="Trebuchet MS"/>
              </a:rPr>
              <a:t> fo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Trebuchet MS"/>
              </a:rPr>
              <a:t>Petrunina Anastasiy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Picture background"/>
          <p:cNvPicPr/>
          <p:nvPr/>
        </p:nvPicPr>
        <p:blipFill>
          <a:blip r:embed="rId1"/>
          <a:stretch/>
        </p:blipFill>
        <p:spPr>
          <a:xfrm>
            <a:off x="1889280" y="162000"/>
            <a:ext cx="6783120" cy="5099040"/>
          </a:xfrm>
          <a:prstGeom prst="rect">
            <a:avLst/>
          </a:prstGeom>
          <a:ln w="0">
            <a:noFill/>
          </a:ln>
        </p:spPr>
      </p:pic>
      <p:sp>
        <p:nvSpPr>
          <p:cNvPr id="231" name="TextBox 2"/>
          <p:cNvSpPr/>
          <p:nvPr/>
        </p:nvSpPr>
        <p:spPr>
          <a:xfrm>
            <a:off x="735120" y="5459400"/>
            <a:ext cx="831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Homework : write a short story (10-15 sentences) about your day off (weekends or only Saturday or Sunday, as you like. Draw a poster if you want.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3" descr=""/>
          <p:cNvPicPr/>
          <p:nvPr/>
        </p:nvPicPr>
        <p:blipFill>
          <a:blip r:embed="rId1"/>
          <a:stretch/>
        </p:blipFill>
        <p:spPr>
          <a:xfrm>
            <a:off x="853920" y="257040"/>
            <a:ext cx="796140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Match 2 parts of the word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77880" y="2160360"/>
            <a:ext cx="41832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Times New Roman"/>
                <a:ea typeface="Calibri"/>
              </a:rPr>
              <a:t>Some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Times New Roman"/>
                <a:ea typeface="Calibri"/>
              </a:rPr>
              <a:t>Ne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Times New Roman"/>
                <a:ea typeface="Calibri"/>
              </a:rPr>
              <a:t>Usu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Times New Roman"/>
                <a:ea typeface="Calibri"/>
              </a:rPr>
              <a:t>Alw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Times New Roman"/>
                <a:ea typeface="Calibri"/>
              </a:rPr>
              <a:t>Sel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Times New Roman"/>
                <a:ea typeface="Calibri"/>
              </a:rPr>
              <a:t>Of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089680" y="2160360"/>
            <a:ext cx="41846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Times New Roman"/>
                <a:ea typeface="Calibri"/>
              </a:rPr>
              <a:t>a.     ally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Times New Roman"/>
                <a:ea typeface="Calibri"/>
              </a:rPr>
              <a:t>b.    dom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Times New Roman"/>
                <a:ea typeface="Calibri"/>
              </a:rPr>
              <a:t>c.    ays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Times New Roman"/>
                <a:ea typeface="Calibri"/>
              </a:rPr>
              <a:t>d.    times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Times New Roman"/>
                <a:ea typeface="Calibri"/>
              </a:rPr>
              <a:t>e.    ver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Times New Roman"/>
                <a:ea typeface="Calibri"/>
              </a:rPr>
              <a:t>f.    ten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Picture background"/>
          <p:cNvPicPr/>
          <p:nvPr/>
        </p:nvPicPr>
        <p:blipFill>
          <a:blip r:embed="rId1"/>
          <a:stretch/>
        </p:blipFill>
        <p:spPr>
          <a:xfrm>
            <a:off x="1206360" y="5716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The topic of our lesson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is</a:t>
            </a:r>
            <a:endParaRPr b="0" lang="en-US" sz="6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rebuchet MS"/>
              </a:rPr>
              <a:t>My working day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2" descr="Picture background"/>
          <p:cNvPicPr/>
          <p:nvPr/>
        </p:nvPicPr>
        <p:blipFill>
          <a:blip r:embed="rId1"/>
          <a:stretch/>
        </p:blipFill>
        <p:spPr>
          <a:xfrm>
            <a:off x="6697800" y="2001960"/>
            <a:ext cx="4706640" cy="4706640"/>
          </a:xfrm>
          <a:prstGeom prst="rect">
            <a:avLst/>
          </a:prstGeom>
          <a:ln w="0">
            <a:noFill/>
          </a:ln>
        </p:spPr>
      </p:pic>
      <p:sp>
        <p:nvSpPr>
          <p:cNvPr id="221" name="TextBox 2"/>
          <p:cNvSpPr/>
          <p:nvPr/>
        </p:nvSpPr>
        <p:spPr>
          <a:xfrm>
            <a:off x="596880" y="1652760"/>
            <a:ext cx="6100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Hello! I’m Ted! I’m 9 years old. I usually get u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t seven o’cl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 Then I have breakfast and clean my teeth. I go to schoo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t quarter to e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I have 5 or 6 lessons at school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t three o’cl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go home. My granny cooks wonderful lunch! After it I play football or make toys till dinn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t half past six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I always do my homewor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t quarter to seve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Then I read books or sometimes watch TV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t quarter past e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I take a show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t twenty - five past n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I usually go to b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t ten o’clock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Times New Roman"/>
                <a:ea typeface="Calibri"/>
              </a:rPr>
              <a:t>Make up the word combinations:</a:t>
            </a:r>
            <a:br>
              <a:rPr sz="32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77880" y="1528920"/>
            <a:ext cx="4183200" cy="45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Clea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Do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Wash.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Play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Walk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Ge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Hav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Go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Read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Watch        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 </a:t>
            </a: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Mee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089680" y="1528920"/>
            <a:ext cx="4184640" cy="45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a. a book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b. to school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с. </a:t>
            </a: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the dog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d. my room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e. lunch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f. homework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g. the dishe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h. my friend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i.TV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j. up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k. sport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Trebuchet MS"/>
              </a:rPr>
              <a:t>The answer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77520" y="1379160"/>
            <a:ext cx="85964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Clean my room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 algn="ctr">
              <a:lnSpc>
                <a:spcPct val="100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Do homework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 algn="ctr">
              <a:lnSpc>
                <a:spcPct val="100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Wash dishe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 algn="ctr">
              <a:lnSpc>
                <a:spcPct val="100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Play sport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 algn="ctr">
              <a:lnSpc>
                <a:spcPct val="100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Walk the dog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 algn="ctr">
              <a:lnSpc>
                <a:spcPct val="100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Get up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 algn="ctr">
              <a:lnSpc>
                <a:spcPct val="100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Have lunch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 algn="ctr">
              <a:lnSpc>
                <a:spcPct val="100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Go to school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 algn="ctr">
              <a:lnSpc>
                <a:spcPct val="100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Read a book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 algn="ctr">
              <a:lnSpc>
                <a:spcPct val="100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Watch TV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 algn="ctr">
              <a:lnSpc>
                <a:spcPct val="100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Meet my friend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90c226"/>
                </a:solidFill>
                <a:latin typeface="Times New Roman"/>
                <a:ea typeface="Calibri"/>
              </a:rPr>
              <a:t>Correct mistakes. </a:t>
            </a:r>
            <a:br>
              <a:rPr sz="28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77520" y="1348920"/>
            <a:ext cx="859644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1.</a:t>
            </a: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do my homework in the morning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2.</a:t>
            </a: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usually get up at night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3.</a:t>
            </a: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have lunch in the evening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4.</a:t>
            </a: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go to school in the evening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5.</a:t>
            </a: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have dinner in the afternoon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6.</a:t>
            </a: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wash dishes at night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7.</a:t>
            </a: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water the flowers in the morning.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Picture background"/>
          <p:cNvPicPr/>
          <p:nvPr/>
        </p:nvPicPr>
        <p:blipFill>
          <a:blip r:embed="rId1"/>
          <a:stretch/>
        </p:blipFill>
        <p:spPr>
          <a:xfrm>
            <a:off x="1784520" y="141120"/>
            <a:ext cx="8634240" cy="64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15T09:49:19Z</dcterms:created>
  <dc:creator>Анастасия Петрунина</dc:creator>
  <dc:description/>
  <dc:language>en-US</dc:language>
  <cp:lastModifiedBy>Анастасия Петрунина</cp:lastModifiedBy>
  <dcterms:modified xsi:type="dcterms:W3CDTF">2024-10-20T10:21:12Z</dcterms:modified>
  <cp:revision>12</cp:revision>
  <dc:subject/>
  <dc:title/>
</cp:coreProperties>
</file>