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2C7-C420-49F6-B40D-13AF7CC8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8A3-B024-418E-9739-82D9B5C2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D3B-6CA8-46F3-92F1-CA87680F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377-D04F-4EA4-8C97-C047EBD4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A716-35A3-411F-A2F0-E5889474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E3F3-B091-411F-99CF-FF57245E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275D-1F2C-4DAE-8C61-FD6FC60C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448B-F56C-49BB-A43A-8CFF85F3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D113-01B6-4E35-8EB4-14A65607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D25-AFA8-4719-A689-D3B3A8F2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C518-940C-4F5F-A48E-862CC4E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360-92AC-4AD0-B68F-D9345904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CCFE-D2EC-4589-97D4-0C3DDE2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9724-58E9-4CDB-B36B-8C2AA2F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8455-E214-402C-81B3-5DB344B2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E92A-594D-4878-8AA5-39D1699D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5D1F-8A36-4B11-9A3A-482194C4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8E9-BCB9-4B02-AAE2-81A02236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977-F9F5-4C9C-A1BA-A789E6ED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DCE-D8D3-40D3-BB33-5A685797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7E1-1BC1-4831-9820-46668302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139-ACA6-4BB1-AAEA-E10E590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12D-7B33-4368-B022-E7363E3E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1CB-9949-4E36-852E-0217D5D4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8C17-ECCA-4E15-B020-2B02FCF7A30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32AE-F1FC-45E6-A6B3-09481668EE4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9280" y="1916280"/>
            <a:ext cx="87854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7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Times New Roman"/>
              </a:rPr>
              <a:t>«Скажи мне – и я забуду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Times New Roman"/>
              </a:rPr>
              <a:t>Покажи мне - и я запомн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Times New Roman"/>
              </a:rPr>
              <a:t>Вовлеки меня и я научусь.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древняя китайская послови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132000" y="526896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808120" y="5500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8000" y="260280"/>
            <a:ext cx="89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испытаний (практическое применение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9"/>
          <p:cNvGrpSpPr/>
          <p:nvPr/>
        </p:nvGrpSpPr>
        <p:grpSpPr>
          <a:xfrm>
            <a:off x="1936800" y="2421000"/>
            <a:ext cx="4866840" cy="3095280"/>
            <a:chOff x="1936800" y="2421000"/>
            <a:chExt cx="4866840" cy="3095280"/>
          </a:xfrm>
        </p:grpSpPr>
        <p:sp>
          <p:nvSpPr>
            <p:cNvPr id="182" name="Line 6"/>
            <p:cNvSpPr/>
            <p:nvPr/>
          </p:nvSpPr>
          <p:spPr>
            <a:xfrm flipV="1">
              <a:off x="1936800" y="2421000"/>
              <a:ext cx="2366640" cy="178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4303440" y="2421000"/>
              <a:ext cx="2500200" cy="30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1936800" y="4208760"/>
              <a:ext cx="4866840" cy="13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2235240" y="3782880"/>
                <a:ext cx="109224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3525840" y="2774880"/>
                <a:ext cx="1092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5095800" y="4521240"/>
                <a:ext cx="1092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13"/>
          <p:cNvSpPr/>
          <p:nvPr/>
        </p:nvSpPr>
        <p:spPr>
          <a:xfrm>
            <a:off x="5689440" y="454356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4069440" y="171144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1239480" y="3857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6951960" y="530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485440" y="396720"/>
            <a:ext cx="613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неизвестный уго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угольни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1"/>
          <p:cNvSpPr/>
          <p:nvPr/>
        </p:nvSpPr>
        <p:spPr>
          <a:xfrm>
            <a:off x="3203640" y="2276640"/>
            <a:ext cx="2593800" cy="259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2"/>
              <p:cNvSpPr txBox="1"/>
              <p:nvPr/>
            </p:nvSpPr>
            <p:spPr>
              <a:xfrm>
                <a:off x="4886280" y="4352760"/>
                <a:ext cx="7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Text Box 10"/>
          <p:cNvSpPr/>
          <p:nvPr/>
        </p:nvSpPr>
        <p:spPr>
          <a:xfrm>
            <a:off x="4286160" y="24210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3716280" y="3586320"/>
            <a:ext cx="263520" cy="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H="1">
            <a:off x="5033880" y="3602160"/>
            <a:ext cx="263520" cy="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5"/>
              <p:cNvSpPr txBox="1"/>
              <p:nvPr/>
            </p:nvSpPr>
            <p:spPr>
              <a:xfrm>
                <a:off x="4089240" y="2790720"/>
                <a:ext cx="7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Прямоугольник 1"/>
          <p:cNvSpPr/>
          <p:nvPr/>
        </p:nvSpPr>
        <p:spPr>
          <a:xfrm>
            <a:off x="1812960" y="476280"/>
            <a:ext cx="696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неизвестный угол треугольни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2560320" y="465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4226400" y="1446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5943600" y="4653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14"/>
          <p:cNvSpPr/>
          <p:nvPr/>
        </p:nvSpPr>
        <p:spPr>
          <a:xfrm flipV="1" rot="21012600">
            <a:off x="2408400" y="2948760"/>
            <a:ext cx="5510160" cy="1627200"/>
          </a:xfrm>
          <a:prstGeom prst="triangle">
            <a:avLst>
              <a:gd name="adj" fmla="val 5688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3851280" y="3853800"/>
            <a:ext cx="175320" cy="20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0"/>
              <p:cNvSpPr txBox="1"/>
              <p:nvPr/>
            </p:nvSpPr>
            <p:spPr>
              <a:xfrm>
                <a:off x="4933800" y="3683160"/>
                <a:ext cx="9892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Rectangle 11"/>
          <p:cNvSpPr/>
          <p:nvPr/>
        </p:nvSpPr>
        <p:spPr>
          <a:xfrm>
            <a:off x="6778440" y="25002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116160" y="30862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 flipH="1" flipV="1">
            <a:off x="6376680" y="3632760"/>
            <a:ext cx="280080" cy="13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5"/>
              <p:cNvSpPr txBox="1"/>
              <p:nvPr/>
            </p:nvSpPr>
            <p:spPr>
              <a:xfrm>
                <a:off x="3630600" y="3147840"/>
                <a:ext cx="79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8"/>
              <p:cNvSpPr txBox="1"/>
              <p:nvPr/>
            </p:nvSpPr>
            <p:spPr>
              <a:xfrm>
                <a:off x="6278400" y="2684520"/>
                <a:ext cx="79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Arc 19"/>
          <p:cNvSpPr/>
          <p:nvPr/>
        </p:nvSpPr>
        <p:spPr>
          <a:xfrm rot="11838600">
            <a:off x="7097400" y="2647800"/>
            <a:ext cx="216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rc 20"/>
          <p:cNvSpPr/>
          <p:nvPr/>
        </p:nvSpPr>
        <p:spPr>
          <a:xfrm rot="3096600">
            <a:off x="2855880" y="3398760"/>
            <a:ext cx="216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1"/>
          <p:cNvSpPr/>
          <p:nvPr/>
        </p:nvSpPr>
        <p:spPr>
          <a:xfrm>
            <a:off x="1427040" y="520560"/>
            <a:ext cx="746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неизвестные угл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угольни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810080" y="3092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3"/>
          <p:cNvSpPr/>
          <p:nvPr/>
        </p:nvSpPr>
        <p:spPr>
          <a:xfrm>
            <a:off x="5513040" y="450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7744320" y="1973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3"/>
          <p:cNvSpPr/>
          <p:nvPr/>
        </p:nvSpPr>
        <p:spPr>
          <a:xfrm rot="7767600">
            <a:off x="3561840" y="2781000"/>
            <a:ext cx="2014560" cy="343404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rc 14"/>
          <p:cNvSpPr/>
          <p:nvPr/>
        </p:nvSpPr>
        <p:spPr>
          <a:xfrm rot="15061200">
            <a:off x="5897520" y="4465080"/>
            <a:ext cx="2156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5"/>
          <p:cNvSpPr/>
          <p:nvPr/>
        </p:nvSpPr>
        <p:spPr>
          <a:xfrm flipV="1">
            <a:off x="2617920" y="3890160"/>
            <a:ext cx="90936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rc 16"/>
          <p:cNvSpPr/>
          <p:nvPr/>
        </p:nvSpPr>
        <p:spPr>
          <a:xfrm rot="2215200">
            <a:off x="3152520" y="4033800"/>
            <a:ext cx="2156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rc 17"/>
          <p:cNvSpPr/>
          <p:nvPr/>
        </p:nvSpPr>
        <p:spPr>
          <a:xfrm rot="9382200">
            <a:off x="3503160" y="3068640"/>
            <a:ext cx="216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rc 18"/>
          <p:cNvSpPr/>
          <p:nvPr/>
        </p:nvSpPr>
        <p:spPr>
          <a:xfrm rot="7820400">
            <a:off x="3812760" y="3074760"/>
            <a:ext cx="2156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rc 19"/>
          <p:cNvSpPr/>
          <p:nvPr/>
        </p:nvSpPr>
        <p:spPr>
          <a:xfrm rot="425400">
            <a:off x="2936520" y="3790440"/>
            <a:ext cx="216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rc 20"/>
          <p:cNvSpPr/>
          <p:nvPr/>
        </p:nvSpPr>
        <p:spPr>
          <a:xfrm rot="6633600">
            <a:off x="4097160" y="2966760"/>
            <a:ext cx="2156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3696840" y="2633760"/>
            <a:ext cx="18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3890880" y="2635200"/>
            <a:ext cx="30960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3"/>
              <p:cNvSpPr txBox="1"/>
              <p:nvPr/>
            </p:nvSpPr>
            <p:spPr>
              <a:xfrm>
                <a:off x="5111640" y="4102200"/>
                <a:ext cx="79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24"/>
          <p:cNvSpPr/>
          <p:nvPr/>
        </p:nvSpPr>
        <p:spPr>
          <a:xfrm>
            <a:off x="5446800" y="4056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6"/>
              <p:cNvSpPr txBox="1"/>
              <p:nvPr/>
            </p:nvSpPr>
            <p:spPr>
              <a:xfrm>
                <a:off x="2886120" y="3732120"/>
                <a:ext cx="792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8"/>
              <p:cNvSpPr txBox="1"/>
              <p:nvPr/>
            </p:nvSpPr>
            <p:spPr>
              <a:xfrm>
                <a:off x="3584520" y="2890800"/>
                <a:ext cx="7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29"/>
          <p:cNvSpPr/>
          <p:nvPr/>
        </p:nvSpPr>
        <p:spPr>
          <a:xfrm rot="2296200">
            <a:off x="3758760" y="2688840"/>
            <a:ext cx="2890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1963800" y="26028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неизвестные угл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угольни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79280" y="1890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ствия из теоремы о сумме углов треуголь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74600" y="747720"/>
            <a:ext cx="8856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любом треугольнике либ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се углы острые, либо два острые, а третий тупой или прямой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ubTriangle"/>
          <p:cNvSpPr/>
          <p:nvPr/>
        </p:nvSpPr>
        <p:spPr>
          <a:xfrm rot="13394400">
            <a:off x="-833400" y="4635000"/>
            <a:ext cx="4932360" cy="1729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"/>
          <p:cNvSpPr/>
          <p:nvPr/>
        </p:nvSpPr>
        <p:spPr>
          <a:xfrm rot="16200000">
            <a:off x="5688720" y="2062800"/>
            <a:ext cx="3240000" cy="287964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851280" y="2556000"/>
            <a:ext cx="1728720" cy="352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979560" y="2984400"/>
            <a:ext cx="2592360" cy="1297080"/>
          </a:xfrm>
          <a:prstGeom prst="wedgeEllipseCallout">
            <a:avLst>
              <a:gd name="adj1" fmla="val -29546"/>
              <a:gd name="adj2" fmla="val 131027"/>
            </a:avLst>
          </a:prstGeom>
          <a:solidFill>
            <a:srgbClr val="fedf59"/>
          </a:solidFill>
          <a:ln w="28440">
            <a:solidFill>
              <a:srgbClr val="e7ba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087560" y="3402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уп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4876920" y="2379600"/>
            <a:ext cx="2392200" cy="1650960"/>
          </a:xfrm>
          <a:prstGeom prst="cloudCallout">
            <a:avLst>
              <a:gd name="adj1" fmla="val -46157"/>
              <a:gd name="adj2" fmla="val 69972"/>
            </a:avLst>
          </a:prstGeom>
          <a:solidFill>
            <a:srgbClr val="fedf59"/>
          </a:solidFill>
          <a:ln w="28440">
            <a:solidFill>
              <a:srgbClr val="e7ba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4869000" y="29368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3"/>
          <p:cNvSpPr/>
          <p:nvPr/>
        </p:nvSpPr>
        <p:spPr>
          <a:xfrm rot="11089800">
            <a:off x="5770080" y="5411520"/>
            <a:ext cx="2479680" cy="568080"/>
          </a:xfrm>
          <a:prstGeom prst="wedgeRoundRectCallout">
            <a:avLst>
              <a:gd name="adj1" fmla="val -33259"/>
              <a:gd name="adj2" fmla="val 226356"/>
              <a:gd name="adj3" fmla="val 16667"/>
            </a:avLst>
          </a:prstGeom>
          <a:solidFill>
            <a:srgbClr val="fedf59"/>
          </a:solidFill>
          <a:ln w="28440">
            <a:solidFill>
              <a:srgbClr val="e7ba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 rot="311400">
            <a:off x="5722560" y="5464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71440" y="244440"/>
            <a:ext cx="883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учающая самостоятельная ра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395280" y="2133720"/>
            <a:ext cx="185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275400" y="2425680"/>
            <a:ext cx="1172520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 Укажите номера верных утверждений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уществует треугольник, у которого углы равны 12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2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У прямоугольного треугольника все углы прям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умма углов треугольника равна 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В тупоугольном треугольнике могут быть два тупых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08000" y="26028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учающая самостоятельная ра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Равнобедренный треугольник 29"/>
          <p:cNvSpPr/>
          <p:nvPr/>
        </p:nvSpPr>
        <p:spPr>
          <a:xfrm rot="540000">
            <a:off x="468000" y="2597040"/>
            <a:ext cx="3672000" cy="2735280"/>
          </a:xfrm>
          <a:prstGeom prst="triangle">
            <a:avLst>
              <a:gd name="adj" fmla="val 8210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30"/>
          <p:cNvSpPr/>
          <p:nvPr/>
        </p:nvSpPr>
        <p:spPr>
          <a:xfrm>
            <a:off x="184680" y="5081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31"/>
          <p:cNvSpPr/>
          <p:nvPr/>
        </p:nvSpPr>
        <p:spPr>
          <a:xfrm>
            <a:off x="4071960" y="5435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32"/>
          <p:cNvSpPr/>
          <p:nvPr/>
        </p:nvSpPr>
        <p:spPr>
          <a:xfrm>
            <a:off x="3717720" y="23018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extBox 33" descr=""/>
          <p:cNvPicPr/>
          <p:nvPr/>
        </p:nvPicPr>
        <p:blipFill>
          <a:blip r:embed="rId1"/>
          <a:stretch/>
        </p:blipFill>
        <p:spPr>
          <a:xfrm>
            <a:off x="3029040" y="304164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34" descr=""/>
          <p:cNvPicPr/>
          <p:nvPr/>
        </p:nvPicPr>
        <p:blipFill>
          <a:blip r:embed="rId2"/>
          <a:stretch/>
        </p:blipFill>
        <p:spPr>
          <a:xfrm>
            <a:off x="811080" y="459576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35" descr=""/>
          <p:cNvPicPr/>
          <p:nvPr/>
        </p:nvPicPr>
        <p:blipFill>
          <a:blip r:embed="rId3"/>
          <a:stretch/>
        </p:blipFill>
        <p:spPr>
          <a:xfrm>
            <a:off x="4853160" y="3565440"/>
            <a:ext cx="3662280" cy="18288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6"/>
          <p:cNvSpPr/>
          <p:nvPr/>
        </p:nvSpPr>
        <p:spPr>
          <a:xfrm>
            <a:off x="2566440" y="1741320"/>
            <a:ext cx="52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Найти неизвестный уг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108000" y="26028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учающая самостоятельная ра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Равнобедренный треугольник 29"/>
          <p:cNvSpPr/>
          <p:nvPr/>
        </p:nvSpPr>
        <p:spPr>
          <a:xfrm>
            <a:off x="907920" y="2655720"/>
            <a:ext cx="2598840" cy="322452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266400" y="22971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31"/>
          <p:cNvSpPr/>
          <p:nvPr/>
        </p:nvSpPr>
        <p:spPr>
          <a:xfrm>
            <a:off x="384840" y="5661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32"/>
          <p:cNvSpPr/>
          <p:nvPr/>
        </p:nvSpPr>
        <p:spPr>
          <a:xfrm>
            <a:off x="3567240" y="5668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TextBox 33" descr=""/>
          <p:cNvPicPr/>
          <p:nvPr/>
        </p:nvPicPr>
        <p:blipFill>
          <a:blip r:embed="rId1"/>
          <a:stretch/>
        </p:blipFill>
        <p:spPr>
          <a:xfrm>
            <a:off x="2548080" y="5353200"/>
            <a:ext cx="695160" cy="534960"/>
          </a:xfrm>
          <a:prstGeom prst="rect">
            <a:avLst/>
          </a:prstGeom>
          <a:ln w="0">
            <a:noFill/>
          </a:ln>
        </p:spPr>
      </p:pic>
      <p:pic>
        <p:nvPicPr>
          <p:cNvPr id="262" name="TextBox 35" descr=""/>
          <p:cNvPicPr/>
          <p:nvPr/>
        </p:nvPicPr>
        <p:blipFill>
          <a:blip r:embed="rId2"/>
          <a:stretch/>
        </p:blipFill>
        <p:spPr>
          <a:xfrm>
            <a:off x="4853160" y="3565440"/>
            <a:ext cx="3584520" cy="17686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6"/>
          <p:cNvSpPr/>
          <p:nvPr/>
        </p:nvSpPr>
        <p:spPr>
          <a:xfrm>
            <a:off x="2566440" y="1741320"/>
            <a:ext cx="52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Найти неизвестный уг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907920" y="5511960"/>
            <a:ext cx="35100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108000" y="26028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учающая самостоятельная ра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2566440" y="1741320"/>
            <a:ext cx="52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 Найти неизвестный уг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Группа 19"/>
          <p:cNvGrpSpPr/>
          <p:nvPr/>
        </p:nvGrpSpPr>
        <p:grpSpPr>
          <a:xfrm>
            <a:off x="96120" y="2092320"/>
            <a:ext cx="3450240" cy="3925800"/>
            <a:chOff x="96120" y="2092320"/>
            <a:chExt cx="3450240" cy="3925800"/>
          </a:xfrm>
        </p:grpSpPr>
        <p:grpSp>
          <p:nvGrpSpPr>
            <p:cNvPr id="268" name="Группа 14"/>
            <p:cNvGrpSpPr/>
            <p:nvPr/>
          </p:nvGrpSpPr>
          <p:grpSpPr>
            <a:xfrm>
              <a:off x="586440" y="2671560"/>
              <a:ext cx="2361960" cy="2950920"/>
              <a:chOff x="586440" y="2671560"/>
              <a:chExt cx="2361960" cy="2950920"/>
            </a:xfrm>
          </p:grpSpPr>
          <p:sp>
            <p:nvSpPr>
              <p:cNvPr id="269" name="Равнобедренный треугольник 3"/>
              <p:cNvSpPr/>
              <p:nvPr/>
            </p:nvSpPr>
            <p:spPr>
              <a:xfrm>
                <a:off x="586440" y="2671560"/>
                <a:ext cx="2361960" cy="2950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Прямая соединительная линия 5"/>
              <p:cNvSpPr/>
              <p:nvPr/>
            </p:nvSpPr>
            <p:spPr>
              <a:xfrm>
                <a:off x="991440" y="4065840"/>
                <a:ext cx="40500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Прямая соединительная линия 6"/>
              <p:cNvSpPr/>
              <p:nvPr/>
            </p:nvSpPr>
            <p:spPr>
              <a:xfrm flipV="1">
                <a:off x="2206800" y="4065840"/>
                <a:ext cx="40500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Прямоугольник 15"/>
            <p:cNvSpPr/>
            <p:nvPr/>
          </p:nvSpPr>
          <p:spPr>
            <a:xfrm>
              <a:off x="96120" y="5356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Прямоугольник 16"/>
            <p:cNvSpPr/>
            <p:nvPr/>
          </p:nvSpPr>
          <p:spPr>
            <a:xfrm>
              <a:off x="1535760" y="209232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В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Прямоугольник 17"/>
            <p:cNvSpPr/>
            <p:nvPr/>
          </p:nvSpPr>
          <p:spPr>
            <a:xfrm>
              <a:off x="3094200" y="5436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TextBox 18"/>
          <p:cNvSpPr/>
          <p:nvPr/>
        </p:nvSpPr>
        <p:spPr>
          <a:xfrm>
            <a:off x="2643840" y="2685960"/>
            <a:ext cx="634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ол при верши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внобедренного треугольн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ольше угла при основа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углы тре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50920" y="22892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эксперимент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71440" y="3067200"/>
            <a:ext cx="89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научных доказатель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78280" y="3844800"/>
            <a:ext cx="61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испытани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178360" y="765000"/>
            <a:ext cx="498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0000"/>
                </a:solidFill>
                <a:latin typeface="Times New Roman"/>
              </a:rPr>
              <a:t>Подразделения 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2137320" y="272880"/>
            <a:ext cx="44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верим ответ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3007080" y="4653000"/>
            <a:ext cx="556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итерии: «5» - 4 за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4» - 3 за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3» - 2 за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1312200" y="1125360"/>
            <a:ext cx="33336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ы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– 3.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– 3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– 1.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– 5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5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8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84360" y="1844640"/>
            <a:ext cx="77752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 31-32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23(а,б),    228(а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http://festival.1september.ru/articles/513183/Image1895.jpg"/>
          <p:cNvPicPr/>
          <p:nvPr/>
        </p:nvPicPr>
        <p:blipFill>
          <a:blip r:embed="rId1"/>
          <a:stretch/>
        </p:blipFill>
        <p:spPr>
          <a:xfrm>
            <a:off x="1403280" y="1332000"/>
            <a:ext cx="6337440" cy="4657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900000" y="26028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19040" y="966960"/>
            <a:ext cx="73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ли утверждать, что прям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араллельн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1547640" y="1970280"/>
            <a:ext cx="5839920" cy="4068360"/>
            <a:chOff x="1547640" y="1970280"/>
            <a:chExt cx="5839920" cy="4068360"/>
          </a:xfrm>
        </p:grpSpPr>
        <p:sp>
          <p:nvSpPr>
            <p:cNvPr id="110" name="Line 11"/>
            <p:cNvSpPr/>
            <p:nvPr/>
          </p:nvSpPr>
          <p:spPr>
            <a:xfrm flipV="1">
              <a:off x="1547640" y="2292120"/>
              <a:ext cx="4703760" cy="176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V="1">
              <a:off x="2757240" y="3359160"/>
              <a:ext cx="4630320" cy="195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H="1">
              <a:off x="3668400" y="1970280"/>
              <a:ext cx="920880" cy="40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14"/>
                <p:cNvSpPr txBox="1"/>
                <p:nvPr/>
              </p:nvSpPr>
              <p:spPr>
                <a:xfrm>
                  <a:off x="4323960" y="2906640"/>
                  <a:ext cx="989280" cy="55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Object 15"/>
                <p:cNvSpPr txBox="1"/>
                <p:nvPr/>
              </p:nvSpPr>
              <p:spPr>
                <a:xfrm>
                  <a:off x="3062160" y="4427280"/>
                  <a:ext cx="990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Text Box 17"/>
          <p:cNvSpPr/>
          <p:nvPr/>
        </p:nvSpPr>
        <p:spPr>
          <a:xfrm>
            <a:off x="5581440" y="1773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805440" y="285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278160" y="54450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549800" y="1074600"/>
            <a:ext cx="72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я, ч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                  найти          и        .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4645080" y="323388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0" name="Line 10"/>
          <p:cNvSpPr/>
          <p:nvPr/>
        </p:nvSpPr>
        <p:spPr>
          <a:xfrm>
            <a:off x="1217520" y="2517840"/>
            <a:ext cx="684540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1069920" y="4068720"/>
            <a:ext cx="684540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4273560" y="2015640"/>
            <a:ext cx="1784160" cy="409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978440" y="404820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4375080" y="278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4709880" y="279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9"/>
          <p:cNvSpPr/>
          <p:nvPr/>
        </p:nvSpPr>
        <p:spPr>
          <a:xfrm rot="15494400">
            <a:off x="4921200" y="4120560"/>
            <a:ext cx="274680" cy="344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3"/>
              <p:cNvSpPr txBox="1"/>
              <p:nvPr/>
            </p:nvSpPr>
            <p:spPr>
              <a:xfrm>
                <a:off x="4205160" y="3919680"/>
                <a:ext cx="7905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25"/>
          <p:cNvSpPr/>
          <p:nvPr/>
        </p:nvSpPr>
        <p:spPr>
          <a:xfrm>
            <a:off x="7453080" y="2492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453080" y="4076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28"/>
          <p:cNvGrpSpPr/>
          <p:nvPr/>
        </p:nvGrpSpPr>
        <p:grpSpPr>
          <a:xfrm>
            <a:off x="3189240" y="1138320"/>
            <a:ext cx="4424400" cy="465120"/>
            <a:chOff x="3189240" y="1138320"/>
            <a:chExt cx="4424400" cy="465120"/>
          </a:xfrm>
        </p:grpSpPr>
        <p:sp>
          <p:nvSpPr>
            <p:cNvPr id="131" name="Text Box 6"/>
            <p:cNvSpPr/>
            <p:nvPr/>
          </p:nvSpPr>
          <p:spPr>
            <a:xfrm rot="16200000">
              <a:off x="3273840" y="10789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7"/>
                <p:cNvSpPr txBox="1"/>
                <p:nvPr/>
              </p:nvSpPr>
              <p:spPr>
                <a:xfrm>
                  <a:off x="6216840" y="1143000"/>
                  <a:ext cx="5522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8"/>
                <p:cNvSpPr txBox="1"/>
                <p:nvPr/>
              </p:nvSpPr>
              <p:spPr>
                <a:xfrm>
                  <a:off x="7089840" y="1141200"/>
                  <a:ext cx="523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Object 27"/>
                <p:cNvSpPr txBox="1"/>
                <p:nvPr/>
              </p:nvSpPr>
              <p:spPr>
                <a:xfrm>
                  <a:off x="3894120" y="1138320"/>
                  <a:ext cx="13957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8</m:t>
                      </m:r>
                      <m:r>
                        <m:t xml:space="preserve">°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Rectangle 29"/>
          <p:cNvSpPr/>
          <p:nvPr/>
        </p:nvSpPr>
        <p:spPr>
          <a:xfrm>
            <a:off x="6013440" y="551664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594440" y="4478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ажите название пар углов:       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5479920" y="404640"/>
                <a:ext cx="592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6302520" y="422280"/>
                <a:ext cx="731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5383080" y="846000"/>
                <a:ext cx="662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6264360" y="841320"/>
                <a:ext cx="7668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5356080" y="1281240"/>
                <a:ext cx="13575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6913440" y="1268280"/>
                <a:ext cx="1287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С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11"/>
          <p:cNvSpPr/>
          <p:nvPr/>
        </p:nvSpPr>
        <p:spPr>
          <a:xfrm>
            <a:off x="6631200" y="132552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986440" y="89388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 flipV="1">
            <a:off x="1243080" y="2058840"/>
            <a:ext cx="3816360" cy="36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 flipV="1">
            <a:off x="3578400" y="2565360"/>
            <a:ext cx="3816000" cy="36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541680" y="3525840"/>
            <a:ext cx="954000" cy="18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 flipV="1">
            <a:off x="3538440" y="3241440"/>
            <a:ext cx="3156120" cy="27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1045080" y="47242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805440" y="2997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420080" y="52419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060720" y="2924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57800" y="465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5899320" y="3170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897360" y="292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247920" y="361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Группа 7"/>
          <p:cNvGrpSpPr/>
          <p:nvPr/>
        </p:nvGrpSpPr>
        <p:grpSpPr>
          <a:xfrm>
            <a:off x="99000" y="2109960"/>
            <a:ext cx="4897080" cy="3367080"/>
            <a:chOff x="99000" y="2109960"/>
            <a:chExt cx="4897080" cy="3367080"/>
          </a:xfrm>
        </p:grpSpPr>
        <p:sp>
          <p:nvSpPr>
            <p:cNvPr id="158" name="Line 10"/>
            <p:cNvSpPr/>
            <p:nvPr/>
          </p:nvSpPr>
          <p:spPr>
            <a:xfrm flipV="1">
              <a:off x="706320" y="2876400"/>
              <a:ext cx="1227240" cy="19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1"/>
            <p:cNvSpPr/>
            <p:nvPr/>
          </p:nvSpPr>
          <p:spPr>
            <a:xfrm>
              <a:off x="1935000" y="2893320"/>
              <a:ext cx="2434320" cy="19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699480" y="4798800"/>
              <a:ext cx="36777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99000" y="47736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4476960" y="476244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1653840" y="210996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TextBox 9"/>
          <p:cNvSpPr/>
          <p:nvPr/>
        </p:nvSpPr>
        <p:spPr>
          <a:xfrm>
            <a:off x="1285920" y="603360"/>
            <a:ext cx="16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Равнобедренный треугольник 11"/>
          <p:cNvSpPr/>
          <p:nvPr/>
        </p:nvSpPr>
        <p:spPr>
          <a:xfrm>
            <a:off x="5867280" y="2776680"/>
            <a:ext cx="23364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">
            <a:hlinkClick r:id="rId1" action="ppaction://hlinksldjump"/>
          </p:cNvPr>
          <p:cNvSpPr/>
          <p:nvPr/>
        </p:nvSpPr>
        <p:spPr>
          <a:xfrm>
            <a:off x="7072200" y="6195960"/>
            <a:ext cx="1100160" cy="328680"/>
          </a:xfrm>
          <a:prstGeom prst="rect">
            <a:avLst/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Группа 6"/>
          <p:cNvGrpSpPr/>
          <p:nvPr/>
        </p:nvGrpSpPr>
        <p:grpSpPr>
          <a:xfrm>
            <a:off x="982800" y="1863720"/>
            <a:ext cx="7918200" cy="4400640"/>
            <a:chOff x="982800" y="1863720"/>
            <a:chExt cx="7918200" cy="4400640"/>
          </a:xfrm>
        </p:grpSpPr>
        <p:grpSp>
          <p:nvGrpSpPr>
            <p:cNvPr id="168" name="Группа 3"/>
            <p:cNvGrpSpPr/>
            <p:nvPr/>
          </p:nvGrpSpPr>
          <p:grpSpPr>
            <a:xfrm>
              <a:off x="5296320" y="1863720"/>
              <a:ext cx="3604680" cy="4400640"/>
              <a:chOff x="5296320" y="1863720"/>
              <a:chExt cx="3604680" cy="4400640"/>
            </a:xfrm>
          </p:grpSpPr>
          <p:pic>
            <p:nvPicPr>
              <p:cNvPr id="169" name="TextBox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5587560" y="1863720"/>
                <a:ext cx="2494080" cy="440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TextBox 1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6320" y="4453200"/>
                <a:ext cx="3604680" cy="133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1" name="TextBox 4" descr=""/>
            <p:cNvPicPr/>
            <p:nvPr/>
          </p:nvPicPr>
          <p:blipFill>
            <a:blip r:embed="rId4"/>
            <a:stretch/>
          </p:blipFill>
          <p:spPr>
            <a:xfrm>
              <a:off x="982800" y="4297680"/>
              <a:ext cx="62100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646640" y="3206520"/>
              <a:ext cx="8038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551240" y="333360"/>
            <a:ext cx="69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эксперимент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85680" y="332100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научных доказатель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55600" y="2154240"/>
            <a:ext cx="200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5680" y="1041480"/>
          <a:ext cx="8734320" cy="6629400"/>
        </p:xfrm>
        <a:graphic>
          <a:graphicData uri="http://schemas.openxmlformats.org/drawingml/2006/table">
            <a:tbl>
              <a:tblPr/>
              <a:tblGrid>
                <a:gridCol w="6377040"/>
                <a:gridCol w="2357280"/>
              </a:tblGrid>
              <a:tr h="123804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72872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апы практической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Измерьте все углы данного треуголь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ычислите сумму углов  треуголь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Выскажите гипотезу о том, чему равна сумма углов треуголь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9032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77" name="TextBox 2" descr=""/>
          <p:cNvPicPr/>
          <p:nvPr/>
        </p:nvPicPr>
        <p:blipFill>
          <a:blip r:embed="rId1"/>
          <a:stretch/>
        </p:blipFill>
        <p:spPr>
          <a:xfrm>
            <a:off x="2176560" y="2212920"/>
            <a:ext cx="6845040" cy="59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0720" y="-730080"/>
            <a:ext cx="7792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1341000"/>
            <a:ext cx="8486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лан доказательст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провести прямую через одну из вершин параллельно противолежащей сторон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составить пары равных угл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представить развернутый угол в виде суммы угл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заменить слагаемые равными им углами треугольн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1:33:00Z</dcterms:created>
  <dc:creator>Сергей</dc:creator>
  <dc:description/>
  <dc:language>en-US</dc:language>
  <cp:lastModifiedBy>matem</cp:lastModifiedBy>
  <dcterms:modified xsi:type="dcterms:W3CDTF">2022-02-16T05:08:24Z</dcterms:modified>
  <cp:revision>119</cp:revision>
  <dc:subject/>
  <dc:title>Слайд 1</dc:title>
</cp:coreProperties>
</file>