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99C-D084-42D4-8ADB-0715FC3B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330-CB16-4B66-B9BF-C0AFE36F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47E-D830-47B1-8C4E-C65651C6B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CED-5D52-4CD5-9B6C-7A002824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16F-3949-4F3C-B3BB-6A46C5E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6B1-7DB7-47FA-9DFC-2F033AC2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74A-083D-4471-AC93-D0091192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A93-547C-49E5-9EB7-5524CCDD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CFE-62C7-46D8-9181-3B582525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B09-BC7C-4316-816E-F5C828EF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BB5-71EA-49F5-ADBD-EDCAFC6D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D4A-A11E-4F2F-BD87-C6DFEE1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9F5-DD18-4BB3-AA01-4EFA9DADF3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75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41120" y="76320"/>
            <a:ext cx="8888760" cy="6665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908000" y="3333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тематический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9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49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49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49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4920" y="605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349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39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,5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–  0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39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2,3  –  0,1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9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4,08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4,02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39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5,1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4,08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39640" y="2708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11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2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03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39640" y="60228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4,79  –  4,09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2100240" y="404640"/>
            <a:ext cx="508644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верьте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3132000" y="184464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,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3132000" y="268272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,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>
            <a:off x="3132000" y="351792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,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0"/>
          <p:cNvSpPr/>
          <p:nvPr/>
        </p:nvSpPr>
        <p:spPr>
          <a:xfrm>
            <a:off x="3132000" y="43527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>
            <a:off x="3132000" y="518796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2"/>
          <p:cNvSpPr/>
          <p:nvPr/>
        </p:nvSpPr>
        <p:spPr>
          <a:xfrm>
            <a:off x="3132000" y="6022800"/>
            <a:ext cx="126396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500720" y="18795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4500720" y="35496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4500720" y="438480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4500720" y="5219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4500720" y="6056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4500720" y="27147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c053"/>
                </a:solidFill>
                <a:latin typeface="Arial"/>
                <a:ea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5003640" y="19191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9,64  –  0,6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5003640" y="35514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8,09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2,01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5003640" y="43750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4,5  –  0,2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2"/>
          <p:cNvSpPr/>
          <p:nvPr/>
        </p:nvSpPr>
        <p:spPr>
          <a:xfrm>
            <a:off x="5003640" y="519912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7,45  –  2,05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5003640" y="272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,55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4,04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5003640" y="60228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12,3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+</a:t>
            </a:r>
            <a:r>
              <a:rPr b="1" lang="ru-RU" sz="2800" spc="-1" strike="noStrike">
                <a:solidFill>
                  <a:srgbClr val="ffffcc"/>
                </a:solidFill>
                <a:latin typeface="Arial"/>
                <a:ea typeface="Arial"/>
              </a:rPr>
              <a:t>  7,06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5"/>
          <p:cNvSpPr/>
          <p:nvPr/>
        </p:nvSpPr>
        <p:spPr>
          <a:xfrm>
            <a:off x="7596360" y="184788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,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7596360" y="26827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,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7596360" y="351792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8"/>
          <p:cNvSpPr/>
          <p:nvPr/>
        </p:nvSpPr>
        <p:spPr>
          <a:xfrm>
            <a:off x="7596360" y="435276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,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7596360" y="518796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,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0"/>
          <p:cNvSpPr/>
          <p:nvPr/>
        </p:nvSpPr>
        <p:spPr>
          <a:xfrm>
            <a:off x="7596360" y="6022800"/>
            <a:ext cx="126360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1c19a"/>
              </a:gs>
              <a:gs pos="50000">
                <a:srgbClr val="ffffcc"/>
              </a:gs>
              <a:gs pos="100000">
                <a:srgbClr val="c1c19a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,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1"/>
          <p:cNvSpPr/>
          <p:nvPr/>
        </p:nvSpPr>
        <p:spPr>
          <a:xfrm>
            <a:off x="4500720" y="1052640"/>
            <a:ext cx="71280" cy="5805360"/>
          </a:xfrm>
          <a:prstGeom prst="line">
            <a:avLst/>
          </a:prstGeom>
          <a:ln w="38160">
            <a:solidFill>
              <a:srgbClr val="f7c0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90000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580000" y="126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c053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7c053"/>
                </a:solidFill>
                <a:latin typeface="Arial"/>
              </a:rPr>
              <a:t>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57:36Z</dcterms:created>
  <dc:creator>Irina</dc:creator>
  <dc:description/>
  <dc:language>en-US</dc:language>
  <cp:lastModifiedBy>Ольга</cp:lastModifiedBy>
  <dcterms:modified xsi:type="dcterms:W3CDTF">2011-10-08T13:16:21Z</dcterms:modified>
  <cp:revision>13</cp:revision>
  <dc:subject/>
  <dc:title>Слайд 1</dc:title>
</cp:coreProperties>
</file>