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19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031-C041-46EC-AE2D-A4228453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76C-8B3E-4388-8B76-A792C8ED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604-09E0-485D-8452-DC998B72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D97-6004-42A0-B939-2BBC8238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555E-FDCA-4296-B65E-BCD98B71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AE47-FF66-489C-ADF5-C4C7A0D5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B3E8-A87C-47EE-B652-24AD1D0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26B7-9C42-4DF6-9CFB-D4B33630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B730-D2F9-4C09-9DF3-1C8B284B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0B28-1962-40F2-AF52-1DBDF03E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ADC5-0210-4A0F-8440-150EA728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112-8E99-40EA-9090-7EF6A60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B486-E4F3-4484-AC02-0BE7A395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47D2-7F83-4D20-BCAE-2CC8A2E3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DE6B-D6CB-4A00-B6B4-0A42209A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78B8-ABA1-4A61-94CE-8CE2FB30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A4BD-E8B7-4FD8-AD4D-A60DBCE9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0AC-33E6-4C07-8588-B2EA9882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FBD-E0EE-499E-B29D-C5BF514C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C33-A9DC-4579-8351-3992A575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E72-86BB-4BC9-BEFB-0CF217FE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01E-CE98-4CA4-8620-594F93C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20D-0A6C-48CD-96F5-56A7F4E7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11D-6E02-4686-9B10-BFA42391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cd8"/>
            </a:gs>
            <a:gs pos="100000">
              <a:srgbClr val="d8bc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8A38-51EC-467A-AA2C-5DEC78F15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cd8"/>
            </a:gs>
            <a:gs pos="100000">
              <a:srgbClr val="d8bc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18FD-32D0-463D-9907-81D43B5A6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0007071"/>
          <p:cNvPicPr/>
          <p:nvPr/>
        </p:nvPicPr>
        <p:blipFill>
          <a:blip r:embed="rId1"/>
          <a:stretch/>
        </p:blipFill>
        <p:spPr>
          <a:xfrm>
            <a:off x="5562720" y="2479680"/>
            <a:ext cx="2904840" cy="437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5" descr="00007011"/>
          <p:cNvPicPr/>
          <p:nvPr/>
        </p:nvPicPr>
        <p:blipFill>
          <a:blip r:embed="rId2"/>
          <a:stretch/>
        </p:blipFill>
        <p:spPr>
          <a:xfrm>
            <a:off x="380880" y="304920"/>
            <a:ext cx="2667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6" descr="00006953"/>
          <p:cNvPicPr/>
          <p:nvPr/>
        </p:nvPicPr>
        <p:blipFill>
          <a:blip r:embed="rId3"/>
          <a:stretch/>
        </p:blipFill>
        <p:spPr>
          <a:xfrm>
            <a:off x="3200400" y="74520"/>
            <a:ext cx="3124080" cy="25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7" descr="00006952"/>
          <p:cNvPicPr/>
          <p:nvPr/>
        </p:nvPicPr>
        <p:blipFill>
          <a:blip r:embed="rId4"/>
          <a:stretch/>
        </p:blipFill>
        <p:spPr>
          <a:xfrm>
            <a:off x="1981080" y="3787920"/>
            <a:ext cx="3505320" cy="27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45960" y="576360"/>
            <a:ext cx="8460000" cy="538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114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117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9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120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3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85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828720" y="2055960"/>
            <a:ext cx="737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остроение графиков функций у=х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+5 и у=х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MCj03975260000[1]"/>
          <p:cNvPicPr/>
          <p:nvPr/>
        </p:nvPicPr>
        <p:blipFill>
          <a:blip r:embed="rId1"/>
          <a:stretch/>
        </p:blipFill>
        <p:spPr>
          <a:xfrm>
            <a:off x="5830920" y="3925800"/>
            <a:ext cx="3313080" cy="2932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MCj03967440000[1]"/>
          <p:cNvPicPr/>
          <p:nvPr/>
        </p:nvPicPr>
        <p:blipFill>
          <a:blip r:embed="rId2"/>
          <a:stretch/>
        </p:blipFill>
        <p:spPr>
          <a:xfrm>
            <a:off x="184320" y="4032360"/>
            <a:ext cx="2300040" cy="2825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2"/>
          <p:cNvSpPr/>
          <p:nvPr/>
        </p:nvSpPr>
        <p:spPr>
          <a:xfrm>
            <a:off x="2354400" y="2541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ройте  в одной координатной  плос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ики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5"/>
              <p:cNvSpPr txBox="1"/>
              <p:nvPr/>
            </p:nvSpPr>
            <p:spPr>
              <a:xfrm>
                <a:off x="487440" y="1243080"/>
                <a:ext cx="1592280" cy="27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Text Box 26"/>
          <p:cNvSpPr/>
          <p:nvPr/>
        </p:nvSpPr>
        <p:spPr>
          <a:xfrm>
            <a:off x="2701080" y="266688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омежут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шагом 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11160" y="7128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4"/>
          <p:cNvPicPr/>
          <p:nvPr/>
        </p:nvPicPr>
        <p:blipFill>
          <a:blip r:embed="rId1"/>
          <a:stretch/>
        </p:blipFill>
        <p:spPr>
          <a:xfrm>
            <a:off x="938160" y="338040"/>
            <a:ext cx="7108920" cy="6221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181" dur="5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184" dur="5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6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187" dur="5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3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5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6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85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150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70120" y="2139840"/>
            <a:ext cx="73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остроение графиков функций у=(х+1)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и у=(х-2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579600" y="879480"/>
                <a:ext cx="2106360" cy="30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8" name="Picture 4" descr="MCj03975260000[1]"/>
          <p:cNvPicPr/>
          <p:nvPr/>
        </p:nvPicPr>
        <p:blipFill>
          <a:blip r:embed="rId1"/>
          <a:stretch/>
        </p:blipFill>
        <p:spPr>
          <a:xfrm>
            <a:off x="5830920" y="3925800"/>
            <a:ext cx="3313080" cy="2932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MCj03967440000[1]"/>
          <p:cNvPicPr/>
          <p:nvPr/>
        </p:nvPicPr>
        <p:blipFill>
          <a:blip r:embed="rId2"/>
          <a:stretch/>
        </p:blipFill>
        <p:spPr>
          <a:xfrm>
            <a:off x="184320" y="4032360"/>
            <a:ext cx="2300040" cy="28256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2354400" y="2541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ройте  в одной координатной  плос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ики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889720" y="2635200"/>
            <a:ext cx="44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омежут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шагом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720" y="7128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дание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6"/>
          <p:cNvPicPr/>
          <p:nvPr/>
        </p:nvPicPr>
        <p:blipFill>
          <a:blip r:embed="rId1"/>
          <a:stretch/>
        </p:blipFill>
        <p:spPr>
          <a:xfrm>
            <a:off x="254160" y="801720"/>
            <a:ext cx="8637480" cy="5092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249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252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4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255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25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3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85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9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150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1480" y="149688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«Я слышу – я забыв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Я вижу – я запомина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Я делаю – я понимаю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Китайская послов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25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к, используя график функции 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роить график функции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-7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 flipH="1" flipV="1">
            <a:off x="2615760" y="1138320"/>
            <a:ext cx="58680" cy="571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514440" y="4206960"/>
            <a:ext cx="640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rc 5"/>
          <p:cNvSpPr/>
          <p:nvPr/>
        </p:nvSpPr>
        <p:spPr>
          <a:xfrm flipV="1">
            <a:off x="1971720" y="1687680"/>
            <a:ext cx="1420920" cy="2519280"/>
          </a:xfrm>
          <a:custGeom>
            <a:avLst/>
            <a:gdLst>
              <a:gd name="textAreaLeft" fmla="*/ 0 w 1420920"/>
              <a:gd name="textAreaRight" fmla="*/ 1421280 w 1420920"/>
              <a:gd name="textAreaTop" fmla="*/ 360 h 2519280"/>
              <a:gd name="textAreaBottom" fmla="*/ 2520000 h 2519280"/>
            </a:gdLst>
            <a:ahLst/>
            <a:rect l="textAreaLeft" t="textAreaTop" r="textAreaRight" b="textAreaBottom"/>
            <a:pathLst>
              <a:path fill="none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</a:path>
              <a:path stroke="0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lnTo>
                  <a:pt x="21599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14440" y="4208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707160" y="42069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7000" y="1009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2660760" y="4209840"/>
            <a:ext cx="574200" cy="2160360"/>
            <a:chOff x="2660760" y="4209840"/>
            <a:chExt cx="574200" cy="2160360"/>
          </a:xfrm>
        </p:grpSpPr>
        <p:sp>
          <p:nvSpPr>
            <p:cNvPr id="229" name="Line 10"/>
            <p:cNvSpPr/>
            <p:nvPr/>
          </p:nvSpPr>
          <p:spPr>
            <a:xfrm flipV="1">
              <a:off x="2660760" y="4209840"/>
              <a:ext cx="0" cy="21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1"/>
            <p:cNvSpPr/>
            <p:nvPr/>
          </p:nvSpPr>
          <p:spPr>
            <a:xfrm>
              <a:off x="2732040" y="48574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Line 12"/>
          <p:cNvSpPr/>
          <p:nvPr/>
        </p:nvSpPr>
        <p:spPr>
          <a:xfrm>
            <a:off x="2514600" y="3903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2227320" y="37321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2817720" y="437184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2976480" y="4064040"/>
            <a:ext cx="0" cy="24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52520" y="63151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2527200" y="63262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0208 L -0.00313 0.3059 E">
                                      <p:cBhvr>
                                        <p:cTn id="305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-1317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к, используя график функции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роить график функции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+1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 flipH="1" flipV="1">
            <a:off x="2644560" y="907560"/>
            <a:ext cx="14040" cy="576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498600" y="6311880"/>
            <a:ext cx="640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5"/>
          <p:cNvSpPr/>
          <p:nvPr/>
        </p:nvSpPr>
        <p:spPr>
          <a:xfrm flipV="1">
            <a:off x="1955880" y="3792600"/>
            <a:ext cx="1420560" cy="2519280"/>
          </a:xfrm>
          <a:custGeom>
            <a:avLst/>
            <a:gdLst>
              <a:gd name="textAreaLeft" fmla="*/ 0 w 1420560"/>
              <a:gd name="textAreaRight" fmla="*/ 1420920 w 1420560"/>
              <a:gd name="textAreaTop" fmla="*/ 360 h 2519280"/>
              <a:gd name="textAreaBottom" fmla="*/ 2520000 h 2519280"/>
            </a:gdLst>
            <a:ahLst/>
            <a:rect l="textAreaLeft" t="textAreaTop" r="textAreaRight" b="textAreaBottom"/>
            <a:pathLst>
              <a:path fill="none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</a:path>
              <a:path stroke="0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lnTo>
                  <a:pt x="21599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2298600" y="6313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2009880" y="31100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6691320" y="63118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225520" y="906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2486160" y="32529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2644920" y="3266640"/>
            <a:ext cx="574200" cy="3045960"/>
            <a:chOff x="2644920" y="3266640"/>
            <a:chExt cx="574200" cy="3045960"/>
          </a:xfrm>
        </p:grpSpPr>
        <p:sp>
          <p:nvSpPr>
            <p:cNvPr id="247" name="Line 12"/>
            <p:cNvSpPr/>
            <p:nvPr/>
          </p:nvSpPr>
          <p:spPr>
            <a:xfrm flipV="1">
              <a:off x="2644920" y="3266640"/>
              <a:ext cx="0" cy="30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2716200" y="41799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Line 14"/>
          <p:cNvSpPr/>
          <p:nvPr/>
        </p:nvSpPr>
        <p:spPr>
          <a:xfrm>
            <a:off x="2498760" y="60087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2211480" y="583740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2746440" y="64911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2960640" y="6168960"/>
            <a:ext cx="0" cy="24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54335E-006 L 1.38889E-006 -0.44901 E">
                                      <p:cBhvr>
                                        <p:cTn id="32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к, используя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роить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(х-5)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352600" y="1628280"/>
            <a:ext cx="0" cy="446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192240" y="5084640"/>
            <a:ext cx="640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5"/>
          <p:cNvSpPr/>
          <p:nvPr/>
        </p:nvSpPr>
        <p:spPr>
          <a:xfrm flipV="1">
            <a:off x="1344600" y="2565360"/>
            <a:ext cx="2016000" cy="2519280"/>
          </a:xfrm>
          <a:custGeom>
            <a:avLst/>
            <a:gdLst>
              <a:gd name="textAreaLeft" fmla="*/ 0 w 2016000"/>
              <a:gd name="textAreaRight" fmla="*/ 2016360 w 2016000"/>
              <a:gd name="textAreaTop" fmla="*/ 360 h 2519280"/>
              <a:gd name="textAreaBottom" fmla="*/ 2520000 h 2519280"/>
            </a:gdLst>
            <a:ahLst/>
            <a:rect l="textAreaLeft" t="textAreaTop" r="textAreaRight" b="textAreaBottom"/>
            <a:pathLst>
              <a:path fill="none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</a:path>
              <a:path stroke="0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lnTo>
                  <a:pt x="21599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206388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3871800" y="5013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672000" y="5129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"/>
          <p:cNvGrpSpPr/>
          <p:nvPr/>
        </p:nvGrpSpPr>
        <p:grpSpPr>
          <a:xfrm>
            <a:off x="2352600" y="5081760"/>
            <a:ext cx="1535040" cy="441000"/>
            <a:chOff x="2352600" y="5081760"/>
            <a:chExt cx="1535040" cy="441000"/>
          </a:xfrm>
        </p:grpSpPr>
        <p:sp>
          <p:nvSpPr>
            <p:cNvPr id="261" name="Line 10"/>
            <p:cNvSpPr/>
            <p:nvPr/>
          </p:nvSpPr>
          <p:spPr>
            <a:xfrm>
              <a:off x="2352600" y="5081760"/>
              <a:ext cx="1535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1"/>
            <p:cNvSpPr/>
            <p:nvPr/>
          </p:nvSpPr>
          <p:spPr>
            <a:xfrm>
              <a:off x="2966400" y="5154480"/>
              <a:ext cx="2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2"/>
          <p:cNvSpPr/>
          <p:nvPr/>
        </p:nvSpPr>
        <p:spPr>
          <a:xfrm>
            <a:off x="6384960" y="508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919160" y="155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655720" y="4992840"/>
            <a:ext cx="0" cy="18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2249640" y="4789440"/>
            <a:ext cx="23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00200" y="52293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1947960" y="45910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21965E-006 L 0.16459 -4.21965E-006 E">
                                      <p:cBhvr>
                                        <p:cTn id="34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к, используя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роить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(х+6)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"/>
          <p:cNvSpPr/>
          <p:nvPr/>
        </p:nvSpPr>
        <p:spPr>
          <a:xfrm flipV="1">
            <a:off x="5095800" y="1657440"/>
            <a:ext cx="0" cy="446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 flipV="1">
            <a:off x="1366920" y="5099040"/>
            <a:ext cx="5900760" cy="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5"/>
          <p:cNvSpPr/>
          <p:nvPr/>
        </p:nvSpPr>
        <p:spPr>
          <a:xfrm flipV="1">
            <a:off x="4087800" y="2593080"/>
            <a:ext cx="2016000" cy="2519640"/>
          </a:xfrm>
          <a:custGeom>
            <a:avLst/>
            <a:gdLst>
              <a:gd name="textAreaLeft" fmla="*/ 0 w 2016000"/>
              <a:gd name="textAreaRight" fmla="*/ 2016360 w 2016000"/>
              <a:gd name="textAreaTop" fmla="*/ -360 h 2519640"/>
              <a:gd name="textAreaBottom" fmla="*/ 2519640 h 2519640"/>
            </a:gdLst>
            <a:ahLst/>
            <a:rect l="textAreaLeft" t="textAreaTop" r="textAreaRight" b="textAreaBottom"/>
            <a:pathLst>
              <a:path fill="none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</a:path>
              <a:path stroke="0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lnTo>
                  <a:pt x="21599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4807080" y="5186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3262320" y="501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05280" y="517212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3281400" y="5095800"/>
            <a:ext cx="1825560" cy="443520"/>
            <a:chOff x="3281400" y="5095800"/>
            <a:chExt cx="1825560" cy="443520"/>
          </a:xfrm>
        </p:grpSpPr>
        <p:sp>
          <p:nvSpPr>
            <p:cNvPr id="277" name="Line 10"/>
            <p:cNvSpPr/>
            <p:nvPr/>
          </p:nvSpPr>
          <p:spPr>
            <a:xfrm>
              <a:off x="3281400" y="5095800"/>
              <a:ext cx="1825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1"/>
            <p:cNvSpPr/>
            <p:nvPr/>
          </p:nvSpPr>
          <p:spPr>
            <a:xfrm>
              <a:off x="4011480" y="51710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695016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662360" y="1585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5398920" y="5021280"/>
            <a:ext cx="0" cy="1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992840" y="4818240"/>
            <a:ext cx="23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5243400" y="525780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4691160" y="46195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3064E-006 L -0.20208 3.93064E-006 E">
                                      <p:cBhvr>
                                        <p:cTn id="36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к, используя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роить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=(х-4)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+7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"/>
          <p:cNvSpPr/>
          <p:nvPr/>
        </p:nvSpPr>
        <p:spPr>
          <a:xfrm flipH="1" flipV="1">
            <a:off x="2644560" y="1125000"/>
            <a:ext cx="14040" cy="555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498600" y="6311880"/>
            <a:ext cx="640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5"/>
          <p:cNvSpPr/>
          <p:nvPr/>
        </p:nvSpPr>
        <p:spPr>
          <a:xfrm flipV="1">
            <a:off x="1955880" y="3792600"/>
            <a:ext cx="1420560" cy="2519280"/>
          </a:xfrm>
          <a:custGeom>
            <a:avLst/>
            <a:gdLst>
              <a:gd name="textAreaLeft" fmla="*/ 0 w 1420560"/>
              <a:gd name="textAreaRight" fmla="*/ 1420920 w 1420560"/>
              <a:gd name="textAreaTop" fmla="*/ 360 h 2519280"/>
              <a:gd name="textAreaBottom" fmla="*/ 2520000 h 2519280"/>
            </a:gdLst>
            <a:ahLst/>
            <a:rect l="textAreaLeft" t="textAreaTop" r="textAreaRight" b="textAreaBottom"/>
            <a:pathLst>
              <a:path fill="none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</a:path>
              <a:path stroke="0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lnTo>
                  <a:pt x="21599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298600" y="6313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168640" y="40100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6691320" y="63118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2225520" y="1036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2486160" y="41814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1"/>
          <p:cNvGrpSpPr/>
          <p:nvPr/>
        </p:nvGrpSpPr>
        <p:grpSpPr>
          <a:xfrm>
            <a:off x="3863880" y="4167000"/>
            <a:ext cx="574920" cy="2145960"/>
            <a:chOff x="3863880" y="4167000"/>
            <a:chExt cx="574920" cy="2145960"/>
          </a:xfrm>
        </p:grpSpPr>
        <p:sp>
          <p:nvSpPr>
            <p:cNvPr id="295" name="Line 12"/>
            <p:cNvSpPr/>
            <p:nvPr/>
          </p:nvSpPr>
          <p:spPr>
            <a:xfrm flipV="1">
              <a:off x="3863880" y="4167000"/>
              <a:ext cx="0" cy="21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3"/>
            <p:cNvSpPr/>
            <p:nvPr/>
          </p:nvSpPr>
          <p:spPr>
            <a:xfrm>
              <a:off x="3935520" y="48103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Line 14"/>
          <p:cNvSpPr/>
          <p:nvPr/>
        </p:nvSpPr>
        <p:spPr>
          <a:xfrm>
            <a:off x="2498760" y="60087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211480" y="583740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2746440" y="64911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2960640" y="6168960"/>
            <a:ext cx="0" cy="24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8"/>
          <p:cNvSpPr/>
          <p:nvPr/>
        </p:nvSpPr>
        <p:spPr>
          <a:xfrm>
            <a:off x="3873600" y="6181560"/>
            <a:ext cx="0" cy="24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3645000" y="64911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0"/>
          <p:cNvGrpSpPr/>
          <p:nvPr/>
        </p:nvGrpSpPr>
        <p:grpSpPr>
          <a:xfrm>
            <a:off x="2700360" y="6318360"/>
            <a:ext cx="1201680" cy="441000"/>
            <a:chOff x="2700360" y="6318360"/>
            <a:chExt cx="1201680" cy="441000"/>
          </a:xfrm>
        </p:grpSpPr>
        <p:sp>
          <p:nvSpPr>
            <p:cNvPr id="304" name="Line 21"/>
            <p:cNvSpPr/>
            <p:nvPr/>
          </p:nvSpPr>
          <p:spPr>
            <a:xfrm>
              <a:off x="2700360" y="6318360"/>
              <a:ext cx="1201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22"/>
            <p:cNvSpPr/>
            <p:nvPr/>
          </p:nvSpPr>
          <p:spPr>
            <a:xfrm>
              <a:off x="3180960" y="6391080"/>
              <a:ext cx="2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00208 L 0.13264 -3.46821E-006 E">
                                      <p:cBhvr>
                                        <p:cTn id="38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264 -2.54335E-006 L 0.13264 -0.30936 E">
                                      <p:cBhvr>
                                        <p:cTn id="39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56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ргей Львович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оле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адемик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08-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атель Института математи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бирского Отделения Российской Академии На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sport"/>
          <p:cNvPicPr/>
          <p:nvPr/>
        </p:nvPicPr>
        <p:blipFill>
          <a:blip r:embed="rId1"/>
          <a:stretch/>
        </p:blipFill>
        <p:spPr>
          <a:xfrm>
            <a:off x="6156360" y="476280"/>
            <a:ext cx="25128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08080" y="956880"/>
            <a:ext cx="475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й Львович Соболев - один из крупнейших математиков XX века, внесший основополагающий вклад в развитие современной математики. Им созданы новые разделы математики, введены важные понятия, разработаны мощные методы исследования, решен ряд крупных, давно стоявших пробл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Л.Соболев сыграл важнейшую роль в формировании крупнейших математических школ в нашей стране и за рубеж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новлении и развитии новых направлений прикладн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и, имеющих важное государственн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s11"/>
          <p:cNvPicPr/>
          <p:nvPr/>
        </p:nvPicPr>
        <p:blipFill>
          <a:blip r:embed="rId1"/>
          <a:stretch/>
        </p:blipFill>
        <p:spPr>
          <a:xfrm>
            <a:off x="5435640" y="404640"/>
            <a:ext cx="29908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sdos"/>
          <p:cNvPicPr/>
          <p:nvPr/>
        </p:nvPicPr>
        <p:blipFill>
          <a:blip r:embed="rId1"/>
          <a:stretch/>
        </p:blipFill>
        <p:spPr>
          <a:xfrm>
            <a:off x="2916360" y="1844640"/>
            <a:ext cx="2857320" cy="397836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84040" y="23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MCj03974740000[1]"/>
          <p:cNvPicPr/>
          <p:nvPr/>
        </p:nvPicPr>
        <p:blipFill>
          <a:blip r:embed="rId1"/>
          <a:stretch/>
        </p:blipFill>
        <p:spPr>
          <a:xfrm>
            <a:off x="5886360" y="5140440"/>
            <a:ext cx="1841760" cy="144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MCj03974900000[1]"/>
          <p:cNvPicPr/>
          <p:nvPr/>
        </p:nvPicPr>
        <p:blipFill>
          <a:blip r:embed="rId2"/>
          <a:stretch/>
        </p:blipFill>
        <p:spPr>
          <a:xfrm>
            <a:off x="252360" y="5445000"/>
            <a:ext cx="2259000" cy="1209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5"/>
          <p:cNvGrpSpPr/>
          <p:nvPr/>
        </p:nvGrpSpPr>
        <p:grpSpPr>
          <a:xfrm>
            <a:off x="6114960" y="5057280"/>
            <a:ext cx="1541520" cy="1800360"/>
            <a:chOff x="6114960" y="5057280"/>
            <a:chExt cx="1541520" cy="1800360"/>
          </a:xfrm>
        </p:grpSpPr>
        <p:sp>
          <p:nvSpPr>
            <p:cNvPr id="317" name="Line 6"/>
            <p:cNvSpPr/>
            <p:nvPr/>
          </p:nvSpPr>
          <p:spPr>
            <a:xfrm>
              <a:off x="6114960" y="5193360"/>
              <a:ext cx="1541520" cy="148536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7"/>
            <p:cNvSpPr/>
            <p:nvPr/>
          </p:nvSpPr>
          <p:spPr>
            <a:xfrm flipV="1">
              <a:off x="6226560" y="5057280"/>
              <a:ext cx="1429920" cy="180036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8"/>
          <p:cNvSpPr/>
          <p:nvPr/>
        </p:nvSpPr>
        <p:spPr>
          <a:xfrm>
            <a:off x="-279720" y="938160"/>
            <a:ext cx="8878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стройте  в одной координатной плоскости графики функци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+ 8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+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–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**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+ 6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+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йте в программ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электронные таблиц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и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– 3)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на отрезке [-10; 10] с шагом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–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***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стройте в программ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электронные таблиц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 функции (на новом листе)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  (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сть определения выберите 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105084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MCj03967420000[1]"/>
          <p:cNvPicPr/>
          <p:nvPr/>
        </p:nvPicPr>
        <p:blipFill>
          <a:blip r:embed="rId1"/>
          <a:stretch/>
        </p:blipFill>
        <p:spPr>
          <a:xfrm>
            <a:off x="6391440" y="5014800"/>
            <a:ext cx="1643040" cy="18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MCj03967440000[1]"/>
          <p:cNvPicPr/>
          <p:nvPr/>
        </p:nvPicPr>
        <p:blipFill>
          <a:blip r:embed="rId2"/>
          <a:stretch/>
        </p:blipFill>
        <p:spPr>
          <a:xfrm>
            <a:off x="900000" y="5030640"/>
            <a:ext cx="1487520" cy="1827360"/>
          </a:xfrm>
          <a:prstGeom prst="rect">
            <a:avLst/>
          </a:prstGeom>
          <a:ln w="0">
            <a:noFill/>
          </a:ln>
        </p:spPr>
      </p:pic>
      <p:sp>
        <p:nvSpPr>
          <p:cNvPr id="89" name="WordArt 11"/>
          <p:cNvSpPr txBox="1"/>
          <p:nvPr/>
        </p:nvSpPr>
        <p:spPr>
          <a:xfrm>
            <a:off x="879480" y="1311120"/>
            <a:ext cx="7527960" cy="289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d2d8a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троение и преобразование </a:t>
            </a:r>
            <a:endParaRPr b="0" lang="en-US" sz="1800" spc="1" strike="noStrike">
              <a:ln w="0">
                <a:noFill/>
              </a:ln>
              <a:solidFill>
                <a:srgbClr val="2d2d8a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d2d8a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рафиков </a:t>
            </a:r>
            <a:endParaRPr b="0" lang="en-US" sz="1800" spc="1" strike="noStrike">
              <a:ln w="0">
                <a:noFill/>
              </a:ln>
              <a:solidFill>
                <a:srgbClr val="2d2d8a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d2d8a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ичной функции в среде</a:t>
            </a:r>
            <a:endParaRPr b="0" lang="en-US" sz="1800" spc="1" strike="noStrike">
              <a:ln w="0">
                <a:noFill/>
              </a:ln>
              <a:solidFill>
                <a:srgbClr val="2d2d8a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d2d8a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Microsoft Excel </a:t>
            </a:r>
            <a:endParaRPr b="0" lang="en-US" sz="1800" spc="1" strike="noStrike">
              <a:ln w="0">
                <a:noFill/>
              </a:ln>
              <a:solidFill>
                <a:srgbClr val="2d2d8a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720" y="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41"/>
          <p:cNvSpPr/>
          <p:nvPr/>
        </p:nvSpPr>
        <p:spPr>
          <a:xfrm flipV="1" rot="10800000">
            <a:off x="1946160" y="3607200"/>
            <a:ext cx="1470240" cy="3544920"/>
          </a:xfrm>
          <a:custGeom>
            <a:avLst/>
            <a:gdLst>
              <a:gd name="textAreaLeft" fmla="*/ 0 w 1470240"/>
              <a:gd name="textAreaRight" fmla="*/ 1470600 w 1470240"/>
              <a:gd name="textAreaTop" fmla="*/ -360 h 3544920"/>
              <a:gd name="textAreaBottom" fmla="*/ 3544920 h 354492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2"/>
          <p:cNvSpPr/>
          <p:nvPr/>
        </p:nvSpPr>
        <p:spPr>
          <a:xfrm>
            <a:off x="3497400" y="2351160"/>
            <a:ext cx="145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3"/>
          <p:cNvSpPr/>
          <p:nvPr/>
        </p:nvSpPr>
        <p:spPr>
          <a:xfrm>
            <a:off x="365472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5"/>
          <p:cNvSpPr/>
          <p:nvPr/>
        </p:nvSpPr>
        <p:spPr>
          <a:xfrm>
            <a:off x="2286000" y="35607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6"/>
          <p:cNvSpPr/>
          <p:nvPr/>
        </p:nvSpPr>
        <p:spPr>
          <a:xfrm>
            <a:off x="3506760" y="4192560"/>
            <a:ext cx="135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7"/>
          <p:cNvSpPr/>
          <p:nvPr/>
        </p:nvSpPr>
        <p:spPr>
          <a:xfrm>
            <a:off x="3683160" y="4016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8"/>
          <p:cNvSpPr/>
          <p:nvPr/>
        </p:nvSpPr>
        <p:spPr>
          <a:xfrm>
            <a:off x="4802040" y="3497400"/>
            <a:ext cx="11160" cy="139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4086360" y="35654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0"/>
          <p:cNvSpPr/>
          <p:nvPr/>
        </p:nvSpPr>
        <p:spPr>
          <a:xfrm>
            <a:off x="6556320" y="134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7"/>
          <p:cNvSpPr/>
          <p:nvPr/>
        </p:nvSpPr>
        <p:spPr>
          <a:xfrm>
            <a:off x="2185920" y="139680"/>
            <a:ext cx="593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Укажите графики квадратичных функ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8"/>
          <p:cNvSpPr/>
          <p:nvPr/>
        </p:nvSpPr>
        <p:spPr>
          <a:xfrm>
            <a:off x="1770120" y="1967040"/>
            <a:ext cx="336600" cy="326880"/>
          </a:xfrm>
          <a:prstGeom prst="cloudCallout">
            <a:avLst>
              <a:gd name="adj1" fmla="val 29717"/>
              <a:gd name="adj2" fmla="val 1271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9"/>
          <p:cNvSpPr/>
          <p:nvPr/>
        </p:nvSpPr>
        <p:spPr>
          <a:xfrm>
            <a:off x="1627200" y="3944880"/>
            <a:ext cx="336600" cy="327240"/>
          </a:xfrm>
          <a:prstGeom prst="cloudCallout">
            <a:avLst>
              <a:gd name="adj1" fmla="val 101416"/>
              <a:gd name="adj2" fmla="val 1266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0"/>
          <p:cNvSpPr/>
          <p:nvPr/>
        </p:nvSpPr>
        <p:spPr>
          <a:xfrm>
            <a:off x="3143160" y="1066680"/>
            <a:ext cx="336600" cy="327240"/>
          </a:xfrm>
          <a:prstGeom prst="cloudCallout">
            <a:avLst>
              <a:gd name="adj1" fmla="val -37263"/>
              <a:gd name="adj2" fmla="val 2626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1"/>
          <p:cNvSpPr/>
          <p:nvPr/>
        </p:nvSpPr>
        <p:spPr>
          <a:xfrm rot="6006600">
            <a:off x="4624200" y="2763720"/>
            <a:ext cx="336600" cy="326880"/>
          </a:xfrm>
          <a:prstGeom prst="cloudCallout">
            <a:avLst>
              <a:gd name="adj1" fmla="val -11791"/>
              <a:gd name="adj2" fmla="val -1140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2"/>
          <p:cNvSpPr/>
          <p:nvPr/>
        </p:nvSpPr>
        <p:spPr>
          <a:xfrm>
            <a:off x="1824120" y="19335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3"/>
          <p:cNvSpPr/>
          <p:nvPr/>
        </p:nvSpPr>
        <p:spPr>
          <a:xfrm>
            <a:off x="4624560" y="271764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4"/>
          <p:cNvSpPr/>
          <p:nvPr/>
        </p:nvSpPr>
        <p:spPr>
          <a:xfrm>
            <a:off x="3154320" y="10317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5"/>
          <p:cNvSpPr/>
          <p:nvPr/>
        </p:nvSpPr>
        <p:spPr>
          <a:xfrm>
            <a:off x="1647720" y="39225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8"/>
          <p:cNvSpPr/>
          <p:nvPr/>
        </p:nvSpPr>
        <p:spPr>
          <a:xfrm rot="16033200">
            <a:off x="4066200" y="5604120"/>
            <a:ext cx="430200" cy="378000"/>
          </a:xfrm>
          <a:prstGeom prst="cloudCallout">
            <a:avLst>
              <a:gd name="adj1" fmla="val 84810"/>
              <a:gd name="adj2" fmla="val -690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1"/>
          <p:cNvSpPr/>
          <p:nvPr/>
        </p:nvSpPr>
        <p:spPr>
          <a:xfrm>
            <a:off x="4191120" y="3484440"/>
            <a:ext cx="0" cy="128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2"/>
          <p:cNvSpPr/>
          <p:nvPr/>
        </p:nvSpPr>
        <p:spPr>
          <a:xfrm>
            <a:off x="4662720" y="358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04"/>
          <p:cNvSpPr/>
          <p:nvPr/>
        </p:nvSpPr>
        <p:spPr>
          <a:xfrm flipV="1">
            <a:off x="3079800" y="0"/>
            <a:ext cx="968400" cy="3573360"/>
          </a:xfrm>
          <a:custGeom>
            <a:avLst/>
            <a:gdLst>
              <a:gd name="textAreaLeft" fmla="*/ 0 w 968400"/>
              <a:gd name="textAreaRight" fmla="*/ 968760 w 968400"/>
              <a:gd name="textAreaTop" fmla="*/ 360 h 3573360"/>
              <a:gd name="textAreaBottom" fmla="*/ 3574080 h 357336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105"/>
          <p:cNvSpPr/>
          <p:nvPr/>
        </p:nvSpPr>
        <p:spPr>
          <a:xfrm flipV="1">
            <a:off x="2819520" y="2191680"/>
            <a:ext cx="1469880" cy="3544920"/>
          </a:xfrm>
          <a:custGeom>
            <a:avLst/>
            <a:gdLst>
              <a:gd name="textAreaLeft" fmla="*/ 0 w 1469880"/>
              <a:gd name="textAreaRight" fmla="*/ 1470240 w 1469880"/>
              <a:gd name="textAreaTop" fmla="*/ -360 h 3544920"/>
              <a:gd name="textAreaBottom" fmla="*/ 3544920 h 354492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1"/>
          <p:cNvGrpSpPr/>
          <p:nvPr/>
        </p:nvGrpSpPr>
        <p:grpSpPr>
          <a:xfrm>
            <a:off x="268200" y="415800"/>
            <a:ext cx="6480360" cy="5903640"/>
            <a:chOff x="268200" y="415800"/>
            <a:chExt cx="6480360" cy="5903640"/>
          </a:xfrm>
        </p:grpSpPr>
        <p:sp>
          <p:nvSpPr>
            <p:cNvPr id="115" name="Line 32"/>
            <p:cNvSpPr/>
            <p:nvPr/>
          </p:nvSpPr>
          <p:spPr>
            <a:xfrm flipV="1">
              <a:off x="3579840" y="487080"/>
              <a:ext cx="0" cy="5832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>
              <a:off x="268200" y="3584520"/>
              <a:ext cx="64803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4"/>
            <p:cNvSpPr/>
            <p:nvPr/>
          </p:nvSpPr>
          <p:spPr>
            <a:xfrm>
              <a:off x="6389640" y="3656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5"/>
            <p:cNvSpPr/>
            <p:nvPr/>
          </p:nvSpPr>
          <p:spPr>
            <a:xfrm>
              <a:off x="3654360" y="415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6"/>
            <p:cNvSpPr/>
            <p:nvPr/>
          </p:nvSpPr>
          <p:spPr>
            <a:xfrm>
              <a:off x="3149280" y="3584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3868920" y="3511440"/>
              <a:ext cx="0" cy="14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8"/>
            <p:cNvSpPr/>
            <p:nvPr/>
          </p:nvSpPr>
          <p:spPr>
            <a:xfrm flipH="1">
              <a:off x="3508560" y="3295800"/>
              <a:ext cx="14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3726360" y="3727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3726360" y="307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107"/>
          <p:cNvSpPr/>
          <p:nvPr/>
        </p:nvSpPr>
        <p:spPr>
          <a:xfrm>
            <a:off x="3571920" y="28335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8"/>
          <p:cNvSpPr/>
          <p:nvPr/>
        </p:nvSpPr>
        <p:spPr>
          <a:xfrm>
            <a:off x="3516480" y="2982960"/>
            <a:ext cx="133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0"/>
          <p:cNvSpPr/>
          <p:nvPr/>
        </p:nvSpPr>
        <p:spPr>
          <a:xfrm>
            <a:off x="1407960" y="2060640"/>
            <a:ext cx="4267440" cy="373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rc 121"/>
          <p:cNvSpPr/>
          <p:nvPr/>
        </p:nvSpPr>
        <p:spPr>
          <a:xfrm flipV="1" rot="10800000">
            <a:off x="3612960" y="2990880"/>
            <a:ext cx="2409480" cy="581040"/>
          </a:xfrm>
          <a:custGeom>
            <a:avLst/>
            <a:gdLst>
              <a:gd name="textAreaLeft" fmla="*/ 0 w 2409480"/>
              <a:gd name="textAreaRight" fmla="*/ 2409840 w 24094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20" y="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3"/>
          <p:cNvSpPr/>
          <p:nvPr/>
        </p:nvSpPr>
        <p:spPr>
          <a:xfrm flipV="1">
            <a:off x="2830680" y="0"/>
            <a:ext cx="1469880" cy="3573360"/>
          </a:xfrm>
          <a:custGeom>
            <a:avLst/>
            <a:gdLst>
              <a:gd name="textAreaLeft" fmla="*/ 0 w 1469880"/>
              <a:gd name="textAreaRight" fmla="*/ 1470240 w 1469880"/>
              <a:gd name="textAreaTop" fmla="*/ 360 h 3573360"/>
              <a:gd name="textAreaBottom" fmla="*/ 3574080 h 357336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4"/>
          <p:cNvSpPr/>
          <p:nvPr/>
        </p:nvSpPr>
        <p:spPr>
          <a:xfrm flipV="1" rot="10800000">
            <a:off x="1118880" y="3607200"/>
            <a:ext cx="1469880" cy="3544920"/>
          </a:xfrm>
          <a:custGeom>
            <a:avLst/>
            <a:gdLst>
              <a:gd name="textAreaLeft" fmla="*/ 0 w 1469880"/>
              <a:gd name="textAreaRight" fmla="*/ 1470240 w 1469880"/>
              <a:gd name="textAreaTop" fmla="*/ -360 h 3544920"/>
              <a:gd name="textAreaBottom" fmla="*/ 3544920 h 354492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3497400" y="2351160"/>
            <a:ext cx="145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65472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738440" y="35607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286000" y="35607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3506760" y="4192560"/>
            <a:ext cx="135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683160" y="4016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4802040" y="3497400"/>
            <a:ext cx="11160" cy="139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086360" y="35654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556320" y="134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2262960" y="139680"/>
            <a:ext cx="514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Укажите знак коэффициента при х</a:t>
            </a:r>
            <a:r>
              <a:rPr b="1" lang="ru-RU" sz="2200" spc="-1" strike="noStrike" u="sng" baseline="30000">
                <a:solidFill>
                  <a:srgbClr val="0000ff"/>
                </a:solidFill>
                <a:uFillTx/>
                <a:latin typeface="Arial"/>
              </a:rPr>
              <a:t>2</a:t>
            </a: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6413400" y="1387440"/>
            <a:ext cx="336600" cy="327240"/>
          </a:xfrm>
          <a:prstGeom prst="cloudCallout">
            <a:avLst>
              <a:gd name="adj1" fmla="val -65092"/>
              <a:gd name="adj2" fmla="val 1621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1785960" y="3059280"/>
            <a:ext cx="336600" cy="326880"/>
          </a:xfrm>
          <a:prstGeom prst="cloudCallout">
            <a:avLst>
              <a:gd name="adj1" fmla="val -40564"/>
              <a:gd name="adj2" fmla="val 1223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3143160" y="1066680"/>
            <a:ext cx="336600" cy="327240"/>
          </a:xfrm>
          <a:prstGeom prst="cloudCallout">
            <a:avLst>
              <a:gd name="adj1" fmla="val -110379"/>
              <a:gd name="adj2" fmla="val 151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813200" y="3009960"/>
            <a:ext cx="336600" cy="326880"/>
          </a:xfrm>
          <a:prstGeom prst="cloudCallout">
            <a:avLst>
              <a:gd name="adj1" fmla="val -37736"/>
              <a:gd name="adj2" fmla="val -1626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467400" y="13539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813200" y="296388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154320" y="10317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1806480" y="30369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3"/>
          <p:cNvSpPr/>
          <p:nvPr/>
        </p:nvSpPr>
        <p:spPr>
          <a:xfrm rot="16033200">
            <a:off x="5458680" y="4994640"/>
            <a:ext cx="430200" cy="377640"/>
          </a:xfrm>
          <a:prstGeom prst="cloudCallout">
            <a:avLst>
              <a:gd name="adj1" fmla="val 125865"/>
              <a:gd name="adj2" fmla="val -776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4191120" y="3484440"/>
            <a:ext cx="0" cy="128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4662720" y="358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26"/>
          <p:cNvSpPr/>
          <p:nvPr/>
        </p:nvSpPr>
        <p:spPr>
          <a:xfrm>
            <a:off x="5430960" y="1015920"/>
            <a:ext cx="968400" cy="3573720"/>
          </a:xfrm>
          <a:custGeom>
            <a:avLst/>
            <a:gdLst>
              <a:gd name="textAreaLeft" fmla="*/ 0 w 968400"/>
              <a:gd name="textAreaRight" fmla="*/ 968760 w 968400"/>
              <a:gd name="textAreaTop" fmla="*/ 0 h 3573720"/>
              <a:gd name="textAreaBottom" fmla="*/ 3574080 h 357372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rc 28"/>
          <p:cNvSpPr/>
          <p:nvPr/>
        </p:nvSpPr>
        <p:spPr>
          <a:xfrm flipV="1">
            <a:off x="2077920" y="637200"/>
            <a:ext cx="2841840" cy="3544920"/>
          </a:xfrm>
          <a:custGeom>
            <a:avLst/>
            <a:gdLst>
              <a:gd name="textAreaLeft" fmla="*/ 0 w 2841840"/>
              <a:gd name="textAreaRight" fmla="*/ 2842200 w 2841840"/>
              <a:gd name="textAreaTop" fmla="*/ -360 h 3544920"/>
              <a:gd name="textAreaBottom" fmla="*/ 3544920 h 354492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9"/>
          <p:cNvGrpSpPr/>
          <p:nvPr/>
        </p:nvGrpSpPr>
        <p:grpSpPr>
          <a:xfrm>
            <a:off x="268200" y="415800"/>
            <a:ext cx="6480360" cy="5903640"/>
            <a:chOff x="268200" y="415800"/>
            <a:chExt cx="6480360" cy="5903640"/>
          </a:xfrm>
        </p:grpSpPr>
        <p:sp>
          <p:nvSpPr>
            <p:cNvPr id="155" name="Line 30"/>
            <p:cNvSpPr/>
            <p:nvPr/>
          </p:nvSpPr>
          <p:spPr>
            <a:xfrm flipV="1">
              <a:off x="3579840" y="487080"/>
              <a:ext cx="0" cy="5832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1"/>
            <p:cNvSpPr/>
            <p:nvPr/>
          </p:nvSpPr>
          <p:spPr>
            <a:xfrm>
              <a:off x="268200" y="3584520"/>
              <a:ext cx="64803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2"/>
            <p:cNvSpPr/>
            <p:nvPr/>
          </p:nvSpPr>
          <p:spPr>
            <a:xfrm>
              <a:off x="6389640" y="3656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33"/>
            <p:cNvSpPr/>
            <p:nvPr/>
          </p:nvSpPr>
          <p:spPr>
            <a:xfrm>
              <a:off x="3654360" y="415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34"/>
            <p:cNvSpPr/>
            <p:nvPr/>
          </p:nvSpPr>
          <p:spPr>
            <a:xfrm>
              <a:off x="3149280" y="3584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3868920" y="3511440"/>
              <a:ext cx="0" cy="14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 flipH="1">
              <a:off x="3508560" y="3295800"/>
              <a:ext cx="14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7"/>
            <p:cNvSpPr/>
            <p:nvPr/>
          </p:nvSpPr>
          <p:spPr>
            <a:xfrm>
              <a:off x="3726360" y="3727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8"/>
            <p:cNvSpPr/>
            <p:nvPr/>
          </p:nvSpPr>
          <p:spPr>
            <a:xfrm>
              <a:off x="3726360" y="307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39"/>
          <p:cNvSpPr/>
          <p:nvPr/>
        </p:nvSpPr>
        <p:spPr>
          <a:xfrm>
            <a:off x="3571920" y="28335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0"/>
          <p:cNvSpPr/>
          <p:nvPr/>
        </p:nvSpPr>
        <p:spPr>
          <a:xfrm>
            <a:off x="3516480" y="2982960"/>
            <a:ext cx="133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41"/>
          <p:cNvSpPr/>
          <p:nvPr/>
        </p:nvSpPr>
        <p:spPr>
          <a:xfrm flipV="1">
            <a:off x="4124160" y="1899360"/>
            <a:ext cx="1392480" cy="3544920"/>
          </a:xfrm>
          <a:custGeom>
            <a:avLst/>
            <a:gdLst>
              <a:gd name="textAreaLeft" fmla="*/ 0 w 1392480"/>
              <a:gd name="textAreaRight" fmla="*/ 1392840 w 1392480"/>
              <a:gd name="textAreaTop" fmla="*/ -360 h 3544920"/>
              <a:gd name="textAreaBottom" fmla="*/ 3544920 h 3544920"/>
            </a:gdLst>
            <a:ahLst/>
            <a:rect l="textAreaLeft" t="textAreaTop" r="textAreaRight" b="textAreaBottom"/>
            <a:pathLst>
              <a:path fill="none" w="37774" h="21600">
                <a:moveTo>
                  <a:pt x="0" y="10525"/>
                </a:moveTo>
                <a:cubicBezTo>
                  <a:pt x="3898" y="3997"/>
                  <a:pt x="10941" y="-1"/>
                  <a:pt x="18545" y="0"/>
                </a:cubicBezTo>
                <a:cubicBezTo>
                  <a:pt x="26653" y="0"/>
                  <a:pt x="34079" y="4541"/>
                  <a:pt x="37773" y="11760"/>
                </a:cubicBezTo>
              </a:path>
              <a:path stroke="0" w="37774" h="21600">
                <a:moveTo>
                  <a:pt x="0" y="10525"/>
                </a:moveTo>
                <a:cubicBezTo>
                  <a:pt x="3898" y="3997"/>
                  <a:pt x="10941" y="-1"/>
                  <a:pt x="18545" y="0"/>
                </a:cubicBezTo>
                <a:cubicBezTo>
                  <a:pt x="26653" y="0"/>
                  <a:pt x="34079" y="4541"/>
                  <a:pt x="37773" y="11760"/>
                </a:cubicBezTo>
                <a:lnTo>
                  <a:pt x="18545" y="21600"/>
                </a:lnTo>
                <a:close/>
              </a:path>
            </a:pathLst>
          </a:custGeom>
          <a:noFill/>
          <a:ln w="316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885960" y="619200"/>
            <a:ext cx="748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Являются ли данные функции квадратичны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1687680" y="1541520"/>
            <a:ext cx="17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5293440" y="1471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-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1661400" y="230184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-3(х +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5195160" y="22874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(х - 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3288960" y="31464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(х +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2271600" y="4230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квадратичные функции, заданные формулой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8"/>
          <p:cNvSpPr/>
          <p:nvPr/>
        </p:nvSpPr>
        <p:spPr>
          <a:xfrm>
            <a:off x="3160440" y="5256360"/>
            <a:ext cx="27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 =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х -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41480" y="885960"/>
          <a:ext cx="7188120" cy="4965480"/>
        </p:xfrm>
        <a:graphic>
          <a:graphicData uri="http://schemas.openxmlformats.org/drawingml/2006/table">
            <a:tbl>
              <a:tblPr/>
              <a:tblGrid>
                <a:gridCol w="2627280"/>
                <a:gridCol w="4560840"/>
              </a:tblGrid>
              <a:tr h="1241280"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 = -x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 = x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 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m)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800280" y="2013120"/>
            <a:ext cx="73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остроение графиков функций у=х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и у=-х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MCj03975260000[1]"/>
          <p:cNvPicPr/>
          <p:nvPr/>
        </p:nvPicPr>
        <p:blipFill>
          <a:blip r:embed="rId1"/>
          <a:stretch/>
        </p:blipFill>
        <p:spPr>
          <a:xfrm>
            <a:off x="5830920" y="3925800"/>
            <a:ext cx="3313080" cy="293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MCj03967440000[1]"/>
          <p:cNvPicPr/>
          <p:nvPr/>
        </p:nvPicPr>
        <p:blipFill>
          <a:blip r:embed="rId2"/>
          <a:stretch/>
        </p:blipFill>
        <p:spPr>
          <a:xfrm>
            <a:off x="184320" y="4032360"/>
            <a:ext cx="2300040" cy="2825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2354400" y="2541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ройте  в одной координатной  плос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ики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5"/>
              <p:cNvSpPr txBox="1"/>
              <p:nvPr/>
            </p:nvSpPr>
            <p:spPr>
              <a:xfrm>
                <a:off x="674640" y="1792440"/>
                <a:ext cx="121608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26"/>
          <p:cNvSpPr/>
          <p:nvPr/>
        </p:nvSpPr>
        <p:spPr>
          <a:xfrm>
            <a:off x="2701080" y="266688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омежут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шагом 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11160" y="7128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9:48:38Z</dcterms:created>
  <dc:creator>Кузнецова</dc:creator>
  <dc:description/>
  <dc:language>en-US</dc:language>
  <cp:lastModifiedBy>Елена</cp:lastModifiedBy>
  <dcterms:modified xsi:type="dcterms:W3CDTF">2015-03-13T13:25:58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49</vt:lpwstr>
  </property>
</Properties>
</file>