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B2C-E3E8-4E27-B528-5129BF5A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9CC-111A-4F6E-9B7C-A9780DA6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39D8-305E-4DA7-9BDA-E36AF6E2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528-F23D-4293-89B7-4045F3DF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17C-2707-4268-9F04-BA9D9D0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73E-E4A2-469A-9966-D3F4FA4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702-6BAE-4B5F-A7F8-D9CCEE07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E21-46CB-441D-9CDC-33F3E4B6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17AC-86DE-44F0-9053-CD2CF76B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878-4190-42CD-A903-89A1BC0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B31-9F44-4374-A6C2-3C84FC92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3032-899A-4F71-A441-16D24AB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448-8DB4-46F5-BB5B-85EBB15EDF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moss/index.htm" TargetMode="External"/><Relationship Id="rId2" Type="http://schemas.openxmlformats.org/officeDocument/2006/relationships/hyperlink" Target="http://www.ecosystema.ru/08nature/moss/index.htm" TargetMode="External"/><Relationship Id="rId3" Type="http://schemas.openxmlformats.org/officeDocument/2006/relationships/hyperlink" Target="http://www.svprim.ru/red/bashmachok.shtml" TargetMode="External"/><Relationship Id="rId4" Type="http://schemas.openxmlformats.org/officeDocument/2006/relationships/hyperlink" Target="http://www.liveinternet.ru/users/5566281/post322333296/" TargetMode="External"/><Relationship Id="rId5" Type="http://schemas.openxmlformats.org/officeDocument/2006/relationships/hyperlink" Target="http://bylanovo.ru/2012/04/zhenshen---zhenshen-(gvlavrenova).html" TargetMode="External"/><Relationship Id="rId6" Type="http://schemas.openxmlformats.org/officeDocument/2006/relationships/hyperlink" Target="http://www.svprim.ru/tiger/cats/tigr.shtml" TargetMode="External"/><Relationship Id="rId7" Type="http://schemas.openxmlformats.org/officeDocument/2006/relationships/hyperlink" Target="http://khaliman.org.ua/utki-zemlyanie/peganka-chochlataya.html" TargetMode="External"/><Relationship Id="rId8" Type="http://schemas.openxmlformats.org/officeDocument/2006/relationships/hyperlink" Target="http://tent-palatka.ru/news.htm-id=1444.htm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cosystema.ru/08nature/moss/index.htm" TargetMode="External"/><Relationship Id="rId2" Type="http://schemas.openxmlformats.org/officeDocument/2006/relationships/hyperlink" Target="http://www.ecosystema.ru/08nature/moss/index.htm" TargetMode="External"/><Relationship Id="rId3" Type="http://schemas.openxmlformats.org/officeDocument/2006/relationships/hyperlink" Target="http://www.svprim.ru/red/bashmachok.shtml" TargetMode="External"/><Relationship Id="rId4" Type="http://schemas.openxmlformats.org/officeDocument/2006/relationships/hyperlink" Target="http://www.liveinternet.ru/users/5566281/post322333296/" TargetMode="External"/><Relationship Id="rId5" Type="http://schemas.openxmlformats.org/officeDocument/2006/relationships/hyperlink" Target="http://bylanovo.ru/2012/04/zhenshen---zhenshen-(gvlavrenova).html" TargetMode="External"/><Relationship Id="rId6" Type="http://schemas.openxmlformats.org/officeDocument/2006/relationships/hyperlink" Target="http://www.svprim.ru/tiger/cats/tigr.shtml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28440" y="189000"/>
            <a:ext cx="8640720" cy="6577920"/>
          </a:xfrm>
          <a:prstGeom prst="rect">
            <a:avLst/>
          </a:prstGeom>
          <a:solidFill>
            <a:srgbClr val="e4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ОУ ООШ д. Старое Мелк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я на 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РА и ФАУНА Дальнего Вос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отала: учитель географии Бычкова Т.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4572000" y="78588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зёра Дальнего Вос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5715000" y="602136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зеро Х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428760" y="285840"/>
            <a:ext cx="35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улканическ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214200" y="3429000"/>
            <a:ext cx="328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дниковые озё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633240"/>
                <a:gridCol w="635040"/>
                <a:gridCol w="692280"/>
                <a:gridCol w="104940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/>
          <p:cNvSpPr/>
          <p:nvPr/>
        </p:nvSpPr>
        <p:spPr>
          <a:xfrm>
            <a:off x="324000" y="333360"/>
            <a:ext cx="8712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ун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емлетрясения и извержения вулкан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ейзеры, Камча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ссон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 материка, с мор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жд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мур, Зея, Бурея, Уссур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Захар\Мои документы\Мои рисунки\Новый рисунок (9).jpg"/>
          <p:cNvPicPr/>
          <p:nvPr/>
        </p:nvPicPr>
        <p:blipFill>
          <a:blip r:embed="rId1"/>
          <a:stretch/>
        </p:blipFill>
        <p:spPr>
          <a:xfrm>
            <a:off x="-468360" y="-243000"/>
            <a:ext cx="973476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6357960" y="627372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р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143240" y="6273720"/>
            <a:ext cx="192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рунд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1619280" y="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бар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285840" y="627372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4214880" y="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7072200" y="30002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ло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142920" y="37861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750960"/>
                <a:gridCol w="649080"/>
                <a:gridCol w="719280"/>
                <a:gridCol w="89064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молость съедобная , Городковия якутская, Багу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лющийс, Эдельвейс Палибина, Суслик длиннохвостый, Овцебык, Северный олень, Тундровая куропат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ажка, Тарбаган, Камнеломка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Мох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апчатка кустарниковая , Филлодоце голубая, Берингов, или берингийский баклан, Бурый медвед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ашмачок крупноцветковы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Лотос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Рододендроны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Женьшень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Амурский тигр (уссурийский тигр)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ь, Пятнистый  олень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 Пеганка хохлатая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 Лесные кот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750960"/>
                <a:gridCol w="649080"/>
                <a:gridCol w="719280"/>
                <a:gridCol w="89064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ходится на стыке двух литосферных плит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улканы, землетрясения, гейзеры, горячие источник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ширные нагорья на севере и горные хребты на юге  чередуются низменными равнинами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носится к области кайнозойской складчатости.    (молодая, которая сопровождается тектоническими движениями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Тихого океана.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ссон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етер, меняющий направление 2 раза в год, зимой муссон дует с суши на океан, а летом с океана на сушу. Климат очень своеобразный (холод- зимой, обилие влаги –летом)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варь- что такое муссон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ик с 244 рис. 71 рассмотрет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устая речная сеть( большое кол-во осадков и малое испарение).Реки горные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Дальнего Востока –Амур .Река пограничная. По территории несут свои воды Лена, Колыма, Индигирка, Зея .Самое крупное озеро на Дальнем Востоке- Ханка(4190 кв.км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молость съедобная , Городковия якутская, Багуль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лющийс, Эдельвейс Палибина, Суслик длиннохвостый, Овцебык, Северный олень, Тундровая куропат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ражка, Тарбаган, Камнеломка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 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Мох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Лапчатка кустарниковая , Филлодоце голубая, Берингов, или берингийский баклан, Бурый медведь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ашмачок крупноцветковый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Лотос 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 Рододендроны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 Женьшень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 Амурский тигр (уссурийский тигр)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оль, Пятнистый  олень,</a:t>
                      </a:r>
                      <a:r>
                        <a:rPr b="0" lang="ru-RU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Пеганка хохлатая, Лесные кот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е золотоносные районы Росси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ышленные запасы олова и вольфрам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езные руды, полиметалл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юда, графит, фосфорит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менный и бурый уголь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фть и газ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энергоресурсы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и морепродукты – главные ресурсы район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F51-6E4E-4914-ABF8-D378D7870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2560" y="-3613320"/>
            <a:ext cx="93927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ики иллюст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moldv.ru/trenerskaya_predlogeniya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ivs-gw2.kscnet.ru/ ivs / expeditions /2007/sheveluch-besim_01-03_2007/ index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 www.kruzenshtern.tvzvezda.ru /?id=87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weblancer.net/users/S3Dk/portfolio/123660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 :// www.photoforum.ru / photo /193892/ index.ru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limonnik.ru/rus_pages/library/plant_info/phellodendron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fotki.yandex.ru/users/grishin333/view/29490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prosecutor.ru/history/regio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1vet.ru/MIR ZHIVOTNIH/rekord cherepahi.ph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okino.r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араграф 59, вопросы в конце параграф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63D1-A3F6-4F09-9A43-AAB1B41B6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4572000" y="333360"/>
            <a:ext cx="4229280" cy="521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" name="Text Box 6"/>
          <p:cNvSpPr/>
          <p:nvPr/>
        </p:nvSpPr>
        <p:spPr>
          <a:xfrm>
            <a:off x="324000" y="333360"/>
            <a:ext cx="4103640" cy="459720"/>
          </a:xfrm>
          <a:prstGeom prst="rect">
            <a:avLst/>
          </a:prstGeom>
          <a:solidFill>
            <a:srgbClr val="e6e9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 Дальнего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50920" y="1773360"/>
            <a:ext cx="4103640" cy="825480"/>
          </a:xfrm>
          <a:prstGeom prst="rect">
            <a:avLst/>
          </a:prstGeom>
          <a:solidFill>
            <a:srgbClr val="a6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Чукотский автономный ок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50920" y="2708280"/>
            <a:ext cx="4103640" cy="459720"/>
          </a:xfrm>
          <a:prstGeom prst="rect">
            <a:avLst/>
          </a:prstGeom>
          <a:solidFill>
            <a:srgbClr val="fdfd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Камчат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3357720"/>
            <a:ext cx="4103640" cy="459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Магада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50920" y="4005360"/>
            <a:ext cx="4103640" cy="459720"/>
          </a:xfrm>
          <a:prstGeom prst="rect">
            <a:avLst/>
          </a:prstGeom>
          <a:solidFill>
            <a:srgbClr val="89eb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Хабаров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79280" y="4653000"/>
            <a:ext cx="4103640" cy="459720"/>
          </a:xfrm>
          <a:prstGeom prst="rect">
            <a:avLst/>
          </a:prstGeom>
          <a:solidFill>
            <a:srgbClr val="7c97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Аму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79280" y="5300640"/>
            <a:ext cx="4103640" cy="459720"/>
          </a:xfrm>
          <a:prstGeom prst="rect">
            <a:avLst/>
          </a:prstGeom>
          <a:solidFill>
            <a:srgbClr val="5054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Примо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50920" y="6021360"/>
            <a:ext cx="4103640" cy="459720"/>
          </a:xfrm>
          <a:prstGeom prst="rect">
            <a:avLst/>
          </a:prstGeom>
          <a:solidFill>
            <a:srgbClr val="e4e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Сахалин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7164360" y="907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810108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7093080" y="20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680400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51672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759636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781200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 flipV="1">
            <a:off x="6877080" y="4868640"/>
            <a:ext cx="43164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716360" y="602136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рейская автономн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07e7eafc0793d25ea376b0908ccc13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50920" y="381960"/>
            <a:ext cx="6678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склонам сопок тропы вьются кр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, в буйных зарослях душистых тра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чая ветвистая ли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евья обвивает как уд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ркают ильмы, ольхи жмутся к ив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там, где кедры выстроились в ря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то-зеленый, с полевым отлив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рляндами, прижавшись к хвойным грива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-нет, да глянет дикий вино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ркуют горлицы, их резким кр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молвная вокруг колышется тай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 заре по крутосклонным п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лькнут то тигр, то рысь, то кабарг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Глуш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19.03.2015г.</a:t>
            </a:r>
            <a:br>
              <a:rPr sz="4400"/>
            </a:b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Урок –исследования</a:t>
            </a:r>
            <a:br>
              <a:rPr sz="4400"/>
            </a:br>
            <a:r>
              <a:rPr b="0" lang="ru-RU" sz="4400" spc="-1" strike="noStrike" u="sng">
                <a:solidFill>
                  <a:srgbClr val="953735"/>
                </a:solidFill>
                <a:uFillTx/>
                <a:latin typeface="Calibri"/>
              </a:rPr>
              <a:t>Тема: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«ПРИРОДА ДАЛЬНЕГО ВОСТОКА»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2800" spc="-1" strike="noStrike">
                <a:solidFill>
                  <a:srgbClr val="953735"/>
                </a:solidFill>
                <a:latin typeface="Calibri"/>
              </a:rPr>
              <a:t>Учитель: Бычкова Т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E38-5CD3-4AFE-AF4D-1C93DB866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13913"/>
          <p:cNvPicPr/>
          <p:nvPr/>
        </p:nvPicPr>
        <p:blipFill>
          <a:blip r:embed="rId1"/>
          <a:stretch/>
        </p:blipFill>
        <p:spPr>
          <a:xfrm rot="21157800">
            <a:off x="163080" y="154080"/>
            <a:ext cx="2973600" cy="193500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65" name="Picture 9" descr="competition_42862"/>
          <p:cNvPicPr/>
          <p:nvPr/>
        </p:nvPicPr>
        <p:blipFill>
          <a:blip r:embed="rId2"/>
          <a:stretch/>
        </p:blipFill>
        <p:spPr>
          <a:xfrm rot="20590200">
            <a:off x="711360" y="4487400"/>
            <a:ext cx="3724200" cy="179244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9280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Цель урока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особен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ы Дальневосточного региона РФ.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Задачи урок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формировать представления и знания об особенностях природы Дальнего Востока, показать уникальность природы этого регио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звивать речевую активность, умение самостоятельно добывать знания из различных источников информаци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оспитывать патриотизм, чувство прекрасного, любовь к природ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7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4C7-72C7-4393-BD84-CFC0D76A3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669000"/>
        </p:xfrm>
        <a:graphic>
          <a:graphicData uri="http://schemas.openxmlformats.org/drawingml/2006/table">
            <a:tbl>
              <a:tblPr/>
              <a:tblGrid>
                <a:gridCol w="950760"/>
                <a:gridCol w="917640"/>
                <a:gridCol w="1057320"/>
                <a:gridCol w="916200"/>
                <a:gridCol w="1058760"/>
                <a:gridCol w="633240"/>
                <a:gridCol w="635040"/>
                <a:gridCol w="692280"/>
                <a:gridCol w="1049400"/>
                <a:gridCol w="593640"/>
                <a:gridCol w="639720"/>
              </a:tblGrid>
              <a:tr h="341280"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остав Д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ЭГ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Тектоническое строение и рельеф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ли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нутренние в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Органический м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р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селе-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укот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наг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/о Камча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орь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1520"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орский, Камчатский и Хабаровский края, Амурская, Магаданская, Сахалинская области, Еврейская автономная область, Чукотский автономный окру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режное положение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вытянутость (4500 км) с северо-востока на юго-запа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составе имеет материковую, островную,         полуостровную част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е тер-рии находятся за полярным кругом, а южные - на широте Итали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Захар\Мои документы\Мои рисунки\Новый рисунок (2).jpg"/>
          <p:cNvPicPr/>
          <p:nvPr/>
        </p:nvPicPr>
        <p:blipFill>
          <a:blip r:embed="rId1"/>
          <a:stretch/>
        </p:blipFill>
        <p:spPr>
          <a:xfrm>
            <a:off x="-252360" y="-243000"/>
            <a:ext cx="96296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5286240" y="57168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ейзеры Камч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9" descr="start"/>
          <p:cNvPicPr/>
          <p:nvPr/>
        </p:nvPicPr>
        <p:blipFill>
          <a:blip r:embed="rId1"/>
          <a:stretch/>
        </p:blipFill>
        <p:spPr>
          <a:xfrm>
            <a:off x="4356000" y="2852640"/>
            <a:ext cx="4788000" cy="4005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2"/>
          <p:cNvPicPr/>
          <p:nvPr/>
        </p:nvPicPr>
        <p:blipFill>
          <a:blip r:embed="rId2"/>
          <a:stretch/>
        </p:blipFill>
        <p:spPr>
          <a:xfrm>
            <a:off x="0" y="0"/>
            <a:ext cx="5219640" cy="3716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35280" y="228240"/>
            <a:ext cx="370836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Муссонная циркуляция атмосф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Захар\Мои документы\Мои рисунки\Новый рисунок (2)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4214880" y="107172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ки Дальнего Вост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29:02Z</dcterms:created>
  <dc:creator>1</dc:creator>
  <dc:description/>
  <dc:language>en-US</dc:language>
  <cp:lastModifiedBy>Home</cp:lastModifiedBy>
  <dcterms:modified xsi:type="dcterms:W3CDTF">2019-03-05T19:15:57Z</dcterms:modified>
  <cp:revision>161</cp:revision>
  <dc:subject/>
  <dc:title>Санкт-Петербург Северная Столица</dc:title>
</cp:coreProperties>
</file>