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5B98-D06D-473C-B9DF-4E366276A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167C-B60E-48D1-941C-FB0D351A4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A3BE-D3CE-4076-8C1D-7EB72DE92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D29D-6249-4AD4-A1CA-199926CC15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FCD2-1D09-4806-9DED-E4283739ED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A08E-DD6D-49D3-B3BF-26C6C65DF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2BE0-910E-47E6-9B2E-4B6FEAF02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69AA-4AA3-4838-8784-8D9269323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1DAE-254B-497B-9DDA-BA92C15FA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A19B-88EB-45BE-B4D6-2D68D1969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CCAF-247C-46AE-AF77-A2E7D7716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7FD0-6F96-4436-9C2E-E79DDFCEE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85F04C-9C06-432F-9366-64AF3CFC83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28800" y="274680"/>
            <a:ext cx="4876920" cy="5440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74680"/>
            <a:ext cx="7924680" cy="53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события происходили на Руси с приходом Христианст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Что пришло на Русь в этот перио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Что появилось на Рус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Кто принёс  на Русь азбуку и книг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80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нязь Владими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541520"/>
            <a:ext cx="75438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988 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52480" y="1371600"/>
            <a:ext cx="2971800" cy="444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143000"/>
            <a:ext cx="82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акие события происходили на Руси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 приходом христианст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17480" y="1798560"/>
            <a:ext cx="3854520" cy="2011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38080" y="3976560"/>
            <a:ext cx="355464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952880" y="1798560"/>
            <a:ext cx="3353040" cy="2011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952880" y="3976560"/>
            <a:ext cx="355464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85920" y="762120"/>
            <a:ext cx="6572160" cy="4910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846000"/>
            <a:ext cx="723888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534520" y="1600200"/>
            <a:ext cx="152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28880" y="2157480"/>
            <a:ext cx="1629000" cy="14572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изменилось с принятием христианства на Рус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41840" y="609480"/>
            <a:ext cx="1619280" cy="138132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ение азбуки и кни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86320" y="1417680"/>
            <a:ext cx="1636920" cy="14778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ие школ (образование письмен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55880" y="3828960"/>
            <a:ext cx="1619280" cy="15526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есковая живоп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1265400"/>
            <a:ext cx="1619280" cy="155232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а в единого Бо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3017880"/>
            <a:ext cx="1619280" cy="15526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на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03960" y="3124080"/>
            <a:ext cx="1619280" cy="15526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мовое 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438280"/>
            <a:ext cx="1764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51480" y="1990800"/>
            <a:ext cx="144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75440" y="3119400"/>
            <a:ext cx="32040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505320" y="3277800"/>
            <a:ext cx="299880" cy="1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545000" y="1990800"/>
            <a:ext cx="792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335560" y="2546280"/>
            <a:ext cx="10152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565520" y="3616200"/>
            <a:ext cx="648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36280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Я желаю вам успехов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и Божьей помощ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57150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 Михайлович Васнецов «Крещение Рус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76320"/>
            <a:ext cx="5054760" cy="5638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положит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ему уро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ак Христианств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шло на Рус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ещени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Человек погружается в вод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 призывом Бога и надежд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 его помощь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д крещением понимают принятие христианской веры, православной, присоединение к Церкв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19320" y="701640"/>
            <a:ext cx="685800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6858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божие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а в разных Б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981080" y="2362320"/>
            <a:ext cx="5486400" cy="35049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3000" y="365040"/>
          <a:ext cx="7544880" cy="4817880"/>
        </p:xfrm>
        <a:graphic>
          <a:graphicData uri="http://schemas.openxmlformats.org/drawingml/2006/table">
            <a:tbl>
              <a:tblPr/>
              <a:tblGrid>
                <a:gridCol w="3810600"/>
                <a:gridCol w="1867320"/>
                <a:gridCol w="186696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чало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ю (+),     не знаю (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ец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ю (+) , не знаю (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Откуда и когда христианство пришло на Рус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Какой правитель помог изменить старую веру в нашем государстве на православную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Почему была выбрана эта вер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Кто повлиял на этот выбор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 Какое значение имело принятие христианства на Рус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4105440" y="7416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685800"/>
            <a:ext cx="7696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авила работы в малых групп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c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разговоре участвует кажд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c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ить спокойно и яс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c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ить только по дел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c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говорить  всем сраз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c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гировать жестами и знак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c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ражая или соглашаясь, смотреть на говорящ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c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щаться друг к другу по и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/>
  <dcterms:modified xsi:type="dcterms:W3CDTF">2024-11-05T16:08:41Z</dcterms:modified>
  <cp:revision>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