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29.jpeg" ContentType="image/jpeg"/>
  <Override PartName="/ppt/media/image24.png" ContentType="image/pn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7EFB-2445-4DD3-84FA-27090B86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544-EF73-48CA-B747-B2169DA6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80E-CB25-4D33-AA69-16587FB6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C00-03CE-464C-B835-A73B05AF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3DA20-EA81-4062-B640-DFCF5B94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EE21F-AD22-40D4-818E-473A35D9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EAF29-F2D3-4A79-B4FC-0335031E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9BAD5-D2FC-4DB2-8A99-26D956A7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383AE-4871-4399-9307-BCBBB490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EAEC2-3D26-4869-BA69-953C629F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96111-55F6-4BE9-BD20-1A94740A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2D9-D489-425F-A88E-91CD6666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EB535-93FD-416C-9679-30DB66FA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5C8D9-10AA-44DF-88CC-E9AA0E86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B255A-B6D0-4D7E-9F7B-0A82ECA0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87A46-1430-44CD-AA44-17E03AD0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7CA3B-386B-4472-BEC7-C5465397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367-F7D1-45A6-888F-AB556147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EA6-7ACC-42F3-BD39-C5725E7C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587-7D26-428A-BBC4-41EEE542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C96-9F6F-4678-B20C-C3CFFD09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6C9-AFDD-4FB6-B00E-6188BF70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863-1350-4F40-87D4-F6DC723F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E84-046D-4766-A6E6-EB62D9E4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3067-3B1D-4687-8DC0-D179800BE4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1707-238B-498F-BBAC-4BC4416C8C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1080" y="259920"/>
            <a:ext cx="4822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2" descr="C:\Documents and Settings\Admin\Рабочий стол\05nil047i.bmp"/>
          <p:cNvPicPr/>
          <p:nvPr/>
        </p:nvPicPr>
        <p:blipFill>
          <a:blip r:embed="rId1"/>
          <a:stretch/>
        </p:blipFill>
        <p:spPr>
          <a:xfrm>
            <a:off x="17640" y="2214720"/>
            <a:ext cx="3850920" cy="28749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85" name="Picture 3" descr="C:\Documents and Settings\Admin\Рабочий стол\BE50019i.bmp"/>
          <p:cNvPicPr/>
          <p:nvPr/>
        </p:nvPicPr>
        <p:blipFill>
          <a:blip r:embed="rId2"/>
          <a:stretch/>
        </p:blipFill>
        <p:spPr>
          <a:xfrm>
            <a:off x="5724360" y="-19080"/>
            <a:ext cx="3419640" cy="25542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86" name="Прямоугольник 5"/>
          <p:cNvSpPr/>
          <p:nvPr/>
        </p:nvSpPr>
        <p:spPr>
          <a:xfrm>
            <a:off x="0" y="250920"/>
            <a:ext cx="5845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714"/>
                </a:solidFill>
                <a:latin typeface="Book Antiqua"/>
              </a:rPr>
              <a:t>Тема урока</a:t>
            </a:r>
            <a:br>
              <a:rPr sz="4400"/>
            </a:br>
            <a:r>
              <a:rPr b="0" lang="ru-RU" sz="4800" spc="-1" strike="noStrike">
                <a:solidFill>
                  <a:srgbClr val="0659ff"/>
                </a:solidFill>
                <a:latin typeface="Book Antiqua"/>
              </a:rPr>
              <a:t>ОЗЁРА и БОЛОТ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851280" y="2782800"/>
            <a:ext cx="5178600" cy="3670560"/>
          </a:xfrm>
          <a:prstGeom prst="rect">
            <a:avLst/>
          </a:prstGeom>
          <a:solidFill>
            <a:srgbClr val="be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61616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Цели и задач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61616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сформировать   общее представление об озерах и их происхождении, о типах озерных котловин, бессточных и сточных озёрах, о болот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61616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ознакомиться с крупнейшими озёрами мира, России и Тверской обла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61616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одолжать формировать умение выделять главное в тексте, показывать воды гидросферы на карте, работать с контурной карт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5F7D-4F0D-482A-A0C1-4B12F9B138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0" y="5572080"/>
            <a:ext cx="37148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714"/>
                </a:solidFill>
                <a:latin typeface="Times New Roman"/>
                <a:ea typeface="Times New Roman"/>
              </a:rPr>
              <a:t>Курганова Л.М.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714"/>
                </a:solidFill>
                <a:latin typeface="Times New Roman"/>
                <a:ea typeface="Times New Roman"/>
              </a:rPr>
              <a:t>учитель географ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714"/>
                </a:solidFill>
                <a:latin typeface="Times New Roman"/>
                <a:ea typeface="Times New Roman"/>
              </a:rPr>
              <a:t>МОУ Большекошинская со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Заголовок 1"/>
          <p:cNvSpPr/>
          <p:nvPr/>
        </p:nvSpPr>
        <p:spPr>
          <a:xfrm>
            <a:off x="468360" y="1260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оисхождение озёрных котлов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24"/>
          <p:cNvSpPr/>
          <p:nvPr/>
        </p:nvSpPr>
        <p:spPr>
          <a:xfrm>
            <a:off x="490680" y="765000"/>
            <a:ext cx="3738600" cy="863640"/>
          </a:xfrm>
          <a:prstGeom prst="bevel">
            <a:avLst>
              <a:gd name="adj" fmla="val 12500"/>
            </a:avLst>
          </a:prstGeom>
          <a:solidFill>
            <a:srgbClr val="be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imes New Roman"/>
              </a:rPr>
              <a:t>Стариц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25"/>
          <p:cNvSpPr/>
          <p:nvPr/>
        </p:nvSpPr>
        <p:spPr>
          <a:xfrm>
            <a:off x="5219640" y="1092240"/>
            <a:ext cx="3774960" cy="1544760"/>
          </a:xfrm>
          <a:prstGeom prst="roundRect">
            <a:avLst>
              <a:gd name="adj" fmla="val 16667"/>
            </a:avLst>
          </a:prstGeom>
          <a:solidFill>
            <a:srgbClr val="bed4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Старицы – мелкие озёр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образовали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в поймах р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4628"/>
          <p:cNvPicPr/>
          <p:nvPr/>
        </p:nvPicPr>
        <p:blipFill>
          <a:blip r:embed="rId1"/>
          <a:stretch/>
        </p:blipFill>
        <p:spPr>
          <a:xfrm>
            <a:off x="147600" y="1865160"/>
            <a:ext cx="4781520" cy="384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4960800" y="2637000"/>
            <a:ext cx="4033800" cy="3946320"/>
          </a:xfrm>
          <a:prstGeom prst="rect">
            <a:avLst/>
          </a:prstGeom>
          <a:ln w="0">
            <a:noFill/>
          </a:ln>
        </p:spPr>
      </p:pic>
      <p:sp>
        <p:nvSpPr>
          <p:cNvPr id="158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18E9-9829-4EBA-8644-FEAECFDF86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Типы</a:t>
            </a:r>
            <a:r>
              <a:rPr b="1" lang="ru-RU" sz="3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озер по происхождени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125360"/>
          <a:ext cx="7848720" cy="5146920"/>
        </p:xfrm>
        <a:graphic>
          <a:graphicData uri="http://schemas.openxmlformats.org/drawingml/2006/table">
            <a:tbl>
              <a:tblPr/>
              <a:tblGrid>
                <a:gridCol w="2952720"/>
                <a:gridCol w="489600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Происхождение  котловин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Примеры озе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тектон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оз. Байкал, оз. Танганьика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оз. Ньяса , оз. Титика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остаточ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оз. Каспийское, оз. Аральско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вулкан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оз. Кроноцкое, оз. Курильс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ледников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оз. Ладожское, оз. Онежское, Великие озё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запруд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оз. Сарезс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карстов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стар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B192-C9EF-42C3-98AE-3C9AB5A418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Мёртвое море1"/>
          <p:cNvPicPr/>
          <p:nvPr/>
        </p:nvPicPr>
        <p:blipFill>
          <a:blip r:embed="rId1"/>
          <a:stretch/>
        </p:blipFill>
        <p:spPr>
          <a:xfrm>
            <a:off x="4716360" y="1052640"/>
            <a:ext cx="4267440" cy="3240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Мёртвое море - озер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24"/>
          <p:cNvSpPr/>
          <p:nvPr/>
        </p:nvSpPr>
        <p:spPr>
          <a:xfrm>
            <a:off x="642960" y="4500720"/>
            <a:ext cx="7858080" cy="1357200"/>
          </a:xfrm>
          <a:prstGeom prst="bevel">
            <a:avLst>
              <a:gd name="adj" fmla="val 12500"/>
            </a:avLst>
          </a:prstGeom>
          <a:solidFill>
            <a:srgbClr val="be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 этом море невозможно  утону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E70B-7868-4BA2-A5D2-F3FA90D1BB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9" descr="http://lifeglobe.net/x/entry/3435/6.jpg"/>
          <p:cNvPicPr/>
          <p:nvPr/>
        </p:nvPicPr>
        <p:blipFill>
          <a:blip r:embed="rId2"/>
          <a:stretch/>
        </p:blipFill>
        <p:spPr>
          <a:xfrm>
            <a:off x="0" y="1071720"/>
            <a:ext cx="4643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4320" y="380520"/>
            <a:ext cx="850248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Схемы </a:t>
            </a:r>
            <a:br>
              <a:rPr sz="4000"/>
            </a:b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сточных и бессточных оз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03280" y="4808520"/>
          <a:ext cx="8137440" cy="51768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517680">
                <a:tc>
                  <a:txBody>
                    <a:bodyPr tIns="45360" bIns="45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                        2                       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1800" y="1009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21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20" descr=""/>
          <p:cNvPicPr/>
          <p:nvPr/>
        </p:nvPicPr>
        <p:blipFill>
          <a:blip r:embed="rId1"/>
          <a:stretch/>
        </p:blipFill>
        <p:spPr>
          <a:xfrm>
            <a:off x="3460680" y="2048040"/>
            <a:ext cx="2657520" cy="270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0" y="2471760"/>
          <a:ext cx="208080" cy="10000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1000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32"/>
          <p:cNvSpPr/>
          <p:nvPr/>
        </p:nvSpPr>
        <p:spPr>
          <a:xfrm>
            <a:off x="1800" y="3471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34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33" descr=""/>
          <p:cNvPicPr/>
          <p:nvPr/>
        </p:nvPicPr>
        <p:blipFill>
          <a:blip r:embed="rId2"/>
          <a:stretch/>
        </p:blipFill>
        <p:spPr>
          <a:xfrm>
            <a:off x="6227640" y="2077920"/>
            <a:ext cx="2573640" cy="264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0" y="2476440"/>
          <a:ext cx="208080" cy="9907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9907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45"/>
          <p:cNvSpPr/>
          <p:nvPr/>
        </p:nvSpPr>
        <p:spPr>
          <a:xfrm>
            <a:off x="1800" y="3466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47"/>
          <p:cNvSpPr/>
          <p:nvPr/>
        </p:nvSpPr>
        <p:spPr>
          <a:xfrm>
            <a:off x="457200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6" descr=""/>
          <p:cNvPicPr/>
          <p:nvPr/>
        </p:nvPicPr>
        <p:blipFill>
          <a:blip r:embed="rId3"/>
          <a:stretch/>
        </p:blipFill>
        <p:spPr>
          <a:xfrm>
            <a:off x="331920" y="2109960"/>
            <a:ext cx="2982960" cy="258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0" y="2511360"/>
          <a:ext cx="208080" cy="9190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919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Rectangle 58"/>
          <p:cNvSpPr/>
          <p:nvPr/>
        </p:nvSpPr>
        <p:spPr>
          <a:xfrm>
            <a:off x="1800" y="3430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24"/>
          <p:cNvSpPr/>
          <p:nvPr/>
        </p:nvSpPr>
        <p:spPr>
          <a:xfrm>
            <a:off x="568440" y="5335560"/>
            <a:ext cx="2511360" cy="863640"/>
          </a:xfrm>
          <a:prstGeom prst="bevel">
            <a:avLst>
              <a:gd name="adj" fmla="val 12500"/>
            </a:avLst>
          </a:prstGeom>
          <a:solidFill>
            <a:srgbClr val="be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imes New Roman"/>
              </a:rPr>
              <a:t>сточ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24"/>
          <p:cNvSpPr/>
          <p:nvPr/>
        </p:nvSpPr>
        <p:spPr>
          <a:xfrm>
            <a:off x="3460680" y="5335560"/>
            <a:ext cx="2511360" cy="863640"/>
          </a:xfrm>
          <a:prstGeom prst="bevel">
            <a:avLst>
              <a:gd name="adj" fmla="val 12500"/>
            </a:avLst>
          </a:prstGeom>
          <a:solidFill>
            <a:srgbClr val="be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imes New Roman"/>
              </a:rPr>
              <a:t>сточ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24"/>
          <p:cNvSpPr/>
          <p:nvPr/>
        </p:nvSpPr>
        <p:spPr>
          <a:xfrm>
            <a:off x="6283440" y="5335560"/>
            <a:ext cx="2511360" cy="863640"/>
          </a:xfrm>
          <a:prstGeom prst="bevel">
            <a:avLst>
              <a:gd name="adj" fmla="val 12500"/>
            </a:avLst>
          </a:prstGeom>
          <a:solidFill>
            <a:srgbClr val="be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imes New Roman"/>
              </a:rPr>
              <a:t>бессточ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Номер слайда 2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B5A6-C943-4AFD-9FFB-7C42EDE3B1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Нижний колонтитул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50920" y="1484280"/>
          <a:ext cx="8534160" cy="5273640"/>
        </p:xfrm>
        <a:graphic>
          <a:graphicData uri="http://schemas.openxmlformats.org/drawingml/2006/table">
            <a:tbl>
              <a:tblPr/>
              <a:tblGrid>
                <a:gridCol w="8534160"/>
              </a:tblGrid>
              <a:tr h="73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1. § 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. № 7 (к/к), №8 (озеро Виктория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9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ru-RU" sz="2800" spc="-1" strike="noStrike" u="sng">
                          <a:solidFill>
                            <a:srgbClr val="161616"/>
                          </a:solidFill>
                          <a:uFillTx/>
                          <a:latin typeface="Times New Roman"/>
                          <a:ea typeface="Times New Roman"/>
                        </a:rPr>
                        <a:t>Дополнительно: </a:t>
                      </a:r>
                      <a:r>
                        <a:rPr b="1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Сообщения о озере или болот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2ADA-089C-4C2E-BAA2-CAA5341084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611280" y="1844640"/>
            <a:ext cx="8064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Times New Roman"/>
              </a:rPr>
              <a:t>Спасибо за работу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D338-D586-4149-86DC-919B0789B5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E4C9-59F8-46B7-A901-C9FF7B834A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250920" y="620640"/>
            <a:ext cx="8137440" cy="35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714"/>
                </a:solidFill>
                <a:latin typeface="Times New Roman"/>
                <a:ea typeface="Calibri"/>
              </a:rPr>
              <a:t>Используемая  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714"/>
                </a:solidFill>
                <a:latin typeface="Times New Roman"/>
                <a:ea typeface="Times New Roman"/>
              </a:rPr>
              <a:t>Базовый учебник: Серия «Полярная звезда»: А.И. Алексеев, В.В. Николина, Е.К. Липкина, География 5-6 классы/ М: Просвещение, 2023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714"/>
                </a:solidFill>
                <a:latin typeface="Times New Roman"/>
                <a:ea typeface="Times New Roman"/>
              </a:rPr>
              <a:t>Поурочное планирование География 6 клас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714"/>
                </a:solidFill>
                <a:latin typeface="Times New Roman"/>
                <a:ea typeface="Times New Roman"/>
              </a:rPr>
              <a:t>Рабочая программ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714"/>
                </a:solidFill>
                <a:latin typeface="Times New Roman"/>
                <a:ea typeface="Times New Roman"/>
              </a:rPr>
              <a:t>Интернет ресурсы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714"/>
                </a:solidFill>
                <a:latin typeface="Times New Roman"/>
                <a:ea typeface="Times New Roman"/>
              </a:rPr>
              <a:t>Современная школьная энциклопедия «География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Чем озеро отличается от мор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Чем озеро отличается от рек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2600280" y="2997360"/>
            <a:ext cx="394344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250920" y="5586480"/>
            <a:ext cx="4492440" cy="1222200"/>
          </a:xfrm>
          <a:prstGeom prst="rect">
            <a:avLst/>
          </a:prstGeom>
          <a:solidFill>
            <a:srgbClr val="be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170640" tIns="170640" bIns="0" anchor="t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аспийское море –озеро </a:t>
            </a:r>
            <a:r>
              <a:rPr b="0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– самое большое озеро на Земле (площадь -376 тыс. км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5000760" y="5646600"/>
            <a:ext cx="3528720" cy="1191240"/>
          </a:xfrm>
          <a:prstGeom prst="rect">
            <a:avLst/>
          </a:prstGeom>
          <a:solidFill>
            <a:srgbClr val="be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озеро Байкал</a:t>
            </a:r>
            <a:r>
              <a:rPr b="0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самое глубоко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озеро планеты – 1620 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95280" y="1854360"/>
            <a:ext cx="8424720" cy="459720"/>
          </a:xfrm>
          <a:prstGeom prst="rect">
            <a:avLst/>
          </a:prstGeom>
          <a:solidFill>
            <a:srgbClr val="be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лощадь озёр Земли – 2,7 млн. км. кв. (1,8 % суш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3665520" cy="3216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Каспийское море 2"/>
          <p:cNvPicPr/>
          <p:nvPr/>
        </p:nvPicPr>
        <p:blipFill>
          <a:blip r:embed="rId2"/>
          <a:stretch/>
        </p:blipFill>
        <p:spPr>
          <a:xfrm>
            <a:off x="250920" y="2492280"/>
            <a:ext cx="4492440" cy="31449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8"/>
          <p:cNvSpPr/>
          <p:nvPr/>
        </p:nvSpPr>
        <p:spPr>
          <a:xfrm>
            <a:off x="928800" y="135720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Озеро в отличии от моря, не является частью оке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9"/>
          <p:cNvSpPr/>
          <p:nvPr/>
        </p:nvSpPr>
        <p:spPr>
          <a:xfrm>
            <a:off x="428760" y="50004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Река течёт по руслу, а озеро замкнутый водоё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64D6-A467-42BC-9DE5-729C699229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Типы</a:t>
            </a:r>
            <a:r>
              <a:rPr b="1" lang="ru-RU" sz="3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озёр по происхождени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413000"/>
          <a:ext cx="8136000" cy="4824360"/>
        </p:xfrm>
        <a:graphic>
          <a:graphicData uri="http://schemas.openxmlformats.org/drawingml/2006/table">
            <a:tbl>
              <a:tblPr/>
              <a:tblGrid>
                <a:gridCol w="3146400"/>
                <a:gridCol w="4989600"/>
              </a:tblGrid>
              <a:tr h="1014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Происхождение  котловин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Примеры озе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56CB-9A08-45EB-A786-AFD688795B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0" descr="Новый рисунок (4)"/>
          <p:cNvPicPr/>
          <p:nvPr/>
        </p:nvPicPr>
        <p:blipFill>
          <a:blip r:embed="rId1"/>
          <a:stretch/>
        </p:blipFill>
        <p:spPr>
          <a:xfrm>
            <a:off x="4510080" y="2492280"/>
            <a:ext cx="4417920" cy="4176720"/>
          </a:xfrm>
          <a:prstGeom prst="rect">
            <a:avLst/>
          </a:prstGeom>
          <a:ln w="0">
            <a:noFill/>
          </a:ln>
        </p:spPr>
      </p:pic>
      <p:pic>
        <p:nvPicPr>
          <p:cNvPr id="106" name="AutoShape 31" descr=""/>
          <p:cNvPicPr/>
          <p:nvPr/>
        </p:nvPicPr>
        <p:blipFill>
          <a:blip r:embed="rId2"/>
          <a:stretch/>
        </p:blipFill>
        <p:spPr>
          <a:xfrm>
            <a:off x="6851520" y="270036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107" name="Заголовок 1"/>
          <p:cNvSpPr/>
          <p:nvPr/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оисхождение озёрных котлов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AutoShape 25" descr=""/>
          <p:cNvPicPr/>
          <p:nvPr/>
        </p:nvPicPr>
        <p:blipFill>
          <a:blip r:embed="rId3"/>
          <a:stretch/>
        </p:blipFill>
        <p:spPr>
          <a:xfrm>
            <a:off x="4906800" y="969840"/>
            <a:ext cx="3767400" cy="13766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24"/>
          <p:cNvSpPr/>
          <p:nvPr/>
        </p:nvSpPr>
        <p:spPr>
          <a:xfrm>
            <a:off x="149400" y="981000"/>
            <a:ext cx="4033800" cy="792360"/>
          </a:xfrm>
          <a:prstGeom prst="bevel">
            <a:avLst>
              <a:gd name="adj" fmla="val 12500"/>
            </a:avLst>
          </a:prstGeom>
          <a:solidFill>
            <a:srgbClr val="be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imes New Roman"/>
              </a:rPr>
              <a:t>Тектоническ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AutoShape 25" descr=""/>
          <p:cNvPicPr/>
          <p:nvPr/>
        </p:nvPicPr>
        <p:blipFill>
          <a:blip r:embed="rId4"/>
          <a:stretch/>
        </p:blipFill>
        <p:spPr>
          <a:xfrm>
            <a:off x="646200" y="4138560"/>
            <a:ext cx="3035160" cy="2567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5"/>
          <a:stretch/>
        </p:blipFill>
        <p:spPr>
          <a:xfrm>
            <a:off x="330120" y="1871640"/>
            <a:ext cx="367200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00B7-CFBC-4B24-9D54-E8B171E6BD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Заголовок 1"/>
          <p:cNvSpPr/>
          <p:nvPr/>
        </p:nvSpPr>
        <p:spPr>
          <a:xfrm>
            <a:off x="468360" y="1260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оисхождение озёрных котлов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24"/>
          <p:cNvSpPr/>
          <p:nvPr/>
        </p:nvSpPr>
        <p:spPr>
          <a:xfrm>
            <a:off x="371520" y="1068480"/>
            <a:ext cx="4032360" cy="863640"/>
          </a:xfrm>
          <a:prstGeom prst="bevel">
            <a:avLst>
              <a:gd name="adj" fmla="val 12500"/>
            </a:avLst>
          </a:prstGeom>
          <a:solidFill>
            <a:srgbClr val="be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imes New Roman"/>
              </a:rPr>
              <a:t>Вулканическ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54000" y="5114880"/>
            <a:ext cx="4667400" cy="765360"/>
          </a:xfrm>
          <a:prstGeom prst="bevel">
            <a:avLst>
              <a:gd name="adj" fmla="val 12500"/>
            </a:avLst>
          </a:prstGeom>
          <a:solidFill>
            <a:srgbClr val="bed4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оз. Кроноцкое, оз. Куриль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kamchatka"/>
          <p:cNvPicPr/>
          <p:nvPr/>
        </p:nvPicPr>
        <p:blipFill>
          <a:blip r:embed="rId1"/>
          <a:stretch/>
        </p:blipFill>
        <p:spPr>
          <a:xfrm>
            <a:off x="4811760" y="3843360"/>
            <a:ext cx="4076640" cy="2992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12534_b"/>
          <p:cNvPicPr/>
          <p:nvPr/>
        </p:nvPicPr>
        <p:blipFill>
          <a:blip r:embed="rId2"/>
          <a:stretch/>
        </p:blipFill>
        <p:spPr>
          <a:xfrm>
            <a:off x="4811760" y="849240"/>
            <a:ext cx="4140000" cy="2960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620640" y="2260440"/>
            <a:ext cx="3533760" cy="2346480"/>
          </a:xfrm>
          <a:prstGeom prst="rect">
            <a:avLst/>
          </a:prstGeom>
          <a:ln w="0">
            <a:noFill/>
          </a:ln>
        </p:spPr>
      </p:pic>
      <p:sp>
        <p:nvSpPr>
          <p:cNvPr id="120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520F-C638-4D9D-9EFE-DBF56F7668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5" descr="Каспийское море"/>
          <p:cNvPicPr/>
          <p:nvPr/>
        </p:nvPicPr>
        <p:blipFill>
          <a:blip r:embed="rId1"/>
          <a:stretch/>
        </p:blipFill>
        <p:spPr>
          <a:xfrm>
            <a:off x="287280" y="2781360"/>
            <a:ext cx="3836880" cy="31687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32"/>
          <p:cNvSpPr/>
          <p:nvPr/>
        </p:nvSpPr>
        <p:spPr>
          <a:xfrm>
            <a:off x="836640" y="1989000"/>
            <a:ext cx="2736720" cy="649440"/>
          </a:xfrm>
          <a:prstGeom prst="bevel">
            <a:avLst>
              <a:gd name="adj" fmla="val 12500"/>
            </a:avLst>
          </a:prstGeom>
          <a:solidFill>
            <a:srgbClr val="bed4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Каспийское озе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33"/>
          <p:cNvSpPr/>
          <p:nvPr/>
        </p:nvSpPr>
        <p:spPr>
          <a:xfrm>
            <a:off x="4824360" y="5103720"/>
            <a:ext cx="3024360" cy="649440"/>
          </a:xfrm>
          <a:prstGeom prst="bevel">
            <a:avLst>
              <a:gd name="adj" fmla="val 12500"/>
            </a:avLst>
          </a:prstGeom>
          <a:solidFill>
            <a:srgbClr val="bed4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Аральское озе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36" descr="Аральское море 1"/>
          <p:cNvPicPr/>
          <p:nvPr/>
        </p:nvPicPr>
        <p:blipFill>
          <a:blip r:embed="rId2"/>
          <a:stretch/>
        </p:blipFill>
        <p:spPr>
          <a:xfrm>
            <a:off x="4319640" y="1989000"/>
            <a:ext cx="4033800" cy="2880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оисхождение озёрных котлов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24"/>
          <p:cNvSpPr/>
          <p:nvPr/>
        </p:nvSpPr>
        <p:spPr>
          <a:xfrm>
            <a:off x="2554200" y="836640"/>
            <a:ext cx="4033800" cy="863640"/>
          </a:xfrm>
          <a:prstGeom prst="bevel">
            <a:avLst>
              <a:gd name="adj" fmla="val 12500"/>
            </a:avLst>
          </a:prstGeom>
          <a:solidFill>
            <a:srgbClr val="be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imes New Roman"/>
              </a:rPr>
              <a:t>Остаточ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D81D-2FB6-4DD0-BD9B-85A3837B1F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1" descr="Онежское озеро"/>
          <p:cNvPicPr/>
          <p:nvPr/>
        </p:nvPicPr>
        <p:blipFill>
          <a:blip r:embed="rId1"/>
          <a:stretch/>
        </p:blipFill>
        <p:spPr>
          <a:xfrm>
            <a:off x="190440" y="2349360"/>
            <a:ext cx="4392720" cy="352296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0"/>
          <p:cNvSpPr/>
          <p:nvPr/>
        </p:nvSpPr>
        <p:spPr>
          <a:xfrm>
            <a:off x="190440" y="5872320"/>
            <a:ext cx="4392720" cy="885600"/>
          </a:xfrm>
          <a:prstGeom prst="bevel">
            <a:avLst>
              <a:gd name="adj" fmla="val 12500"/>
            </a:avLst>
          </a:prstGeom>
          <a:solidFill>
            <a:srgbClr val="bed4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оз. Ладожское, оз. Онежско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Великие озё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AutoShape 24"/>
          <p:cNvSpPr/>
          <p:nvPr/>
        </p:nvSpPr>
        <p:spPr>
          <a:xfrm>
            <a:off x="366840" y="915840"/>
            <a:ext cx="4032000" cy="793800"/>
          </a:xfrm>
          <a:prstGeom prst="bevel">
            <a:avLst>
              <a:gd name="adj" fmla="val 12500"/>
            </a:avLst>
          </a:prstGeom>
          <a:solidFill>
            <a:srgbClr val="be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imes New Roman"/>
              </a:rPr>
              <a:t>Ледников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468360" y="1260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оисхождение озёрных котлов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9" descr=""/>
          <p:cNvPicPr/>
          <p:nvPr/>
        </p:nvPicPr>
        <p:blipFill>
          <a:blip r:embed="rId2"/>
          <a:stretch/>
        </p:blipFill>
        <p:spPr>
          <a:xfrm>
            <a:off x="5146560" y="1709640"/>
            <a:ext cx="3997440" cy="4599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25"/>
          <p:cNvSpPr/>
          <p:nvPr/>
        </p:nvSpPr>
        <p:spPr>
          <a:xfrm>
            <a:off x="4772160" y="905040"/>
            <a:ext cx="4032000" cy="1515960"/>
          </a:xfrm>
          <a:prstGeom prst="roundRect">
            <a:avLst>
              <a:gd name="adj" fmla="val 16667"/>
            </a:avLst>
          </a:prstGeom>
          <a:solidFill>
            <a:srgbClr val="bed4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Озёра, образующие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в результат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деятельности лед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D21E-5D63-4DE5-9AF9-9337B2BFA5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Заголовок 1"/>
          <p:cNvSpPr/>
          <p:nvPr/>
        </p:nvSpPr>
        <p:spPr>
          <a:xfrm>
            <a:off x="468360" y="1260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оисхождение озёрных котлов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24"/>
          <p:cNvSpPr/>
          <p:nvPr/>
        </p:nvSpPr>
        <p:spPr>
          <a:xfrm>
            <a:off x="608040" y="1092240"/>
            <a:ext cx="4032360" cy="896760"/>
          </a:xfrm>
          <a:prstGeom prst="bevel">
            <a:avLst>
              <a:gd name="adj" fmla="val 12500"/>
            </a:avLst>
          </a:prstGeom>
          <a:solidFill>
            <a:srgbClr val="be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imes New Roman"/>
              </a:rPr>
              <a:t>Запруд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AutoShape 25" descr=""/>
          <p:cNvPicPr/>
          <p:nvPr/>
        </p:nvPicPr>
        <p:blipFill>
          <a:blip r:embed="rId1"/>
          <a:stretch/>
        </p:blipFill>
        <p:spPr>
          <a:xfrm>
            <a:off x="4956120" y="1085760"/>
            <a:ext cx="4041720" cy="1444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Сарезское озеро"/>
          <p:cNvPicPr/>
          <p:nvPr/>
        </p:nvPicPr>
        <p:blipFill>
          <a:blip r:embed="rId2"/>
          <a:stretch/>
        </p:blipFill>
        <p:spPr>
          <a:xfrm>
            <a:off x="4616280" y="2859120"/>
            <a:ext cx="4537080" cy="36464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0"/>
          <p:cNvSpPr/>
          <p:nvPr/>
        </p:nvSpPr>
        <p:spPr>
          <a:xfrm>
            <a:off x="1117440" y="6138720"/>
            <a:ext cx="2868840" cy="765360"/>
          </a:xfrm>
          <a:prstGeom prst="bevel">
            <a:avLst>
              <a:gd name="adj" fmla="val 12500"/>
            </a:avLst>
          </a:prstGeom>
          <a:solidFill>
            <a:srgbClr val="bed4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оз. Сарез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3"/>
          <a:srcRect l="0" t="5135" r="0" b="0"/>
          <a:stretch/>
        </p:blipFill>
        <p:spPr>
          <a:xfrm>
            <a:off x="812880" y="2276640"/>
            <a:ext cx="3622680" cy="3646440"/>
          </a:xfrm>
          <a:prstGeom prst="rect">
            <a:avLst/>
          </a:prstGeom>
          <a:ln w="0">
            <a:noFill/>
          </a:ln>
        </p:spPr>
      </p:pic>
      <p:sp>
        <p:nvSpPr>
          <p:cNvPr id="14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D0F8-6516-48F3-9A87-9C383FA6AF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Заголовок 1"/>
          <p:cNvSpPr/>
          <p:nvPr/>
        </p:nvSpPr>
        <p:spPr>
          <a:xfrm>
            <a:off x="468360" y="1260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оисхождение озёрных котлов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24"/>
          <p:cNvSpPr/>
          <p:nvPr/>
        </p:nvSpPr>
        <p:spPr>
          <a:xfrm>
            <a:off x="550800" y="849240"/>
            <a:ext cx="4032360" cy="863640"/>
          </a:xfrm>
          <a:prstGeom prst="bevel">
            <a:avLst>
              <a:gd name="adj" fmla="val 12500"/>
            </a:avLst>
          </a:prstGeom>
          <a:solidFill>
            <a:srgbClr val="be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imes New Roman"/>
              </a:rPr>
              <a:t>Карстов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203456582"/>
          <p:cNvPicPr/>
          <p:nvPr/>
        </p:nvPicPr>
        <p:blipFill>
          <a:blip r:embed="rId1"/>
          <a:srcRect l="8863" t="0" r="0" b="0"/>
          <a:stretch/>
        </p:blipFill>
        <p:spPr>
          <a:xfrm>
            <a:off x="4427640" y="3084480"/>
            <a:ext cx="4564080" cy="331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865080" y="1797120"/>
            <a:ext cx="3403800" cy="4599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25"/>
          <p:cNvSpPr/>
          <p:nvPr/>
        </p:nvSpPr>
        <p:spPr>
          <a:xfrm>
            <a:off x="4788000" y="1320840"/>
            <a:ext cx="4062240" cy="1400040"/>
          </a:xfrm>
          <a:prstGeom prst="roundRect">
            <a:avLst>
              <a:gd name="adj" fmla="val 16667"/>
            </a:avLst>
          </a:prstGeom>
          <a:solidFill>
            <a:srgbClr val="bed4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образуются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 результате вымы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одземными вода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легкорастворимых пор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2BE1-505C-4CC6-959C-59F5D346B4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6:53:33Z</dcterms:created>
  <dc:creator>User</dc:creator>
  <dc:description/>
  <dc:language>en-US</dc:language>
  <cp:lastModifiedBy>Пользователь Windows</cp:lastModifiedBy>
  <dcterms:modified xsi:type="dcterms:W3CDTF">2024-10-29T07:45:50Z</dcterms:modified>
  <cp:revision>108</cp:revision>
  <dc:subject/>
  <dc:title>Слайд 1</dc:title>
</cp:coreProperties>
</file>