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98A-CE97-40EB-B915-0FB5E21E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D01-84EB-4124-A246-0DEF5E38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446-4450-437C-A131-1F6CE67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341-394B-42BC-A94A-314F7AB3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463-12BE-446D-A0E1-7B2D34F3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378-DDE0-40FC-BBC6-9FD6F10D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DEC-D065-4B47-930B-6D6FBA1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FFC-78A8-4E5B-AC51-B9153B2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3F4-1652-412B-9465-04B292AB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22F-64C6-47F2-BE56-1E9C8A7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53C-8C72-4D8A-89C8-A0E6219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056-1498-4B27-BE6C-BD05D57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A4E5-405F-47D7-B44F-62B816BC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llf.ru/2007/03/22/sem_novykh_chudes_sveta_21_foto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f.ru/2007/03/22/sem_novykh_chudes_sveta_21_foto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89120"/>
            <a:ext cx="76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Три великие пирамиды 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9280" y="260280"/>
            <a:ext cx="8713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ЕЛИКАЯ ПИРАМИДА В ГИЗЕ</a:t>
            </a:r>
            <a:endParaRPr b="0" i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71640" y="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чу-Пик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МАВЗОЛЕЙ ТАДЖ-МАХАЛ В ИНД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01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50920" y="6165720"/>
            <a:ext cx="871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взолей Тадж-Махал в Индии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964720" cy="5925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19280" y="476280"/>
            <a:ext cx="612144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татуя Христа-Спаси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Город Петра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0920" y="5805360"/>
            <a:ext cx="8424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род Чичен - Иц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69440" y="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чен-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Пирамида в Чичен-Ица"/>
          <p:cNvPicPr/>
          <p:nvPr/>
        </p:nvPicPr>
        <p:blipFill>
          <a:blip r:embed="rId1"/>
          <a:srcRect l="0" t="12652" r="0" b="9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6675120"/>
            <a:ext cx="9144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6383" r="0" b="0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24000" y="189000"/>
            <a:ext cx="842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род  Петра в Иордании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Храм Артемиды "/>
          <p:cNvPicPr/>
          <p:nvPr/>
        </p:nvPicPr>
        <p:blipFill>
          <a:blip r:embed="rId1"/>
          <a:srcRect l="4326" t="0" r="0" b="0"/>
          <a:stretch/>
        </p:blipFill>
        <p:spPr>
          <a:xfrm>
            <a:off x="0" y="189000"/>
            <a:ext cx="9144000" cy="6361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803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РАМ АРТЕМИДЫ В ЭФЕ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Статуя Зевса"/>
          <p:cNvPicPr/>
          <p:nvPr/>
        </p:nvPicPr>
        <p:blipFill>
          <a:blip r:embed="rId1"/>
          <a:stretch/>
        </p:blipFill>
        <p:spPr>
          <a:xfrm>
            <a:off x="1332000" y="0"/>
            <a:ext cx="680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70560" y="5418000"/>
            <a:ext cx="3673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татуя Зевса в Олим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5240" y="-360"/>
            <a:ext cx="19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ВЗОЛЕ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АЛИКАРНА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Колосс Родосский, компьютерный макет"/>
          <p:cNvPicPr/>
          <p:nvPr/>
        </p:nvPicPr>
        <p:blipFill>
          <a:blip r:embed="rId1"/>
          <a:stretch/>
        </p:blipFill>
        <p:spPr>
          <a:xfrm>
            <a:off x="755640" y="19080"/>
            <a:ext cx="6948360" cy="683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1968480"/>
            <a:ext cx="52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2568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Колосс Родо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6659640" cy="7029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5400000">
            <a:off x="4405320" y="3045600"/>
            <a:ext cx="6669000" cy="577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лександрийский мая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Семь Новых Чудес Света (21 фото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еликая Китайская ст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Семь Новых Чудес Света (21 фото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ли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2:46Z</dcterms:created>
  <dc:creator>оля</dc:creator>
  <dc:description/>
  <dc:language>en-US</dc:language>
  <cp:lastModifiedBy>оля</cp:lastModifiedBy>
  <dcterms:modified xsi:type="dcterms:W3CDTF">2009-02-03T16:19:05Z</dcterms:modified>
  <cp:revision>2</cp:revision>
  <dc:subject/>
  <dc:title>Слайд 1</dc:title>
</cp:coreProperties>
</file>