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C754-1999-41A6-9B2F-169F3B6E6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B7B-7CAF-4879-B272-E8F9EB1BD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ladimir Script"/>
              </a:rPr>
              <a:t>Неаыевннвц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F46-0CD8-4418-B2F9-51EED7B7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F7E-91FB-4BD8-9274-F075676C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825-01CB-4699-9C12-C877E1C2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468-6330-4FAA-980D-634A401C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140-05B1-41F8-BAC4-E36071B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DCB-68DF-4CE8-93B2-F76F7D90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B46-9DC9-49FD-BCDF-594D72A5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B76-47B5-43A7-B53A-D255B7F4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103-C16F-4C29-8375-FF560F3B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670-0678-4BF2-9F55-B60BA18F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B2E-AD89-4C5E-838D-A1B8887D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8A3-616A-4AE4-8F22-9A2D40C3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5e5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51AF-632A-4E54-AF21-9370739B0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11.xml"/><Relationship Id="rId12" Type="http://schemas.openxmlformats.org/officeDocument/2006/relationships/slide" Target="slide14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3203640" y="530064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1332000" y="1268280"/>
            <a:ext cx="6048360" cy="32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  М   Н   И   К   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  М   Н   И   Ц   Ы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7"/>
          <a:stretch/>
        </p:blipFill>
        <p:spPr>
          <a:xfrm>
            <a:off x="539640" y="4941720"/>
            <a:ext cx="2328840" cy="157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8"/>
          <a:stretch/>
        </p:blipFill>
        <p:spPr>
          <a:xfrm>
            <a:off x="6313320" y="4846680"/>
            <a:ext cx="2329200" cy="157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9"/>
          <a:stretch/>
        </p:blipFill>
        <p:spPr>
          <a:xfrm>
            <a:off x="2340000" y="2349360"/>
            <a:ext cx="1320840" cy="89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10"/>
          <a:stretch/>
        </p:blipFill>
        <p:spPr>
          <a:xfrm>
            <a:off x="5076720" y="2451240"/>
            <a:ext cx="1287720" cy="86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4ff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4880" y="691920"/>
            <a:ext cx="76215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ь пищевую цепоч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озд, капуста, гусеница, лис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94880" y="4149720"/>
            <a:ext cx="77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пуста, гусеница, дрозд, лис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388360" y="6093000"/>
            <a:ext cx="466560" cy="431640"/>
          </a:xfrm>
          <a:custGeom>
            <a:avLst/>
            <a:gdLst>
              <a:gd name="textAreaLeft" fmla="*/ 27720 w 466560"/>
              <a:gd name="textAreaRight" fmla="*/ 438840 w 466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346" h="21600">
                <a:moveTo>
                  <a:pt x="0" y="0"/>
                </a:moveTo>
                <a:lnTo>
                  <a:pt x="23346" y="0"/>
                </a:lnTo>
                <a:lnTo>
                  <a:pt x="23346" y="21600"/>
                </a:lnTo>
                <a:lnTo>
                  <a:pt x="0" y="21600"/>
                </a:lnTo>
                <a:close/>
              </a:path>
              <a:path fill="lightenLess" w="23346" h="21600">
                <a:moveTo>
                  <a:pt x="0" y="0"/>
                </a:moveTo>
                <a:lnTo>
                  <a:pt x="23346" y="0"/>
                </a:lnTo>
                <a:lnTo>
                  <a:pt x="21946" y="1400"/>
                </a:lnTo>
                <a:lnTo>
                  <a:pt x="1400" y="1400"/>
                </a:lnTo>
                <a:close/>
              </a:path>
              <a:path fill="darken" w="23346" h="21600">
                <a:moveTo>
                  <a:pt x="23346" y="0"/>
                </a:moveTo>
                <a:lnTo>
                  <a:pt x="23346" y="21600"/>
                </a:lnTo>
                <a:lnTo>
                  <a:pt x="21946" y="20200"/>
                </a:lnTo>
                <a:lnTo>
                  <a:pt x="21946" y="1400"/>
                </a:lnTo>
                <a:close/>
              </a:path>
              <a:path fill="darkenLess" w="23346" h="21600">
                <a:moveTo>
                  <a:pt x="23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6" y="20200"/>
                </a:lnTo>
                <a:close/>
              </a:path>
              <a:path fill="lighten" w="23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6" h="21600">
                <a:moveTo>
                  <a:pt x="4667" y="7493"/>
                </a:moveTo>
                <a:lnTo>
                  <a:pt x="8174" y="7493"/>
                </a:lnTo>
                <a:lnTo>
                  <a:pt x="8174" y="12828"/>
                </a:lnTo>
                <a:cubicBezTo>
                  <a:pt x="8174" y="13751"/>
                  <a:pt x="8975" y="14482"/>
                  <a:pt x="10011" y="14482"/>
                </a:cubicBezTo>
                <a:lnTo>
                  <a:pt x="11673" y="14482"/>
                </a:lnTo>
                <a:cubicBezTo>
                  <a:pt x="12709" y="14482"/>
                  <a:pt x="13509" y="13751"/>
                  <a:pt x="13509" y="12828"/>
                </a:cubicBezTo>
                <a:lnTo>
                  <a:pt x="13509" y="7493"/>
                </a:lnTo>
                <a:lnTo>
                  <a:pt x="11673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7" y="7493"/>
                </a:lnTo>
                <a:lnTo>
                  <a:pt x="17017" y="12828"/>
                </a:lnTo>
                <a:cubicBezTo>
                  <a:pt x="17017" y="15596"/>
                  <a:pt x="14441" y="18155"/>
                  <a:pt x="11673" y="18155"/>
                </a:cubicBezTo>
                <a:lnTo>
                  <a:pt x="10011" y="18155"/>
                </a:lnTo>
                <a:cubicBezTo>
                  <a:pt x="7243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255960" y="476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bdff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47640" y="189000"/>
            <a:ext cx="7002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трижды меняет обл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рождается, прежде чем стать взрослым?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8317080" y="6021360"/>
            <a:ext cx="466560" cy="432000"/>
          </a:xfrm>
          <a:custGeom>
            <a:avLst/>
            <a:gdLst>
              <a:gd name="textAreaLeft" fmla="*/ 27720 w 466560"/>
              <a:gd name="textAreaRight" fmla="*/ 438840 w 466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3327" h="21600">
                <a:moveTo>
                  <a:pt x="0" y="0"/>
                </a:moveTo>
                <a:lnTo>
                  <a:pt x="23327" y="0"/>
                </a:lnTo>
                <a:lnTo>
                  <a:pt x="23327" y="21600"/>
                </a:lnTo>
                <a:lnTo>
                  <a:pt x="0" y="21600"/>
                </a:lnTo>
                <a:close/>
              </a:path>
              <a:path fill="lightenLess" w="23327" h="21600">
                <a:moveTo>
                  <a:pt x="0" y="0"/>
                </a:moveTo>
                <a:lnTo>
                  <a:pt x="23327" y="0"/>
                </a:lnTo>
                <a:lnTo>
                  <a:pt x="21927" y="1400"/>
                </a:lnTo>
                <a:lnTo>
                  <a:pt x="1400" y="1400"/>
                </a:lnTo>
                <a:close/>
              </a:path>
              <a:path fill="darken" w="23327" h="21600">
                <a:moveTo>
                  <a:pt x="23327" y="0"/>
                </a:moveTo>
                <a:lnTo>
                  <a:pt x="23327" y="21600"/>
                </a:lnTo>
                <a:lnTo>
                  <a:pt x="21927" y="20200"/>
                </a:lnTo>
                <a:lnTo>
                  <a:pt x="21927" y="1400"/>
                </a:lnTo>
                <a:close/>
              </a:path>
              <a:path fill="darkenLess" w="23327" h="21600">
                <a:moveTo>
                  <a:pt x="23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27" y="20200"/>
                </a:lnTo>
                <a:close/>
              </a:path>
              <a:path fill="lighten" w="23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27" h="21600">
                <a:moveTo>
                  <a:pt x="4657" y="7493"/>
                </a:moveTo>
                <a:lnTo>
                  <a:pt x="8164" y="7493"/>
                </a:lnTo>
                <a:lnTo>
                  <a:pt x="8164" y="12828"/>
                </a:lnTo>
                <a:cubicBezTo>
                  <a:pt x="8164" y="13751"/>
                  <a:pt x="8965" y="14482"/>
                  <a:pt x="10001" y="14482"/>
                </a:cubicBezTo>
                <a:lnTo>
                  <a:pt x="11663" y="14482"/>
                </a:lnTo>
                <a:cubicBezTo>
                  <a:pt x="12699" y="14482"/>
                  <a:pt x="13500" y="13751"/>
                  <a:pt x="13500" y="12828"/>
                </a:cubicBezTo>
                <a:lnTo>
                  <a:pt x="13500" y="7493"/>
                </a:lnTo>
                <a:lnTo>
                  <a:pt x="11663" y="7493"/>
                </a:lnTo>
                <a:lnTo>
                  <a:pt x="15171" y="3985"/>
                </a:lnTo>
                <a:lnTo>
                  <a:pt x="18844" y="7493"/>
                </a:lnTo>
                <a:lnTo>
                  <a:pt x="17007" y="7493"/>
                </a:lnTo>
                <a:lnTo>
                  <a:pt x="17007" y="12828"/>
                </a:lnTo>
                <a:cubicBezTo>
                  <a:pt x="17007" y="15596"/>
                  <a:pt x="14431" y="18155"/>
                  <a:pt x="11663" y="18155"/>
                </a:cubicBezTo>
                <a:lnTo>
                  <a:pt x="10001" y="18155"/>
                </a:lnTo>
                <a:cubicBezTo>
                  <a:pt x="7233" y="18155"/>
                  <a:pt x="4657" y="15596"/>
                  <a:pt x="465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343640" cy="45370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282960" y="404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60400" y="16992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8459640" y="609300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3794" y="8485"/>
                </a:moveTo>
                <a:lnTo>
                  <a:pt x="7301" y="8485"/>
                </a:lnTo>
                <a:lnTo>
                  <a:pt x="7301" y="13821"/>
                </a:lnTo>
                <a:cubicBezTo>
                  <a:pt x="7301" y="14743"/>
                  <a:pt x="8102" y="15474"/>
                  <a:pt x="9138" y="15474"/>
                </a:cubicBezTo>
                <a:lnTo>
                  <a:pt x="10800" y="15474"/>
                </a:lnTo>
                <a:cubicBezTo>
                  <a:pt x="11836" y="15474"/>
                  <a:pt x="12636" y="14743"/>
                  <a:pt x="12636" y="13821"/>
                </a:cubicBezTo>
                <a:lnTo>
                  <a:pt x="12636" y="8485"/>
                </a:lnTo>
                <a:lnTo>
                  <a:pt x="10800" y="8485"/>
                </a:lnTo>
                <a:lnTo>
                  <a:pt x="14308" y="4978"/>
                </a:lnTo>
                <a:lnTo>
                  <a:pt x="17981" y="8485"/>
                </a:lnTo>
                <a:lnTo>
                  <a:pt x="16144" y="8485"/>
                </a:lnTo>
                <a:lnTo>
                  <a:pt x="16144" y="13821"/>
                </a:lnTo>
                <a:cubicBezTo>
                  <a:pt x="16144" y="16588"/>
                  <a:pt x="13568" y="19147"/>
                  <a:pt x="10800" y="19147"/>
                </a:cubicBezTo>
                <a:lnTo>
                  <a:pt x="9138" y="19147"/>
                </a:lnTo>
                <a:cubicBezTo>
                  <a:pt x="6370" y="19147"/>
                  <a:pt x="3794" y="16588"/>
                  <a:pt x="3794" y="13821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476360" y="476280"/>
            <a:ext cx="68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спичек составлена избушка на курьих ножках. Как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ложить две спи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избушка повернулась другой сторо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"/>
          <p:cNvGrpSpPr/>
          <p:nvPr/>
        </p:nvGrpSpPr>
        <p:grpSpPr>
          <a:xfrm>
            <a:off x="592200" y="3106800"/>
            <a:ext cx="3459240" cy="3417840"/>
            <a:chOff x="592200" y="3106800"/>
            <a:chExt cx="3459240" cy="3417840"/>
          </a:xfrm>
        </p:grpSpPr>
        <p:sp>
          <p:nvSpPr>
            <p:cNvPr id="134" name="Text Box 4"/>
            <p:cNvSpPr/>
            <p:nvPr/>
          </p:nvSpPr>
          <p:spPr>
            <a:xfrm>
              <a:off x="1438200" y="497700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592200" y="4186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593640" y="5734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320920" y="4221360"/>
              <a:ext cx="144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592200" y="4221360"/>
              <a:ext cx="144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>
              <a:off x="4050000" y="4221360"/>
              <a:ext cx="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5"/>
            <p:cNvSpPr/>
            <p:nvPr/>
          </p:nvSpPr>
          <p:spPr>
            <a:xfrm>
              <a:off x="1746360" y="5734080"/>
              <a:ext cx="0" cy="57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2899080" y="5734080"/>
              <a:ext cx="0" cy="57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1601280" y="6309000"/>
              <a:ext cx="287640" cy="215640"/>
              <a:chOff x="1601280" y="6309000"/>
              <a:chExt cx="287640" cy="215640"/>
            </a:xfrm>
          </p:grpSpPr>
          <p:sp>
            <p:nvSpPr>
              <p:cNvPr id="143" name="Line 18"/>
              <p:cNvSpPr/>
              <p:nvPr/>
            </p:nvSpPr>
            <p:spPr>
              <a:xfrm flipH="1">
                <a:off x="1601280" y="630900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9"/>
              <p:cNvSpPr/>
              <p:nvPr/>
            </p:nvSpPr>
            <p:spPr>
              <a:xfrm>
                <a:off x="1746000" y="6309000"/>
                <a:ext cx="14292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0"/>
              <p:cNvSpPr/>
              <p:nvPr/>
            </p:nvSpPr>
            <p:spPr>
              <a:xfrm>
                <a:off x="1746000" y="6309000"/>
                <a:ext cx="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2754000" y="6308640"/>
              <a:ext cx="288720" cy="216000"/>
              <a:chOff x="2754000" y="6308640"/>
              <a:chExt cx="288720" cy="216000"/>
            </a:xfrm>
          </p:grpSpPr>
          <p:sp>
            <p:nvSpPr>
              <p:cNvPr id="147" name="Line 22"/>
              <p:cNvSpPr/>
              <p:nvPr/>
            </p:nvSpPr>
            <p:spPr>
              <a:xfrm flipH="1">
                <a:off x="2754000" y="630900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3"/>
              <p:cNvSpPr/>
              <p:nvPr/>
            </p:nvSpPr>
            <p:spPr>
              <a:xfrm>
                <a:off x="2898720" y="6309000"/>
                <a:ext cx="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4"/>
              <p:cNvSpPr/>
              <p:nvPr/>
            </p:nvSpPr>
            <p:spPr>
              <a:xfrm flipH="1" flipV="1">
                <a:off x="2898360" y="630864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25"/>
            <p:cNvSpPr/>
            <p:nvPr/>
          </p:nvSpPr>
          <p:spPr>
            <a:xfrm flipH="1">
              <a:off x="2287440" y="3106800"/>
              <a:ext cx="9334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6"/>
            <p:cNvSpPr/>
            <p:nvPr/>
          </p:nvSpPr>
          <p:spPr>
            <a:xfrm flipH="1">
              <a:off x="594720" y="3141720"/>
              <a:ext cx="93492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1528920" y="314172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"/>
            <p:cNvSpPr/>
            <p:nvPr/>
          </p:nvSpPr>
          <p:spPr>
            <a:xfrm>
              <a:off x="2322720" y="5734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9"/>
            <p:cNvSpPr/>
            <p:nvPr/>
          </p:nvSpPr>
          <p:spPr>
            <a:xfrm>
              <a:off x="3257640" y="3141720"/>
              <a:ext cx="79200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1"/>
          <p:cNvSpPr/>
          <p:nvPr/>
        </p:nvSpPr>
        <p:spPr>
          <a:xfrm>
            <a:off x="164520" y="76500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Группа 2"/>
          <p:cNvGrpSpPr/>
          <p:nvPr/>
        </p:nvGrpSpPr>
        <p:grpSpPr>
          <a:xfrm>
            <a:off x="4572000" y="3141720"/>
            <a:ext cx="3459240" cy="3382920"/>
            <a:chOff x="4572000" y="3141720"/>
            <a:chExt cx="3459240" cy="3382920"/>
          </a:xfrm>
        </p:grpSpPr>
        <p:sp>
          <p:nvSpPr>
            <p:cNvPr id="157" name="Line 30"/>
            <p:cNvSpPr/>
            <p:nvPr/>
          </p:nvSpPr>
          <p:spPr>
            <a:xfrm>
              <a:off x="5510160" y="3145320"/>
              <a:ext cx="79200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"/>
            <p:cNvSpPr/>
            <p:nvPr/>
          </p:nvSpPr>
          <p:spPr>
            <a:xfrm>
              <a:off x="5418000" y="497700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6302520" y="420876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>
              <a:off x="4573440" y="5734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6300720" y="4221000"/>
              <a:ext cx="144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4572000" y="4221000"/>
              <a:ext cx="144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8029800" y="4221000"/>
              <a:ext cx="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5726160" y="5734080"/>
              <a:ext cx="0" cy="57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6878880" y="5734080"/>
              <a:ext cx="0" cy="57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7"/>
            <p:cNvGrpSpPr/>
            <p:nvPr/>
          </p:nvGrpSpPr>
          <p:grpSpPr>
            <a:xfrm>
              <a:off x="5581080" y="6309000"/>
              <a:ext cx="287640" cy="215640"/>
              <a:chOff x="5581080" y="6309000"/>
              <a:chExt cx="287640" cy="215640"/>
            </a:xfrm>
          </p:grpSpPr>
          <p:sp>
            <p:nvSpPr>
              <p:cNvPr id="167" name="Line 18"/>
              <p:cNvSpPr/>
              <p:nvPr/>
            </p:nvSpPr>
            <p:spPr>
              <a:xfrm flipH="1">
                <a:off x="5581080" y="630900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725800" y="6309000"/>
                <a:ext cx="14292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0"/>
              <p:cNvSpPr/>
              <p:nvPr/>
            </p:nvSpPr>
            <p:spPr>
              <a:xfrm>
                <a:off x="5725800" y="6309000"/>
                <a:ext cx="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21"/>
            <p:cNvGrpSpPr/>
            <p:nvPr/>
          </p:nvGrpSpPr>
          <p:grpSpPr>
            <a:xfrm>
              <a:off x="6733800" y="6308640"/>
              <a:ext cx="288720" cy="216000"/>
              <a:chOff x="6733800" y="6308640"/>
              <a:chExt cx="288720" cy="216000"/>
            </a:xfrm>
          </p:grpSpPr>
          <p:sp>
            <p:nvSpPr>
              <p:cNvPr id="171" name="Line 22"/>
              <p:cNvSpPr/>
              <p:nvPr/>
            </p:nvSpPr>
            <p:spPr>
              <a:xfrm flipH="1">
                <a:off x="6733800" y="630900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23"/>
              <p:cNvSpPr/>
              <p:nvPr/>
            </p:nvSpPr>
            <p:spPr>
              <a:xfrm>
                <a:off x="6878520" y="6309000"/>
                <a:ext cx="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4"/>
              <p:cNvSpPr/>
              <p:nvPr/>
            </p:nvSpPr>
            <p:spPr>
              <a:xfrm flipH="1" flipV="1">
                <a:off x="6878160" y="630864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Line 26"/>
            <p:cNvSpPr/>
            <p:nvPr/>
          </p:nvSpPr>
          <p:spPr>
            <a:xfrm flipH="1">
              <a:off x="4574520" y="3141720"/>
              <a:ext cx="93492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5508720" y="314172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6302520" y="5734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7237440" y="3141720"/>
              <a:ext cx="79200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5"/>
          <p:cNvSpPr/>
          <p:nvPr/>
        </p:nvSpPr>
        <p:spPr>
          <a:xfrm>
            <a:off x="8532720" y="6165720"/>
            <a:ext cx="324000" cy="432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8792">
                <a:moveTo>
                  <a:pt x="0" y="0"/>
                </a:moveTo>
                <a:lnTo>
                  <a:pt x="21600" y="0"/>
                </a:lnTo>
                <a:lnTo>
                  <a:pt x="21600" y="28792"/>
                </a:lnTo>
                <a:lnTo>
                  <a:pt x="0" y="28792"/>
                </a:lnTo>
                <a:close/>
              </a:path>
              <a:path fill="lightenLess" w="21600" h="28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2">
                <a:moveTo>
                  <a:pt x="21600" y="0"/>
                </a:moveTo>
                <a:lnTo>
                  <a:pt x="21600" y="28792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2">
                <a:moveTo>
                  <a:pt x="21600" y="28792"/>
                </a:moveTo>
                <a:lnTo>
                  <a:pt x="0" y="28792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2">
                <a:moveTo>
                  <a:pt x="0" y="28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  <a:path fill="darken" w="21600" h="28792">
                <a:moveTo>
                  <a:pt x="3794" y="11089"/>
                </a:moveTo>
                <a:lnTo>
                  <a:pt x="7301" y="11089"/>
                </a:lnTo>
                <a:lnTo>
                  <a:pt x="7301" y="16424"/>
                </a:lnTo>
                <a:cubicBezTo>
                  <a:pt x="7301" y="17347"/>
                  <a:pt x="8102" y="18078"/>
                  <a:pt x="9138" y="18078"/>
                </a:cubicBezTo>
                <a:lnTo>
                  <a:pt x="10800" y="18078"/>
                </a:lnTo>
                <a:cubicBezTo>
                  <a:pt x="11836" y="18078"/>
                  <a:pt x="12636" y="17347"/>
                  <a:pt x="12636" y="16424"/>
                </a:cubicBezTo>
                <a:lnTo>
                  <a:pt x="12636" y="11089"/>
                </a:lnTo>
                <a:lnTo>
                  <a:pt x="10800" y="11089"/>
                </a:lnTo>
                <a:lnTo>
                  <a:pt x="14308" y="7581"/>
                </a:lnTo>
                <a:lnTo>
                  <a:pt x="17981" y="11089"/>
                </a:lnTo>
                <a:lnTo>
                  <a:pt x="16144" y="11089"/>
                </a:lnTo>
                <a:lnTo>
                  <a:pt x="16144" y="16424"/>
                </a:lnTo>
                <a:cubicBezTo>
                  <a:pt x="16144" y="19192"/>
                  <a:pt x="13568" y="21751"/>
                  <a:pt x="10800" y="21751"/>
                </a:cubicBezTo>
                <a:lnTo>
                  <a:pt x="9138" y="21751"/>
                </a:lnTo>
                <a:cubicBezTo>
                  <a:pt x="6370" y="21751"/>
                  <a:pt x="3794" y="19192"/>
                  <a:pt x="3794" y="16424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ерите три спички так, чтоб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лось 7 равных квадр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307800" y="2060640"/>
            <a:ext cx="3759480" cy="3240000"/>
            <a:chOff x="307800" y="2060640"/>
            <a:chExt cx="3759480" cy="3240000"/>
          </a:xfrm>
        </p:grpSpPr>
        <p:sp>
          <p:nvSpPr>
            <p:cNvPr id="181" name="Line 9"/>
            <p:cNvSpPr/>
            <p:nvPr/>
          </p:nvSpPr>
          <p:spPr>
            <a:xfrm>
              <a:off x="348480" y="2060640"/>
              <a:ext cx="0" cy="32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1529280" y="2060640"/>
              <a:ext cx="0" cy="32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067280" y="2060640"/>
              <a:ext cx="0" cy="220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307800" y="5300640"/>
              <a:ext cx="253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2826720" y="2060640"/>
              <a:ext cx="0" cy="220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348480" y="2060640"/>
              <a:ext cx="1180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5"/>
            <p:cNvSpPr/>
            <p:nvPr/>
          </p:nvSpPr>
          <p:spPr>
            <a:xfrm>
              <a:off x="1529280" y="2060640"/>
              <a:ext cx="1298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6"/>
            <p:cNvSpPr/>
            <p:nvPr/>
          </p:nvSpPr>
          <p:spPr>
            <a:xfrm>
              <a:off x="2826720" y="2060640"/>
              <a:ext cx="1240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348480" y="3166200"/>
              <a:ext cx="371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348480" y="4270320"/>
              <a:ext cx="371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>
              <a:off x="2826720" y="4270320"/>
              <a:ext cx="0" cy="1029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4067280" y="4270320"/>
              <a:ext cx="0" cy="1029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2845800" y="5300640"/>
              <a:ext cx="1180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1"/>
          <p:cNvSpPr/>
          <p:nvPr/>
        </p:nvSpPr>
        <p:spPr>
          <a:xfrm>
            <a:off x="329040" y="5540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1"/>
          <p:cNvGrpSpPr/>
          <p:nvPr/>
        </p:nvGrpSpPr>
        <p:grpSpPr>
          <a:xfrm>
            <a:off x="4640400" y="2060640"/>
            <a:ext cx="3759120" cy="3240000"/>
            <a:chOff x="4640400" y="2060640"/>
            <a:chExt cx="3759120" cy="3240000"/>
          </a:xfrm>
        </p:grpSpPr>
        <p:sp>
          <p:nvSpPr>
            <p:cNvPr id="196" name="Line 9"/>
            <p:cNvSpPr/>
            <p:nvPr/>
          </p:nvSpPr>
          <p:spPr>
            <a:xfrm>
              <a:off x="4681080" y="2060640"/>
              <a:ext cx="0" cy="32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>
              <a:off x="5861880" y="2060640"/>
              <a:ext cx="0" cy="32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1"/>
            <p:cNvSpPr/>
            <p:nvPr/>
          </p:nvSpPr>
          <p:spPr>
            <a:xfrm>
              <a:off x="8399520" y="2060640"/>
              <a:ext cx="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>
              <a:off x="4640400" y="5300640"/>
              <a:ext cx="253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3"/>
            <p:cNvSpPr/>
            <p:nvPr/>
          </p:nvSpPr>
          <p:spPr>
            <a:xfrm>
              <a:off x="7159320" y="2060640"/>
              <a:ext cx="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4681080" y="2060640"/>
              <a:ext cx="1180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7159320" y="2060640"/>
              <a:ext cx="1240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4681080" y="3166200"/>
              <a:ext cx="371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681080" y="4270680"/>
              <a:ext cx="371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59320" y="4270680"/>
              <a:ext cx="0" cy="1029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58560" y="40428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8675640" y="6165720"/>
            <a:ext cx="322200" cy="432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8953">
                <a:moveTo>
                  <a:pt x="0" y="0"/>
                </a:moveTo>
                <a:lnTo>
                  <a:pt x="21600" y="0"/>
                </a:lnTo>
                <a:lnTo>
                  <a:pt x="21600" y="28953"/>
                </a:lnTo>
                <a:lnTo>
                  <a:pt x="0" y="28953"/>
                </a:lnTo>
                <a:close/>
              </a:path>
              <a:path fill="lightenLess" w="21600" h="28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53">
                <a:moveTo>
                  <a:pt x="21600" y="0"/>
                </a:moveTo>
                <a:lnTo>
                  <a:pt x="21600" y="28953"/>
                </a:lnTo>
                <a:lnTo>
                  <a:pt x="20200" y="27553"/>
                </a:lnTo>
                <a:lnTo>
                  <a:pt x="20200" y="1400"/>
                </a:lnTo>
                <a:close/>
              </a:path>
              <a:path fill="darkenLess" w="21600" h="28953">
                <a:moveTo>
                  <a:pt x="21600" y="28953"/>
                </a:moveTo>
                <a:lnTo>
                  <a:pt x="0" y="28953"/>
                </a:lnTo>
                <a:lnTo>
                  <a:pt x="1400" y="27553"/>
                </a:lnTo>
                <a:lnTo>
                  <a:pt x="20200" y="27553"/>
                </a:lnTo>
                <a:close/>
              </a:path>
              <a:path fill="lighten" w="21600" h="28953">
                <a:moveTo>
                  <a:pt x="0" y="28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53"/>
                </a:lnTo>
                <a:close/>
              </a:path>
              <a:path fill="darken" w="21600" h="28953">
                <a:moveTo>
                  <a:pt x="3794" y="11169"/>
                </a:moveTo>
                <a:lnTo>
                  <a:pt x="7301" y="11169"/>
                </a:lnTo>
                <a:lnTo>
                  <a:pt x="7301" y="16504"/>
                </a:lnTo>
                <a:cubicBezTo>
                  <a:pt x="7301" y="17427"/>
                  <a:pt x="8102" y="18158"/>
                  <a:pt x="9138" y="18158"/>
                </a:cubicBezTo>
                <a:lnTo>
                  <a:pt x="10800" y="18158"/>
                </a:lnTo>
                <a:cubicBezTo>
                  <a:pt x="11836" y="18158"/>
                  <a:pt x="12636" y="17427"/>
                  <a:pt x="12636" y="16504"/>
                </a:cubicBezTo>
                <a:lnTo>
                  <a:pt x="12636" y="11169"/>
                </a:lnTo>
                <a:lnTo>
                  <a:pt x="10800" y="11169"/>
                </a:lnTo>
                <a:lnTo>
                  <a:pt x="14308" y="7661"/>
                </a:lnTo>
                <a:lnTo>
                  <a:pt x="17981" y="11169"/>
                </a:lnTo>
                <a:lnTo>
                  <a:pt x="16144" y="11169"/>
                </a:lnTo>
                <a:lnTo>
                  <a:pt x="16144" y="16504"/>
                </a:lnTo>
                <a:cubicBezTo>
                  <a:pt x="16144" y="19272"/>
                  <a:pt x="13568" y="21831"/>
                  <a:pt x="10800" y="21831"/>
                </a:cubicBezTo>
                <a:lnTo>
                  <a:pt x="9138" y="21831"/>
                </a:lnTo>
                <a:cubicBezTo>
                  <a:pt x="6370" y="21831"/>
                  <a:pt x="3794" y="19272"/>
                  <a:pt x="3794" y="16504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547640" y="260280"/>
            <a:ext cx="71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дратный лист бумаги разрежьте на две, не похожие   друг на друга части, и составьте из них треугольник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это сделат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332000" y="4149720"/>
            <a:ext cx="1800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1331640" y="414972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5796000" y="4436640"/>
            <a:ext cx="1785960" cy="1584360"/>
            <a:chOff x="5796000" y="4436640"/>
            <a:chExt cx="1785960" cy="1584360"/>
          </a:xfrm>
        </p:grpSpPr>
        <p:sp>
          <p:nvSpPr>
            <p:cNvPr id="212" name="AutoShape 11"/>
            <p:cNvSpPr/>
            <p:nvPr/>
          </p:nvSpPr>
          <p:spPr>
            <a:xfrm rot="10800000">
              <a:off x="6645240" y="4436640"/>
              <a:ext cx="936720" cy="1584360"/>
            </a:xfrm>
            <a:custGeom>
              <a:avLst/>
              <a:gdLst>
                <a:gd name="textAreaLeft" fmla="*/ 77760 w 936720"/>
                <a:gd name="textAreaRight" fmla="*/ 858960 w 936720"/>
                <a:gd name="textAreaTop" fmla="*/ 131760 h 1584360"/>
                <a:gd name="textAreaBottom" fmla="*/ 145260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 rot="16200000">
              <a:off x="5428440" y="4804200"/>
              <a:ext cx="1584360" cy="84924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AutoShape 14"/>
          <p:cNvSpPr/>
          <p:nvPr/>
        </p:nvSpPr>
        <p:spPr>
          <a:xfrm flipH="1" flipV="1" rot="5400000">
            <a:off x="6336720" y="3177360"/>
            <a:ext cx="1582560" cy="936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73400" y="476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 ГОСТЯХ У СКА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0a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В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ЦАРСТВЕ ПРИ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ОЛОМ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0a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0a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0a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20"/>
            </a:gs>
            <a:gs pos="100000">
              <a:srgbClr val="fa78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3"/>
          <p:cNvSpPr/>
          <p:nvPr/>
        </p:nvSpPr>
        <p:spPr>
          <a:xfrm>
            <a:off x="8532720" y="609300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3794" y="8485"/>
                </a:moveTo>
                <a:lnTo>
                  <a:pt x="7301" y="8485"/>
                </a:lnTo>
                <a:lnTo>
                  <a:pt x="7301" y="13821"/>
                </a:lnTo>
                <a:cubicBezTo>
                  <a:pt x="7301" y="14743"/>
                  <a:pt x="8102" y="15474"/>
                  <a:pt x="9138" y="15474"/>
                </a:cubicBezTo>
                <a:lnTo>
                  <a:pt x="10800" y="15474"/>
                </a:lnTo>
                <a:cubicBezTo>
                  <a:pt x="11836" y="15474"/>
                  <a:pt x="12636" y="14743"/>
                  <a:pt x="12636" y="13821"/>
                </a:cubicBezTo>
                <a:lnTo>
                  <a:pt x="12636" y="8485"/>
                </a:lnTo>
                <a:lnTo>
                  <a:pt x="10800" y="8485"/>
                </a:lnTo>
                <a:lnTo>
                  <a:pt x="14308" y="4978"/>
                </a:lnTo>
                <a:lnTo>
                  <a:pt x="17981" y="8485"/>
                </a:lnTo>
                <a:lnTo>
                  <a:pt x="16144" y="8485"/>
                </a:lnTo>
                <a:lnTo>
                  <a:pt x="16144" y="13821"/>
                </a:lnTo>
                <a:cubicBezTo>
                  <a:pt x="16144" y="16588"/>
                  <a:pt x="13568" y="19147"/>
                  <a:pt x="10800" y="19147"/>
                </a:cubicBezTo>
                <a:lnTo>
                  <a:pt x="9138" y="19147"/>
                </a:lnTo>
                <a:cubicBezTo>
                  <a:pt x="6370" y="19147"/>
                  <a:pt x="3794" y="16588"/>
                  <a:pt x="3794" y="13821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250920" y="1233360"/>
            <a:ext cx="12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979640" y="260280"/>
            <a:ext cx="675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 в сапогах на дорогу к замку потратил 1 час 23 минуты, а ко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воей свитой – 83 минуты. Прав ли король, если он утверждает, что он добрался быстрее, потому что у него ушло на дорогу лишь 83 мину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564000" y="56196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"/>
          <p:cNvPicPr/>
          <p:nvPr/>
        </p:nvPicPr>
        <p:blipFill>
          <a:blip r:embed="rId1"/>
          <a:stretch/>
        </p:blipFill>
        <p:spPr>
          <a:xfrm>
            <a:off x="5940360" y="4397400"/>
            <a:ext cx="1825560" cy="177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"/>
          <p:cNvPicPr/>
          <p:nvPr/>
        </p:nvPicPr>
        <p:blipFill>
          <a:blip r:embed="rId2"/>
          <a:stretch/>
        </p:blipFill>
        <p:spPr>
          <a:xfrm>
            <a:off x="260280" y="4014720"/>
            <a:ext cx="295596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20"/>
            </a:gs>
            <a:gs pos="100000">
              <a:srgbClr val="fb8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765520" y="549000"/>
            <a:ext cx="5997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любителю сладостей Карлсону пришли гости, чтобы поздравить с днем рождения. Каждый из двух больших тортов Карлсон разделил на 2 части. Каждую получившуюся часть он разделил ещё на 4 кусочка. Сколько гостей было у Карлсона, если каждый гость получил по 1 кусочку, 1 кусочек Карлсон съел и ещё 3 кусочка оставил себе на завтр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8360" y="476280"/>
            <a:ext cx="11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8244000" y="5877000"/>
            <a:ext cx="538200" cy="503280"/>
          </a:xfrm>
          <a:custGeom>
            <a:avLst/>
            <a:gdLst>
              <a:gd name="textAreaLeft" fmla="*/ 32400 w 538200"/>
              <a:gd name="textAreaRight" fmla="*/ 505800 w 5382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098" h="21600">
                <a:moveTo>
                  <a:pt x="0" y="0"/>
                </a:moveTo>
                <a:lnTo>
                  <a:pt x="23098" y="0"/>
                </a:lnTo>
                <a:lnTo>
                  <a:pt x="23098" y="21600"/>
                </a:lnTo>
                <a:lnTo>
                  <a:pt x="0" y="21600"/>
                </a:lnTo>
                <a:close/>
              </a:path>
              <a:path fill="lightenLess" w="23098" h="21600">
                <a:moveTo>
                  <a:pt x="0" y="0"/>
                </a:moveTo>
                <a:lnTo>
                  <a:pt x="23098" y="0"/>
                </a:lnTo>
                <a:lnTo>
                  <a:pt x="21698" y="1400"/>
                </a:lnTo>
                <a:lnTo>
                  <a:pt x="1400" y="1400"/>
                </a:lnTo>
                <a:close/>
              </a:path>
              <a:path fill="darken" w="23098" h="21600">
                <a:moveTo>
                  <a:pt x="23098" y="0"/>
                </a:moveTo>
                <a:lnTo>
                  <a:pt x="23098" y="21600"/>
                </a:lnTo>
                <a:lnTo>
                  <a:pt x="21698" y="20200"/>
                </a:lnTo>
                <a:lnTo>
                  <a:pt x="21698" y="1400"/>
                </a:lnTo>
                <a:close/>
              </a:path>
              <a:path fill="darkenLess" w="23098" h="21600">
                <a:moveTo>
                  <a:pt x="2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8" y="20200"/>
                </a:lnTo>
                <a:close/>
              </a:path>
              <a:path fill="lighten" w="2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8" h="21600">
                <a:moveTo>
                  <a:pt x="4542" y="7493"/>
                </a:moveTo>
                <a:lnTo>
                  <a:pt x="8050" y="7493"/>
                </a:lnTo>
                <a:lnTo>
                  <a:pt x="8050" y="12828"/>
                </a:lnTo>
                <a:cubicBezTo>
                  <a:pt x="8050" y="13751"/>
                  <a:pt x="8851" y="14482"/>
                  <a:pt x="9886" y="14482"/>
                </a:cubicBezTo>
                <a:lnTo>
                  <a:pt x="11549" y="14482"/>
                </a:lnTo>
                <a:cubicBezTo>
                  <a:pt x="12585" y="14482"/>
                  <a:pt x="13385" y="13751"/>
                  <a:pt x="13385" y="12828"/>
                </a:cubicBezTo>
                <a:lnTo>
                  <a:pt x="13385" y="7493"/>
                </a:lnTo>
                <a:lnTo>
                  <a:pt x="11549" y="7493"/>
                </a:lnTo>
                <a:lnTo>
                  <a:pt x="15056" y="3985"/>
                </a:lnTo>
                <a:lnTo>
                  <a:pt x="18729" y="7493"/>
                </a:lnTo>
                <a:lnTo>
                  <a:pt x="16893" y="7493"/>
                </a:lnTo>
                <a:lnTo>
                  <a:pt x="16893" y="12828"/>
                </a:lnTo>
                <a:cubicBezTo>
                  <a:pt x="16893" y="15596"/>
                  <a:pt x="14317" y="18155"/>
                  <a:pt x="11549" y="18155"/>
                </a:cubicBezTo>
                <a:lnTo>
                  <a:pt x="9886" y="18155"/>
                </a:lnTo>
                <a:cubicBezTo>
                  <a:pt x="7119" y="18155"/>
                  <a:pt x="4542" y="15596"/>
                  <a:pt x="45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048840" y="510552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23760" y="1844640"/>
            <a:ext cx="3106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20"/>
            </a:gs>
            <a:gs pos="100000">
              <a:srgbClr val="f961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8"/>
          <p:cNvSpPr/>
          <p:nvPr/>
        </p:nvSpPr>
        <p:spPr>
          <a:xfrm>
            <a:off x="395280" y="622440"/>
            <a:ext cx="11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0"/>
          <p:cNvSpPr/>
          <p:nvPr/>
        </p:nvSpPr>
        <p:spPr>
          <a:xfrm>
            <a:off x="8388360" y="6021360"/>
            <a:ext cx="393840" cy="432000"/>
          </a:xfrm>
          <a:custGeom>
            <a:avLst/>
            <a:gdLst>
              <a:gd name="textAreaLeft" fmla="*/ 25200 w 393840"/>
              <a:gd name="textAreaRight" fmla="*/ 368640 w 393840"/>
              <a:gd name="textAreaTop" fmla="*/ 25200 h 432000"/>
              <a:gd name="textAreaBottom" fmla="*/ 406800 h 432000"/>
            </a:gdLst>
            <a:ahLst/>
            <a:rect l="textAreaLeft" t="textAreaTop" r="textAreaRight" b="textAreaBottom"/>
            <a:pathLst>
              <a:path w="21600" h="23691">
                <a:moveTo>
                  <a:pt x="0" y="0"/>
                </a:moveTo>
                <a:lnTo>
                  <a:pt x="21600" y="0"/>
                </a:lnTo>
                <a:lnTo>
                  <a:pt x="21600" y="23691"/>
                </a:lnTo>
                <a:lnTo>
                  <a:pt x="0" y="23691"/>
                </a:lnTo>
                <a:close/>
              </a:path>
              <a:path fill="lightenLess" w="21600" h="236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91">
                <a:moveTo>
                  <a:pt x="21600" y="0"/>
                </a:moveTo>
                <a:lnTo>
                  <a:pt x="21600" y="23691"/>
                </a:lnTo>
                <a:lnTo>
                  <a:pt x="20200" y="22291"/>
                </a:lnTo>
                <a:lnTo>
                  <a:pt x="20200" y="1400"/>
                </a:lnTo>
                <a:close/>
              </a:path>
              <a:path fill="darkenLess" w="21600" h="23691">
                <a:moveTo>
                  <a:pt x="21600" y="23691"/>
                </a:moveTo>
                <a:lnTo>
                  <a:pt x="0" y="23691"/>
                </a:lnTo>
                <a:lnTo>
                  <a:pt x="1400" y="22291"/>
                </a:lnTo>
                <a:lnTo>
                  <a:pt x="20200" y="22291"/>
                </a:lnTo>
                <a:close/>
              </a:path>
              <a:path fill="lighten" w="21600" h="23691">
                <a:moveTo>
                  <a:pt x="0" y="236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91"/>
                </a:lnTo>
                <a:close/>
              </a:path>
              <a:path fill="darken" w="21600" h="23691">
                <a:moveTo>
                  <a:pt x="3794" y="8538"/>
                </a:moveTo>
                <a:lnTo>
                  <a:pt x="7301" y="8538"/>
                </a:lnTo>
                <a:lnTo>
                  <a:pt x="7301" y="13873"/>
                </a:lnTo>
                <a:cubicBezTo>
                  <a:pt x="7301" y="14796"/>
                  <a:pt x="8102" y="15527"/>
                  <a:pt x="9138" y="15527"/>
                </a:cubicBezTo>
                <a:lnTo>
                  <a:pt x="10800" y="15527"/>
                </a:lnTo>
                <a:cubicBezTo>
                  <a:pt x="11836" y="15527"/>
                  <a:pt x="12636" y="14796"/>
                  <a:pt x="12636" y="13873"/>
                </a:cubicBezTo>
                <a:lnTo>
                  <a:pt x="12636" y="8538"/>
                </a:lnTo>
                <a:lnTo>
                  <a:pt x="10800" y="8538"/>
                </a:lnTo>
                <a:lnTo>
                  <a:pt x="14308" y="5030"/>
                </a:lnTo>
                <a:lnTo>
                  <a:pt x="17981" y="8538"/>
                </a:lnTo>
                <a:lnTo>
                  <a:pt x="16144" y="8538"/>
                </a:lnTo>
                <a:lnTo>
                  <a:pt x="16144" y="13873"/>
                </a:lnTo>
                <a:cubicBezTo>
                  <a:pt x="16144" y="16641"/>
                  <a:pt x="13568" y="19200"/>
                  <a:pt x="10800" y="19200"/>
                </a:cubicBezTo>
                <a:lnTo>
                  <a:pt x="9138" y="19200"/>
                </a:lnTo>
                <a:cubicBezTo>
                  <a:pt x="6370" y="19200"/>
                  <a:pt x="3794" y="16641"/>
                  <a:pt x="3794" y="1387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3"/>
          <p:cNvSpPr/>
          <p:nvPr/>
        </p:nvSpPr>
        <p:spPr>
          <a:xfrm>
            <a:off x="1692360" y="620640"/>
            <a:ext cx="67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лая мачеха, уезжая на бал, приказала Золушке расставить 15 пар обуви на 5 полок так, чтобы на каждой полке было разное количество пар обу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э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4" descr=""/>
          <p:cNvPicPr/>
          <p:nvPr/>
        </p:nvPicPr>
        <p:blipFill>
          <a:blip r:embed="rId1"/>
          <a:stretch/>
        </p:blipFill>
        <p:spPr>
          <a:xfrm>
            <a:off x="5364000" y="3009960"/>
            <a:ext cx="3648240" cy="27352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539640" y="3967200"/>
            <a:ext cx="46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ая  полка – одна п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 полка -  две п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тья  полка -  три  п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вертая  полка  -  четыре  п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ая полка – пять п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Марины было целое яблоко, две половинки и четыре четвертинки. Сколько было у неё ябл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413440" y="4338720"/>
            <a:ext cx="26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 яб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12760" y="333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6132600" y="3281400"/>
            <a:ext cx="1996920" cy="2041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8317080" y="6093000"/>
            <a:ext cx="539640" cy="43164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7"/>
          <p:cNvSpPr/>
          <p:nvPr/>
        </p:nvSpPr>
        <p:spPr>
          <a:xfrm>
            <a:off x="8317080" y="6093000"/>
            <a:ext cx="539640" cy="43164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285920" y="765000"/>
            <a:ext cx="75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три числа, зашифрованные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26920" y="3645000"/>
            <a:ext cx="576360" cy="576000"/>
          </a:xfrm>
          <a:prstGeom prst="rect">
            <a:avLst/>
          </a:prstGeom>
          <a:solidFill>
            <a:srgbClr val="f60a2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3924360" y="1327320"/>
            <a:ext cx="72072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005440" y="1349280"/>
            <a:ext cx="647640" cy="649440"/>
          </a:xfrm>
          <a:prstGeom prst="triangle">
            <a:avLst>
              <a:gd name="adj" fmla="val 50000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684360" y="2349360"/>
            <a:ext cx="72072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268360" y="2349360"/>
            <a:ext cx="72108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3780000" y="2349360"/>
            <a:ext cx="72072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621440" y="2276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205800" y="2349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719240" y="227664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954160" y="1355760"/>
            <a:ext cx="576360" cy="576360"/>
          </a:xfrm>
          <a:prstGeom prst="rect">
            <a:avLst/>
          </a:prstGeom>
          <a:solidFill>
            <a:srgbClr val="f60a2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268360" y="4653000"/>
            <a:ext cx="576360" cy="576360"/>
          </a:xfrm>
          <a:prstGeom prst="rect">
            <a:avLst/>
          </a:prstGeom>
          <a:solidFill>
            <a:srgbClr val="f60a2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2268360" y="3500280"/>
            <a:ext cx="72108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581360"/>
            <a:ext cx="648000" cy="649440"/>
          </a:xfrm>
          <a:prstGeom prst="triangle">
            <a:avLst>
              <a:gd name="adj" fmla="val 50000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1684800" y="346536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712160" y="44737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390120" y="3465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189240" y="455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414520" y="5605560"/>
            <a:ext cx="1081080" cy="107928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831960" y="5659560"/>
            <a:ext cx="1046160" cy="971280"/>
          </a:xfrm>
          <a:prstGeom prst="rect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3887640" y="5157720"/>
            <a:ext cx="1513080" cy="1511280"/>
          </a:xfrm>
          <a:prstGeom prst="triangle">
            <a:avLst>
              <a:gd name="adj" fmla="val 50000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52880" y="3524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1" descr=""/>
          <p:cNvPicPr/>
          <p:nvPr/>
        </p:nvPicPr>
        <p:blipFill>
          <a:blip r:embed="rId1"/>
          <a:stretch/>
        </p:blipFill>
        <p:spPr>
          <a:xfrm>
            <a:off x="5495760" y="3056040"/>
            <a:ext cx="3105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9"/>
          <p:cNvSpPr/>
          <p:nvPr/>
        </p:nvSpPr>
        <p:spPr>
          <a:xfrm>
            <a:off x="756720" y="62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1"/>
          <p:cNvSpPr/>
          <p:nvPr/>
        </p:nvSpPr>
        <p:spPr>
          <a:xfrm>
            <a:off x="8388360" y="59500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3794" y="8375"/>
                </a:moveTo>
                <a:lnTo>
                  <a:pt x="7301" y="8375"/>
                </a:lnTo>
                <a:lnTo>
                  <a:pt x="7301" y="13711"/>
                </a:lnTo>
                <a:cubicBezTo>
                  <a:pt x="7301" y="14633"/>
                  <a:pt x="8102" y="15364"/>
                  <a:pt x="9138" y="15364"/>
                </a:cubicBezTo>
                <a:lnTo>
                  <a:pt x="10800" y="15364"/>
                </a:lnTo>
                <a:cubicBezTo>
                  <a:pt x="11836" y="15364"/>
                  <a:pt x="12636" y="14633"/>
                  <a:pt x="12636" y="13711"/>
                </a:cubicBezTo>
                <a:lnTo>
                  <a:pt x="12636" y="8375"/>
                </a:lnTo>
                <a:lnTo>
                  <a:pt x="10800" y="8375"/>
                </a:lnTo>
                <a:lnTo>
                  <a:pt x="14308" y="4868"/>
                </a:lnTo>
                <a:lnTo>
                  <a:pt x="17981" y="8375"/>
                </a:lnTo>
                <a:lnTo>
                  <a:pt x="16144" y="8375"/>
                </a:lnTo>
                <a:lnTo>
                  <a:pt x="16144" y="13711"/>
                </a:lnTo>
                <a:cubicBezTo>
                  <a:pt x="16144" y="16478"/>
                  <a:pt x="13568" y="19037"/>
                  <a:pt x="10800" y="19037"/>
                </a:cubicBezTo>
                <a:lnTo>
                  <a:pt x="9138" y="19037"/>
                </a:lnTo>
                <a:cubicBezTo>
                  <a:pt x="6370" y="19037"/>
                  <a:pt x="3794" y="16478"/>
                  <a:pt x="3794" y="13711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4"/>
          <p:cNvSpPr/>
          <p:nvPr/>
        </p:nvSpPr>
        <p:spPr>
          <a:xfrm>
            <a:off x="1943280" y="620640"/>
            <a:ext cx="6562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расстоянии 5 м друг от друга в один ряд посажены 10 моло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ьев. Найдите расстояние между крайними деревь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5"/>
          <p:cNvSpPr/>
          <p:nvPr/>
        </p:nvSpPr>
        <p:spPr>
          <a:xfrm>
            <a:off x="3361320" y="5149800"/>
            <a:ext cx="27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 ме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6" descr=""/>
          <p:cNvPicPr/>
          <p:nvPr/>
        </p:nvPicPr>
        <p:blipFill>
          <a:blip r:embed="rId1"/>
          <a:srcRect l="50021" t="0" r="5172" b="5872"/>
          <a:stretch/>
        </p:blipFill>
        <p:spPr>
          <a:xfrm>
            <a:off x="14616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6" descr=""/>
          <p:cNvPicPr/>
          <p:nvPr/>
        </p:nvPicPr>
        <p:blipFill>
          <a:blip r:embed="rId2"/>
          <a:srcRect l="50021" t="0" r="5172" b="5872"/>
          <a:stretch/>
        </p:blipFill>
        <p:spPr>
          <a:xfrm>
            <a:off x="3708360" y="2933640"/>
            <a:ext cx="78588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6" descr=""/>
          <p:cNvPicPr/>
          <p:nvPr/>
        </p:nvPicPr>
        <p:blipFill>
          <a:blip r:embed="rId3"/>
          <a:srcRect l="50021" t="0" r="5172" b="5872"/>
          <a:stretch/>
        </p:blipFill>
        <p:spPr>
          <a:xfrm>
            <a:off x="281304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6" descr=""/>
          <p:cNvPicPr/>
          <p:nvPr/>
        </p:nvPicPr>
        <p:blipFill>
          <a:blip r:embed="rId4"/>
          <a:srcRect l="50021" t="0" r="5172" b="5872"/>
          <a:stretch/>
        </p:blipFill>
        <p:spPr>
          <a:xfrm>
            <a:off x="191304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6" descr=""/>
          <p:cNvPicPr/>
          <p:nvPr/>
        </p:nvPicPr>
        <p:blipFill>
          <a:blip r:embed="rId5"/>
          <a:srcRect l="50021" t="0" r="5172" b="5872"/>
          <a:stretch/>
        </p:blipFill>
        <p:spPr>
          <a:xfrm>
            <a:off x="102240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6" descr=""/>
          <p:cNvPicPr/>
          <p:nvPr/>
        </p:nvPicPr>
        <p:blipFill>
          <a:blip r:embed="rId6"/>
          <a:srcRect l="50021" t="0" r="5172" b="5872"/>
          <a:stretch/>
        </p:blipFill>
        <p:spPr>
          <a:xfrm>
            <a:off x="802800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6" descr=""/>
          <p:cNvPicPr/>
          <p:nvPr/>
        </p:nvPicPr>
        <p:blipFill>
          <a:blip r:embed="rId7"/>
          <a:srcRect l="50021" t="0" r="5172" b="5872"/>
          <a:stretch/>
        </p:blipFill>
        <p:spPr>
          <a:xfrm>
            <a:off x="7164360" y="2924280"/>
            <a:ext cx="787320" cy="128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6" descr=""/>
          <p:cNvPicPr/>
          <p:nvPr/>
        </p:nvPicPr>
        <p:blipFill>
          <a:blip r:embed="rId8"/>
          <a:srcRect l="50021" t="0" r="5172" b="5872"/>
          <a:stretch/>
        </p:blipFill>
        <p:spPr>
          <a:xfrm>
            <a:off x="6300720" y="2933640"/>
            <a:ext cx="785880" cy="128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6" descr=""/>
          <p:cNvPicPr/>
          <p:nvPr/>
        </p:nvPicPr>
        <p:blipFill>
          <a:blip r:embed="rId9"/>
          <a:srcRect l="50021" t="0" r="5172" b="5872"/>
          <a:stretch/>
        </p:blipFill>
        <p:spPr>
          <a:xfrm>
            <a:off x="543564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6" descr=""/>
          <p:cNvPicPr/>
          <p:nvPr/>
        </p:nvPicPr>
        <p:blipFill>
          <a:blip r:embed="rId10"/>
          <a:srcRect l="50021" t="0" r="5172" b="5872"/>
          <a:stretch/>
        </p:blipFill>
        <p:spPr>
          <a:xfrm>
            <a:off x="4572000" y="2933640"/>
            <a:ext cx="787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4"/>
          <p:cNvSpPr/>
          <p:nvPr/>
        </p:nvSpPr>
        <p:spPr>
          <a:xfrm>
            <a:off x="82692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8388360" y="6021360"/>
            <a:ext cx="538200" cy="43200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6906" h="21600">
                <a:moveTo>
                  <a:pt x="0" y="0"/>
                </a:moveTo>
                <a:lnTo>
                  <a:pt x="26906" y="0"/>
                </a:lnTo>
                <a:lnTo>
                  <a:pt x="26906" y="21600"/>
                </a:lnTo>
                <a:lnTo>
                  <a:pt x="0" y="21600"/>
                </a:lnTo>
                <a:close/>
              </a:path>
              <a:path fill="lightenLess" w="26906" h="21600">
                <a:moveTo>
                  <a:pt x="0" y="0"/>
                </a:moveTo>
                <a:lnTo>
                  <a:pt x="26906" y="0"/>
                </a:lnTo>
                <a:lnTo>
                  <a:pt x="25506" y="1400"/>
                </a:lnTo>
                <a:lnTo>
                  <a:pt x="1400" y="1400"/>
                </a:lnTo>
                <a:close/>
              </a:path>
              <a:path fill="darken" w="26906" h="21600">
                <a:moveTo>
                  <a:pt x="26906" y="0"/>
                </a:moveTo>
                <a:lnTo>
                  <a:pt x="26906" y="21600"/>
                </a:lnTo>
                <a:lnTo>
                  <a:pt x="25506" y="20200"/>
                </a:lnTo>
                <a:lnTo>
                  <a:pt x="25506" y="1400"/>
                </a:lnTo>
                <a:close/>
              </a:path>
              <a:path fill="darkenLess" w="26906" h="21600">
                <a:moveTo>
                  <a:pt x="26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6" y="20200"/>
                </a:lnTo>
                <a:close/>
              </a:path>
              <a:path fill="lighten" w="26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6" h="21600">
                <a:moveTo>
                  <a:pt x="6446" y="7493"/>
                </a:moveTo>
                <a:lnTo>
                  <a:pt x="9954" y="7493"/>
                </a:lnTo>
                <a:lnTo>
                  <a:pt x="9954" y="12828"/>
                </a:lnTo>
                <a:cubicBezTo>
                  <a:pt x="9954" y="13751"/>
                  <a:pt x="10755" y="14482"/>
                  <a:pt x="11790" y="14482"/>
                </a:cubicBezTo>
                <a:lnTo>
                  <a:pt x="13453" y="14482"/>
                </a:lnTo>
                <a:cubicBezTo>
                  <a:pt x="14489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3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7" y="7493"/>
                </a:lnTo>
                <a:lnTo>
                  <a:pt x="18797" y="12828"/>
                </a:lnTo>
                <a:cubicBezTo>
                  <a:pt x="18797" y="15596"/>
                  <a:pt x="16221" y="18155"/>
                  <a:pt x="13453" y="18155"/>
                </a:cubicBezTo>
                <a:lnTo>
                  <a:pt x="11790" y="18155"/>
                </a:lnTo>
                <a:cubicBezTo>
                  <a:pt x="9023" y="18155"/>
                  <a:pt x="6446" y="15596"/>
                  <a:pt x="644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613080" y="7970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2730600" y="246240"/>
            <a:ext cx="5657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каком лесу темне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еловом, сосновом или смешанн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131040" y="4508640"/>
            <a:ext cx="284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ело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6" descr=""/>
          <p:cNvPicPr/>
          <p:nvPr/>
        </p:nvPicPr>
        <p:blipFill>
          <a:blip r:embed="rId1"/>
          <a:stretch/>
        </p:blipFill>
        <p:spPr>
          <a:xfrm>
            <a:off x="250920" y="2392200"/>
            <a:ext cx="2728800" cy="180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/>
          <p:cNvPicPr/>
          <p:nvPr/>
        </p:nvPicPr>
        <p:blipFill>
          <a:blip r:embed="rId2"/>
          <a:stretch/>
        </p:blipFill>
        <p:spPr>
          <a:xfrm>
            <a:off x="3103560" y="3363840"/>
            <a:ext cx="2548080" cy="1793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"/>
          <p:cNvPicPr/>
          <p:nvPr/>
        </p:nvPicPr>
        <p:blipFill>
          <a:blip r:embed="rId3"/>
          <a:stretch/>
        </p:blipFill>
        <p:spPr>
          <a:xfrm>
            <a:off x="5829480" y="2392200"/>
            <a:ext cx="2558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19:26Z</dcterms:created>
  <dc:creator>Admin</dc:creator>
  <dc:description/>
  <dc:language>en-US</dc:language>
  <cp:lastModifiedBy>Сергей</cp:lastModifiedBy>
  <dcterms:modified xsi:type="dcterms:W3CDTF">2012-12-09T15:37:20Z</dcterms:modified>
  <cp:revision>33</cp:revision>
  <dc:subject/>
  <dc:title>Слайд 1</dc:title>
</cp:coreProperties>
</file>