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19E-6C80-4C80-8011-807CBF15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8D0-A7F8-4399-A555-B8AE864A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DC3-03A6-4E7D-8E23-E1EC7D7B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B35-8063-46FD-9246-4109A4CD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A54-350B-4ECE-9E85-6E04A8E2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07C-DCDB-48DC-AABA-572D9434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283-80CD-4CDF-B6AA-61DC3264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FDF-22A1-4BCC-9E56-EA4D45E5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DF3-77F8-4699-BBE0-8AA2E756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D70-3FEC-4F2A-9B4B-B74B9E0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CD7-9658-454F-8CDA-696DFE0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915-D221-4541-BC5E-1478E8D2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6C0-E71B-4A54-9EC4-8F9DA022E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0" y="1484280"/>
            <a:ext cx="8929800" cy="351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442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442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14_Подснежник (Апрель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530280" y="828720"/>
            <a:ext cx="6913440" cy="3591000"/>
          </a:xfrm>
          <a:prstGeom prst="rect">
            <a:avLst/>
          </a:prstGeom>
          <a:ln w="0">
            <a:noFill/>
          </a:ln>
        </p:spPr>
      </p:pic>
    </p:spTree>
  </p:cSld>
  <p:transition advTm="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39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Впервые на Смоленщине появился памятник, установленный поисковиками"/>
          <p:cNvPicPr/>
          <p:nvPr/>
        </p:nvPicPr>
        <p:blipFill>
          <a:blip r:embed="rId1"/>
          <a:stretch/>
        </p:blipFill>
        <p:spPr>
          <a:xfrm>
            <a:off x="428760" y="4287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4071960" y="114300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из деревни Капыревщина Ярцевского района смоленские поисковики и казаки установили памятник погибшим воинам. По архивным данным, здесь на полях и в лесах осталось лежать несколько сотен солдат, участвовавших в наступательной операции 19-ой армии Западного фронта. Олеся Акинфеева, корреспондент: «Весной на этом поле в деревне Кузьмино, что недалеко от Капыревщины, поисковики подняли 35 останков солд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70560" cy="37134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4714920" y="285840"/>
            <a:ext cx="3929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4 сентября 2014 года в д. Миролюбово Капыревщинского сельского поселения был открыт памятник в честь мирных жителей, погибших в 1942 году в результате карательных операций. 12 октября 1941 территория террора. Из акта ЧК от 21 октября 1943 года: «В настоящее время на территории Семеновского сельсовета ни одного дома не имеется, все сожжено немцами…». До сих пор никто не знает, сколько людей было сожжено в Миролюбове, ни в одном архивном документе не осталось этой страшной циф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1357200" y="23400"/>
            <a:ext cx="65725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обелис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ыли ели в карау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ь неба мирного я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ут года. В тревожном г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ась далеко вой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здесь, у граней обелис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олчанье голову склон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слышим грохот танков 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рвущий душу бомб раз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видим их - солдат Ро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в тот далёкий грозный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ю жизнью заплат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частье светлое для нас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zanimatika.narod.ru/Orden_mini.png"/>
          <p:cNvPicPr/>
          <p:nvPr/>
        </p:nvPicPr>
        <p:blipFill>
          <a:blip r:embed="rId1"/>
          <a:stretch/>
        </p:blipFill>
        <p:spPr>
          <a:xfrm>
            <a:off x="1376280" y="-2587680"/>
            <a:ext cx="171360" cy="3524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39840" y="754200"/>
            <a:ext cx="85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9640" y="620640"/>
            <a:ext cx="797724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 выполнена учителем МБОУ Капыревщинской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редне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школы</a:t>
            </a:r>
            <a:br>
              <a:rPr sz="24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оршунковой  Диной Яковлев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4920" y="356760"/>
            <a:ext cx="4060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1985 году, к 40-летию Победы, на правом берегу реки Вопь, возле автомобильного моста от улицы Советская, был открыт мемориал защитникам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3297240" cy="49150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2770200" cy="43671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3357720" y="357120"/>
            <a:ext cx="5072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ле Памяти у деревни Ульхово, как исторический памятник (братское кладбище) Великой Отечественной войны, было официально зарегистрировано в 2001 году, хотя останки воинов, найденные поисковым отрядом «Безымянный», захоранивались там, начиная с 1998 года. В мае-июне 2002 года районный центр героико-патриотического воспитания молодежи «Долг» при содействии районной администрации обустроил 8 братских могил, в которых покоятся останки около 900 неизвестных вои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47960" cy="55767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4286160" y="214200"/>
            <a:ext cx="4286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Памятник советскому солдату на мемориале в Яковлево, у вечного огня. </a:t>
            </a:r>
            <a:br>
              <a:rPr sz="2000"/>
            </a:b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Мемориальный комплекс в Яковлево был открыт 25 сентября 1982 года как дань благодарных ярцевчан погибшим в годы Великой Отечественной войны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десь захоронено 3720 воинов Советской Армии, погибших в боях с немецко-фашистскими захватчиками при обороне и освобождении города и района в 1941-1943 года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64000" y="2060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44360" y="714240"/>
            <a:ext cx="3753000" cy="4714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3929040" y="642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лд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143240" y="1444680"/>
            <a:ext cx="4786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мирном над Вопью реко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дином порыве солдат молодо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тыл изваяньем на страже земл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имя не знаем, но памятны дни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рывы снарядов, зениток огн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шистские танки Ярцево жгл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ец же без страха, ни шагу назад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ванулся в атаку, взметнув автомат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нашем, где мост и рек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щитник отважный застыл на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26920" y="836640"/>
            <a:ext cx="725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9640" y="981000"/>
            <a:ext cx="689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2757600" cy="40752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3714840" y="285840"/>
            <a:ext cx="314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венадцати партизанским семьям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. Фашисты расстреляли 12 партизанских семей и запрещали этих людей хоронить. Но, вскоре их кто-то похоронил. После войны на месте захоронения возник скромный памятни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786200" y="214200"/>
            <a:ext cx="43578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070520" cy="3262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4429080" y="50004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нк Т-34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сположен в живописном сквере на площади Побе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.Возле танка фотографируются молодожены, гуляют горожане, проходят политические митинги и городские праздники. На Новый год устанавливается  ё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24000" y="6825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82760" y="682560"/>
            <a:ext cx="99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651640" y="1484280"/>
            <a:ext cx="32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2568600" cy="3781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6"/>
          <p:cNvSpPr/>
          <p:nvPr/>
        </p:nvSpPr>
        <p:spPr>
          <a:xfrm>
            <a:off x="3214800" y="28584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3110040" y="50004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а у въезда в гор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3929040" y="1071720"/>
            <a:ext cx="2928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еверо-восточной окраине Ярцева, на автомагистрали Москва-Минск, стоит на железобетонном постаменте 76-миллиметровое орудие в честь защитников и освободителей Ярц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5"/>
          <p:cNvSpPr/>
          <p:nvPr/>
        </p:nvSpPr>
        <p:spPr>
          <a:xfrm>
            <a:off x="4929120" y="428760"/>
            <a:ext cx="3714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атская могила №5 располагается в сквере д. Капыревщина Ярцевского района. Могила ограждена металлической оградой высотой 1 метр, оштукатуренных столбах и цоколе. Внутри ограды установлен памятник-скульптура одиночного солдата на постаменте. Высота памятника с постаментом 4 метра. Памятник изготовлен из мраморной крошки, постамент из кирпича, Всего в братской могиле захоронено 1430 останков погибших воинов. Известных имён – 12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357120" y="1214280"/>
            <a:ext cx="4357800" cy="4071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56:58Z</dcterms:created>
  <dc:creator>Школа1</dc:creator>
  <dc:description/>
  <dc:language>en-US</dc:language>
  <cp:lastModifiedBy>admin</cp:lastModifiedBy>
  <dcterms:modified xsi:type="dcterms:W3CDTF">2024-10-03T17:52:49Z</dcterms:modified>
  <cp:revision>24</cp:revision>
  <dc:subject/>
  <dc:title>Слайд 1</dc:title>
</cp:coreProperties>
</file>