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B4A-5C93-40DA-B872-DBB4CF8A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E06-5EA0-4951-AC3F-0F903AD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57506-6F7F-4C88-AD5D-F71658D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5950-2257-4337-837C-02202795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42CBF-7D9F-4B2B-8C2C-249B22B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9D476-B2D5-40C9-AEE8-2919840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F1A5-3341-4C2F-AAC2-A66608F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45A00-D483-4FE9-83A4-F2A5056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F0357-CA44-4471-8753-9FBAB5E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491C4-6B91-4847-BEBC-ABAD5B56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51B70-1BF4-4DBD-AE0E-B45FA724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A2B8A-838B-4F3D-BEDB-820E99F3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D38-7113-4F6F-8701-CA56323A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32E3-887A-4FE1-8827-FAA4545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795D6-2CF6-4E91-AC76-A4076FC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617B8-E748-42D8-85BA-9C73A6F3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B5E6A-3B6F-455E-B91A-E2B5FBD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A8872-BCCB-4B1F-AAD7-7F74382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6877A-8910-489C-8156-6F7AFD00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6A77D-6E37-4DEF-8FCA-7AEE4CDE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501C3-3C08-4564-A4FA-7D200AC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7214-9710-4198-AA24-2FBB0B9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C76D-547E-436B-ACD1-784F071F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963-9DC8-4226-8535-A7C99402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3F7DD-6C7F-430A-AE1D-879F11F2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3BFD-162E-482C-B9DA-8FDC0A56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09E-1FBA-4038-84B8-7152B05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EB7C-CA28-4682-A97E-0C6EC28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AD9-5455-410C-84F9-D0E08FC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12E-2F5A-4D73-901B-F5DCBED9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F8D-F1CB-4DB3-B040-79CEF53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FC3-DC3B-4E78-8F93-0188317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E38-187B-4583-AE0B-127BF58D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F186-E189-4B54-B038-DE4FEED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250-8F8D-4B73-B50E-88013E4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7BF1-A839-46FC-B6D9-8F9D930C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028-DC16-455A-B3B3-692C127C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EB4-DE69-4959-AC81-FA75509A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4206-E103-460D-BBB7-386C5426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8D73-37A5-407C-A490-C3C43EC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C91B6-188E-4BFF-AE56-7553C17F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13FA-F43A-4941-BC69-BA73B2B1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7180-E099-452A-840F-5E9D222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2E7-0971-4A4E-AADE-1CEBD095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F1E6-98B8-4C1A-9AE1-C508D35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83F6-F517-41BF-8575-0B570DC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D85F-4F5F-4B00-8FE8-F46356A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E387-093A-4AFE-922F-FAFDEB9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3D72-918D-49AD-87F7-06A2422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512D-D830-4027-B7E6-6E4A61AC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570D-E710-4AF7-870B-EB25061D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4D42-DDA3-4DA5-881C-8E32C505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37CB1-BED6-44D6-8C68-A774B17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ECFC-0B18-4279-B98D-33A94EE2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741-BFF8-4D83-9483-CA067C1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64DB-DCF4-476A-82E5-5E7EB93E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12F4-28EF-4E6E-BCB3-7B16A992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FC51-228B-4AB3-B877-949FE079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9B32-2E4D-4124-8265-D76D9BC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6F28-1C71-411B-87BD-1A90885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CC21-6AD2-4664-9D24-AEE03A1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A9CC-81BC-443E-883C-4FAB4221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D7E1-F0AF-4A9D-9524-C9311C5A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AA49-0F18-4E26-B8A5-B0E1991E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FBAD-544A-433F-B354-5A8A1F5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F16-A4EA-423F-A9C8-CD99ED8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AADC3-736E-4A0F-9FFD-7A7F051C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50207-565D-4E93-8785-A4A8F384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04B12-B3F6-4EE3-949F-7760959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B4D3-52BF-4707-90ED-902FF05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5372-5F6A-4954-8758-E5C6A8EA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3F1B-0D2E-40BD-A756-D5617A57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AC92-C9AB-4BC3-85CE-BDA9E4C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A5C4-957C-487F-9275-94DEB1B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8A26F-A240-4090-830A-861240F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78BE-7FA9-45B2-877D-3BF23CD4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3E8-673E-44C9-937E-8A646ADC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18C0-C8F7-493B-8221-62C5509E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95D87-2A73-4F50-829B-701E67FC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21A5-013D-4F1C-86E3-49B95041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2EBC-5293-457B-AF46-7B25AB01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A322-00D8-40A0-9000-1DF1379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6D1A-3EC8-48A7-8041-A1433CC8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0DBD-9CFF-4E42-8A8F-2462335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FB92-8D6C-48F5-A17C-B7A5A1E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7A86-24BF-431C-B20E-69B5930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AA18-63F8-4476-B9F1-51D1E8A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D5B-E6D6-4FC3-B642-C91D221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7C90-210A-4A47-90EC-BE0237F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521C-D96E-4382-A832-D883CC7B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AF77-F76A-4EFE-9CFB-45903277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F3DBE-5D7C-4073-9F10-6D6B39C6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BB89-8C0B-4AB3-9267-F4206EAD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F934-7751-4320-AA7B-F2FE1AC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BD06-00F2-416A-8545-44A4E8B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C378-4AD7-4DB2-B57A-1445BFF3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CB10-1EF4-4141-807D-8F64047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692E-06A8-42DC-8004-88608E8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904-281D-4485-87A2-DDA031D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A7C8-9115-4CAF-A18C-671562D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4B1D-D6B5-408D-926A-A484091E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0F74A-1FA0-46B2-9A38-EB01B9C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2220-F1F5-49A6-8D31-7FC7C25A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D77F-E6CB-4881-8CD1-B7A11BB6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7EDF-A53D-40A4-9050-F6094BF9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49DE-72EA-4054-BA5F-F441854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D6C37-B740-4E8A-860D-A99B90E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1EB34-956E-43F4-B792-D84A391E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9529-AEAD-4238-825F-E11069F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1DB-EE39-4FFD-9212-E6603AB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EB60-4B46-4B6A-BF78-2E86A6C3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BFE2-367A-4291-A1ED-9D5F682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48BF-6E6F-474A-93E2-301C1F2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4F130-29FB-4089-95D5-0143559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2957-45EC-41CE-AE75-D0AFA48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DFB3-BA7B-43CC-BDA1-9BD4BBDB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1415-8C85-4907-A28D-193E1404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D2BE-4C7A-4E70-B814-9EA992AB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8014-3812-42DC-BC79-48303A75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1E7DF-095C-4FEC-8D22-2149BBB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739-2DDA-489B-A698-20D644A375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778-96B1-4FF5-A375-6EB057FF1F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7DFE-83CB-425B-B944-103BDBA78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26F7-771F-424B-B411-BF6BB4238D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656-893A-4AA8-83D8-21DB7E32142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5F1-7E25-4E3E-990F-CD5F4DFA32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6ABC-9EED-4A26-AFF9-A00DB69444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9D8-C6FA-4E4C-9F6A-1CE278DA8F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8E39-B68C-451E-A799-198CC72E45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5D70-1768-4F2C-BB75-B12234F6BA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вал 5" descr=""/>
          <p:cNvPicPr/>
          <p:nvPr/>
        </p:nvPicPr>
        <p:blipFill>
          <a:blip r:embed="rId2"/>
          <a:stretch/>
        </p:blipFill>
        <p:spPr>
          <a:xfrm>
            <a:off x="-158760" y="-85680"/>
            <a:ext cx="9468000" cy="7035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C:\Users\TOREDO\Desktop\Она\IMG_0245 (2).JPG"/>
          <p:cNvPicPr/>
          <p:nvPr/>
        </p:nvPicPr>
        <p:blipFill>
          <a:blip r:embed="rId3"/>
          <a:stretch/>
        </p:blipFill>
        <p:spPr>
          <a:xfrm>
            <a:off x="2378160" y="1590840"/>
            <a:ext cx="41749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142920" y="260280"/>
          <a:ext cx="8858160" cy="6201000"/>
        </p:xfrm>
        <a:graphic>
          <a:graphicData uri="http://schemas.openxmlformats.org/drawingml/2006/table">
            <a:tbl>
              <a:tblPr/>
              <a:tblGrid>
                <a:gridCol w="4789440"/>
                <a:gridCol w="4068720"/>
              </a:tblGrid>
              <a:tr h="100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4105e9"/>
                          </a:solidFill>
                          <a:latin typeface="Franklin Gothic Medium"/>
                          <a:ea typeface="Calibri"/>
                        </a:rPr>
                        <a:t>Стра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4105e9"/>
                          </a:solidFill>
                          <a:latin typeface="Franklin Gothic Medium"/>
                          <a:ea typeface="Calibri"/>
                        </a:rPr>
                        <a:t>Столиц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Росс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Токи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Фран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Кие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Укра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.Моск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еликобрит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Лонд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елорус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Пари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6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Япо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Ж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Минс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142920" y="428760"/>
          <a:ext cx="8858160" cy="6056280"/>
        </p:xfrm>
        <a:graphic>
          <a:graphicData uri="http://schemas.openxmlformats.org/drawingml/2006/table">
            <a:tbl>
              <a:tblPr/>
              <a:tblGrid>
                <a:gridCol w="4789440"/>
                <a:gridCol w="4068720"/>
              </a:tblGrid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4105e9"/>
                          </a:solidFill>
                          <a:latin typeface="Franklin Gothic Medium"/>
                          <a:ea typeface="Calibri"/>
                        </a:rPr>
                        <a:t>Стра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4105e9"/>
                          </a:solidFill>
                          <a:latin typeface="Franklin Gothic Medium"/>
                          <a:ea typeface="Calibri"/>
                        </a:rPr>
                        <a:t>Столиц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Росс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.Моск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Фран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.Пари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Укра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.Кие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еликобрит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Лонд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елорус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Ж.Минс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6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Япо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.Токи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14200" y="428760"/>
          <a:ext cx="8715600" cy="6261120"/>
        </p:xfrm>
        <a:graphic>
          <a:graphicData uri="http://schemas.openxmlformats.org/drawingml/2006/table">
            <a:tbl>
              <a:tblPr/>
              <a:tblGrid>
                <a:gridCol w="5180040"/>
                <a:gridCol w="3535560"/>
              </a:tblGrid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Име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Професси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Николай Цискаридзе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алер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Юрий Любимов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Танцов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Екатерина Максимова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алетмейст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митрий Шостакович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Режиссё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Игорь Моисее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Композито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214200" y="428760"/>
          <a:ext cx="8715600" cy="6261120"/>
        </p:xfrm>
        <a:graphic>
          <a:graphicData uri="http://schemas.openxmlformats.org/drawingml/2006/table">
            <a:tbl>
              <a:tblPr/>
              <a:tblGrid>
                <a:gridCol w="5180040"/>
                <a:gridCol w="3535560"/>
              </a:tblGrid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Име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Професси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1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Николай Цискаридзе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Танцов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Юрий Любимов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Режиссё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Екатерина Максимова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Балер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митрий Шостакович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Композито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Игорь Моисее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Балетмейст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142920" y="21420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5"/>
          <p:cNvSpPr/>
          <p:nvPr/>
        </p:nvSpPr>
        <p:spPr>
          <a:xfrm>
            <a:off x="1643040" y="21420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6"/>
          <p:cNvSpPr/>
          <p:nvPr/>
        </p:nvSpPr>
        <p:spPr>
          <a:xfrm>
            <a:off x="4643280" y="214200"/>
            <a:ext cx="135756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7"/>
          <p:cNvSpPr/>
          <p:nvPr/>
        </p:nvSpPr>
        <p:spPr>
          <a:xfrm>
            <a:off x="6143760" y="21420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8"/>
          <p:cNvSpPr/>
          <p:nvPr/>
        </p:nvSpPr>
        <p:spPr>
          <a:xfrm>
            <a:off x="7643880" y="21420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9"/>
          <p:cNvSpPr/>
          <p:nvPr/>
        </p:nvSpPr>
        <p:spPr>
          <a:xfrm>
            <a:off x="3143160" y="214200"/>
            <a:ext cx="135756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0"/>
          <p:cNvSpPr/>
          <p:nvPr/>
        </p:nvSpPr>
        <p:spPr>
          <a:xfrm>
            <a:off x="142920" y="135720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1643040" y="135720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2"/>
          <p:cNvSpPr/>
          <p:nvPr/>
        </p:nvSpPr>
        <p:spPr>
          <a:xfrm>
            <a:off x="4643280" y="1357200"/>
            <a:ext cx="13575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3"/>
          <p:cNvSpPr/>
          <p:nvPr/>
        </p:nvSpPr>
        <p:spPr>
          <a:xfrm>
            <a:off x="6143760" y="135720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4"/>
          <p:cNvSpPr/>
          <p:nvPr/>
        </p:nvSpPr>
        <p:spPr>
          <a:xfrm>
            <a:off x="7643880" y="135720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5"/>
          <p:cNvSpPr/>
          <p:nvPr/>
        </p:nvSpPr>
        <p:spPr>
          <a:xfrm>
            <a:off x="3143160" y="1357200"/>
            <a:ext cx="135756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6"/>
          <p:cNvSpPr/>
          <p:nvPr/>
        </p:nvSpPr>
        <p:spPr>
          <a:xfrm>
            <a:off x="142920" y="250020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7"/>
          <p:cNvSpPr/>
          <p:nvPr/>
        </p:nvSpPr>
        <p:spPr>
          <a:xfrm>
            <a:off x="1643040" y="250020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8"/>
          <p:cNvSpPr/>
          <p:nvPr/>
        </p:nvSpPr>
        <p:spPr>
          <a:xfrm>
            <a:off x="4643280" y="2500200"/>
            <a:ext cx="135756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9"/>
          <p:cNvSpPr/>
          <p:nvPr/>
        </p:nvSpPr>
        <p:spPr>
          <a:xfrm>
            <a:off x="6143760" y="250020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7643880" y="250020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1"/>
          <p:cNvSpPr/>
          <p:nvPr/>
        </p:nvSpPr>
        <p:spPr>
          <a:xfrm>
            <a:off x="3143160" y="2500200"/>
            <a:ext cx="135756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2"/>
          <p:cNvSpPr/>
          <p:nvPr/>
        </p:nvSpPr>
        <p:spPr>
          <a:xfrm>
            <a:off x="142920" y="357192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3"/>
          <p:cNvSpPr/>
          <p:nvPr/>
        </p:nvSpPr>
        <p:spPr>
          <a:xfrm>
            <a:off x="1643040" y="357192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4"/>
          <p:cNvSpPr/>
          <p:nvPr/>
        </p:nvSpPr>
        <p:spPr>
          <a:xfrm>
            <a:off x="4643280" y="3571920"/>
            <a:ext cx="13575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35"/>
          <p:cNvSpPr/>
          <p:nvPr/>
        </p:nvSpPr>
        <p:spPr>
          <a:xfrm>
            <a:off x="6143760" y="357192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36"/>
          <p:cNvSpPr/>
          <p:nvPr/>
        </p:nvSpPr>
        <p:spPr>
          <a:xfrm>
            <a:off x="7643880" y="357192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7"/>
          <p:cNvSpPr/>
          <p:nvPr/>
        </p:nvSpPr>
        <p:spPr>
          <a:xfrm>
            <a:off x="3143160" y="3571920"/>
            <a:ext cx="135756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38"/>
          <p:cNvSpPr/>
          <p:nvPr/>
        </p:nvSpPr>
        <p:spPr>
          <a:xfrm>
            <a:off x="142920" y="464328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9"/>
          <p:cNvSpPr/>
          <p:nvPr/>
        </p:nvSpPr>
        <p:spPr>
          <a:xfrm>
            <a:off x="1643040" y="464328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40"/>
          <p:cNvSpPr/>
          <p:nvPr/>
        </p:nvSpPr>
        <p:spPr>
          <a:xfrm>
            <a:off x="4643280" y="4643280"/>
            <a:ext cx="135756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41"/>
          <p:cNvSpPr/>
          <p:nvPr/>
        </p:nvSpPr>
        <p:spPr>
          <a:xfrm>
            <a:off x="6143760" y="4643280"/>
            <a:ext cx="135720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2"/>
          <p:cNvSpPr/>
          <p:nvPr/>
        </p:nvSpPr>
        <p:spPr>
          <a:xfrm>
            <a:off x="7643880" y="4643280"/>
            <a:ext cx="135720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43"/>
          <p:cNvSpPr/>
          <p:nvPr/>
        </p:nvSpPr>
        <p:spPr>
          <a:xfrm>
            <a:off x="3143160" y="4643280"/>
            <a:ext cx="135756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44"/>
          <p:cNvSpPr/>
          <p:nvPr/>
        </p:nvSpPr>
        <p:spPr>
          <a:xfrm>
            <a:off x="142920" y="571500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45"/>
          <p:cNvSpPr/>
          <p:nvPr/>
        </p:nvSpPr>
        <p:spPr>
          <a:xfrm>
            <a:off x="1643040" y="571500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46"/>
          <p:cNvSpPr/>
          <p:nvPr/>
        </p:nvSpPr>
        <p:spPr>
          <a:xfrm>
            <a:off x="4643280" y="5715000"/>
            <a:ext cx="13575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7"/>
          <p:cNvSpPr/>
          <p:nvPr/>
        </p:nvSpPr>
        <p:spPr>
          <a:xfrm>
            <a:off x="6143760" y="5715000"/>
            <a:ext cx="1357200" cy="928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48"/>
          <p:cNvSpPr/>
          <p:nvPr/>
        </p:nvSpPr>
        <p:spPr>
          <a:xfrm>
            <a:off x="7643880" y="5715000"/>
            <a:ext cx="1357200" cy="928800"/>
          </a:xfrm>
          <a:prstGeom prst="rect">
            <a:avLst/>
          </a:prstGeom>
          <a:solidFill>
            <a:srgbClr val="3b0ce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49"/>
          <p:cNvSpPr/>
          <p:nvPr/>
        </p:nvSpPr>
        <p:spPr>
          <a:xfrm>
            <a:off x="3143160" y="5715000"/>
            <a:ext cx="1357560" cy="9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1:08:45Z</dcterms:created>
  <dc:creator>Admin</dc:creator>
  <dc:description/>
  <dc:language>en-US</dc:language>
  <cp:lastModifiedBy>Svetlana</cp:lastModifiedBy>
  <dcterms:modified xsi:type="dcterms:W3CDTF">2016-12-05T14:39:51Z</dcterms:modified>
  <cp:revision>35</cp:revision>
  <dc:subject/>
  <dc:title>Слайд 1</dc:title>
</cp:coreProperties>
</file>