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083-7BDC-4041-AC0D-B81FB7C8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A55-0C01-4670-B456-68DF580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6A82F-328A-405A-A616-9E55BF5D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D4EE1-F41F-4081-8A0C-12F62A80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C21AC-AF87-4483-B89F-0A402D52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1FDDB-46AF-4D24-95A4-488378F6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0EADE-AA12-4ECA-8D1C-883E6750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3D49D-A539-400C-AC17-D3F6E3DF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7BFDF-01BE-4FAD-99A3-2FDF069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01D36-18B7-4333-AE98-689DC4BF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27676-162C-484D-8365-E6F47724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38C-848B-49DA-BB0F-D9DE8870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213-FB4C-4E93-800C-11356148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FB24-0608-49D6-9C3E-DD0CDDFB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2C9D-B9C7-4551-8BAE-F073B2BD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CE97-AB08-41AB-A6C7-9F03085D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F4DA-41BA-46DA-9BA0-0191D51B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F3FB-562C-4848-A31E-14FE9A9F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9C28-7B1E-4D84-B768-62174F8E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296A-00EA-41D7-915E-33974D29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7EA-0779-4806-AB19-AEAF2D02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18C9-6AF8-4D77-8BD7-EAF8E708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3CCB-6D27-4DF6-8357-70B64426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3DB-9A72-4430-99EF-EA1B1AD0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E94F-157D-44B0-B51F-537413E1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438E-313F-4983-B869-E4089E86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BCD8-72E1-4725-9789-A0D6DFF3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4545-7ED5-4FB0-8BC6-B204F5CC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1591-515F-4988-B7E3-E05AA6EF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F228-6D85-4348-BEC0-85A7330F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1F4C-505A-42C2-A630-DC97B94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D1B-FD6D-4988-8575-26EB884A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9059-4967-4FDC-9046-4D3581F9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8DA8-AF26-4852-8F64-4768D2C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027C-8437-4A86-A5F1-9AA0023A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52BA-CD06-460D-B0DE-28329D1B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91D5-720C-416B-B261-F3C105B8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2264-95F9-4524-BC6E-A0115D0F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0E94-3827-4704-AC9E-1E1E6F27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16E8-0236-478A-A759-3B1026B5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2635-BA8C-4A49-A4B4-EFF52A5B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1F72-3483-4384-B1B4-44C83C54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DC1-8DC3-4C92-98EF-C8D2285F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FB69-D9FB-4F41-9C49-B6CA3BB6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0137-7965-4262-B644-0D5A06AC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571C-DF3F-4B46-9B58-8F795399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80E4C-D180-4916-B00F-BE3F9886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273F-4FE6-4F0C-BFE3-5294FE60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470C-D755-4385-B522-3D9E3B6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E24E-2438-4598-97FA-F747A7A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88B2-9D77-48CA-BE3F-BE8C6846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49CD-9CCB-48A1-9033-1F336C99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5881E-BA02-4E68-9D80-50D19A08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A07-FAFA-4D18-A876-91E9835B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F281C-B969-441D-81DC-30492989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D1684-F187-4BFB-A48E-7F8B915F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7840-B687-42B6-AF6A-7CD58E34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51D0B-3DC4-43B2-B4D0-6E0C2AC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5A922-FAAA-425E-85C1-0A5D255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6083-9556-4AD8-B9E1-DF6EDFE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BAE2F-367E-4CD7-AD13-959CD0D1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6B089-A870-4E74-BFDA-254CBF8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6A82-0679-45DC-A30E-A4C38A4C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E60B-906D-4F12-86D9-D885405C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094-C077-47C1-80FB-67062D41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57A5-5828-472B-8F93-A8474D5C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E6078-AC59-46D3-BB1E-9DE94630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D0122-0CD4-4CF3-BE3A-5CB8BD56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CB00F-63B6-4835-8B3F-44D2758A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A4CA-A84D-4CCF-BCDB-E0D53AF6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330AB-57D9-4C39-AB5F-6E546AB3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DE53-CF5A-49C4-A3A9-43FAEFD9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D3641-6F61-4F9D-B328-49438FF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E6898-B6A6-45C7-A33A-339F024C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2A081-F596-4A1C-87BA-B598021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0C9-91CA-443F-A399-45F095CA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68ED-1F70-49BF-B4C5-424ADDC4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33D7C-D78B-4F24-9A95-DC4BF6EE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4EB50-2573-4FD9-B291-2E334922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DFC2E-4742-4FD6-A225-56F2E011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F4A02-E2D1-4AA2-8530-47A9F9D9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E576-F878-4594-8B1E-4ADA68BF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0A290-9788-42F9-8798-BE9D0DCA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FEC0C-3766-4DC5-8636-FE16AB7D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F0BC-4AB5-474D-85C3-119E37AC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09362-5344-4663-8924-CF965AD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CF5-E486-4945-925B-C3BFD59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33853-7D02-48F6-8C3D-9633098C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E6C48-AB26-4D18-AE62-6B11DBA5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66EB0-4543-4332-9EF5-AF97AAA4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B32C9-5128-4B21-A2AD-5FBDADB3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5D53-22B6-4E8E-A6CC-45F19430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92468-7364-4A1A-9B26-5B128AB6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87E18-32A3-431C-8C43-A60C60E6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06987-B3C0-49CA-B0AD-1671621E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ACE0C-B253-47C3-B765-B43DBA06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ADC9C-1ACD-42EB-9232-BAD6AB45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C0E-752D-47BD-A7C7-60A3D09D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D64BA-761F-4124-B63B-70028B62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7EDDF-81AA-44B4-AF3B-F0B0BB5D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FB38E-E1D1-4E36-B50A-A98C70DC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FF47C-5592-4881-AD32-48B6C70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93B6A-FF94-4DA7-8FB4-19E85C84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5EC8F-D76E-4DDD-A32E-BF4D2A83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B88D4-F8C2-45E2-B8B1-08042E6C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A7DAF-F9E1-40B7-AB77-84557603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A95B7-775D-42B6-A128-9F9AAA76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86E70-458B-4AAF-9513-A4EA9D12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5283-7F6C-45E4-B060-4FDCB0F74D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9AF6-C537-4613-AFEB-089150B6C1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A7B5-674E-4B0E-B44A-B7C00C017FB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FE9D-C9E0-459D-A779-26C9EAE48D7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EDAB-D313-4BAE-82E3-F7222A6FB8B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173B-20FA-44BE-86A3-D1F2118050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424C-5AEF-4D34-9964-60046BEEC3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5F1-2E57-4F82-A2FD-65B3C199B1D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1A88-F756-4462-A3DE-C1BA368B797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0;&#1083;&#1072;&#1089;&#1089;&#1080;&#1095;&#1077;&#1089;&#1082;&#1080;&#1081;%20&#1090;&#1072;&#1085;&#1077;&#1094;.ppt" TargetMode="External"/><Relationship Id="rId2" Type="http://schemas.openxmlformats.org/officeDocument/2006/relationships/hyperlink" Target="file:///&#1057;&#1086;&#1074;&#1088;&#1077;&#1084;&#1077;&#1085;&#1085;&#1099;&#1081;%20&#1090;&#1072;&#1085;&#1077;&#1094;.ppt" TargetMode="External"/><Relationship Id="rId3" Type="http://schemas.openxmlformats.org/officeDocument/2006/relationships/hyperlink" Target="file:///&#1053;&#1072;&#1088;&#1086;&#1076;&#1085;&#1099;&#1081;%20&#1090;&#1072;&#1085;&#1077;&#1094;.ppt" TargetMode="External"/><Relationship Id="rId4" Type="http://schemas.openxmlformats.org/officeDocument/2006/relationships/hyperlink" Target="file:///&#1042;&#1086;&#1083;&#1096;&#1077;&#1073;&#1085;&#1099;&#1081;%20&#1084;&#1080;&#1088;%20&#1090;&#1072;&#1085;&#1094;&#1072;.ppt" TargetMode="External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Овал 5" descr=""/>
          <p:cNvPicPr/>
          <p:nvPr/>
        </p:nvPicPr>
        <p:blipFill>
          <a:blip r:embed="rId2"/>
          <a:stretch/>
        </p:blipFill>
        <p:spPr>
          <a:xfrm>
            <a:off x="-158760" y="-85680"/>
            <a:ext cx="9468000" cy="7035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C:\Users\TOREDO\Desktop\Она\IMG_0245 (2).JPG"/>
          <p:cNvPicPr/>
          <p:nvPr/>
        </p:nvPicPr>
        <p:blipFill>
          <a:blip r:embed="rId3"/>
          <a:stretch/>
        </p:blipFill>
        <p:spPr>
          <a:xfrm>
            <a:off x="2378160" y="1590840"/>
            <a:ext cx="417492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>
            <a:hlinkClick r:id="rId1"/>
          </p:cNvPr>
          <p:cNvSpPr/>
          <p:nvPr/>
        </p:nvSpPr>
        <p:spPr>
          <a:xfrm>
            <a:off x="428760" y="500040"/>
            <a:ext cx="271440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КЛАССИЧЕСКИЙ 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7">
            <a:hlinkClick r:id="rId2"/>
          </p:cNvPr>
          <p:cNvSpPr/>
          <p:nvPr/>
        </p:nvSpPr>
        <p:spPr>
          <a:xfrm>
            <a:off x="428760" y="2000160"/>
            <a:ext cx="271440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СОВРЕМ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8">
            <a:hlinkClick r:id="rId3"/>
          </p:cNvPr>
          <p:cNvSpPr/>
          <p:nvPr/>
        </p:nvSpPr>
        <p:spPr>
          <a:xfrm>
            <a:off x="3286080" y="500040"/>
            <a:ext cx="271476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НАРОДНЫЙ 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9">
            <a:hlinkClick r:id="rId4"/>
          </p:cNvPr>
          <p:cNvSpPr/>
          <p:nvPr/>
        </p:nvSpPr>
        <p:spPr>
          <a:xfrm>
            <a:off x="428760" y="5000760"/>
            <a:ext cx="271440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ВОЛШЕБНЫЙ М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Т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0"/>
          <p:cNvSpPr/>
          <p:nvPr/>
        </p:nvSpPr>
        <p:spPr>
          <a:xfrm>
            <a:off x="428760" y="3500280"/>
            <a:ext cx="271440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ТЕРМИНЫ ХОР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1"/>
          <p:cNvSpPr/>
          <p:nvPr/>
        </p:nvSpPr>
        <p:spPr>
          <a:xfrm>
            <a:off x="6215040" y="500040"/>
            <a:ext cx="271476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БА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5"/>
          <p:cNvSpPr/>
          <p:nvPr/>
        </p:nvSpPr>
        <p:spPr>
          <a:xfrm>
            <a:off x="3286080" y="2000160"/>
            <a:ext cx="271476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БАЛЕТМЕЙС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6"/>
          <p:cNvSpPr/>
          <p:nvPr/>
        </p:nvSpPr>
        <p:spPr>
          <a:xfrm>
            <a:off x="3286080" y="5000760"/>
            <a:ext cx="271476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МУЗЫКА И ХОР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3286080" y="3500280"/>
            <a:ext cx="271476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РУС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8"/>
          <p:cNvSpPr/>
          <p:nvPr/>
        </p:nvSpPr>
        <p:spPr>
          <a:xfrm>
            <a:off x="6215040" y="2000160"/>
            <a:ext cx="271476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Д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ХОРЕОГРАФ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9"/>
          <p:cNvSpPr/>
          <p:nvPr/>
        </p:nvSpPr>
        <p:spPr>
          <a:xfrm>
            <a:off x="6215040" y="5000760"/>
            <a:ext cx="271476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СЕК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6215040" y="3500280"/>
            <a:ext cx="2714760" cy="1285920"/>
          </a:xfrm>
          <a:prstGeom prst="rect">
            <a:avLst/>
          </a:prstGeom>
          <a:solidFill>
            <a:srgbClr val="f0a22e"/>
          </a:solidFill>
          <a:ln w="424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Demi"/>
                <a:ea typeface="Times New Roman"/>
              </a:rPr>
              <a:t>ИСТОРИЯ ХОР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357120" y="428760"/>
          <a:ext cx="8501040" cy="6143400"/>
        </p:xfrm>
        <a:graphic>
          <a:graphicData uri="http://schemas.openxmlformats.org/drawingml/2006/table">
            <a:tbl>
              <a:tblPr/>
              <a:tblGrid>
                <a:gridCol w="5065920"/>
                <a:gridCol w="3435120"/>
              </a:tblGrid>
              <a:tr h="103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Назван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Водоё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3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1. Волг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А. Мор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3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2. Байка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Б. Океа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0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3. Атлантически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В. Озер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3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4. Чёрно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Г. Ре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357120" y="428760"/>
          <a:ext cx="8501040" cy="6143400"/>
        </p:xfrm>
        <a:graphic>
          <a:graphicData uri="http://schemas.openxmlformats.org/drawingml/2006/table">
            <a:tbl>
              <a:tblPr/>
              <a:tblGrid>
                <a:gridCol w="5065920"/>
                <a:gridCol w="3435120"/>
              </a:tblGrid>
              <a:tr h="103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Назван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Водоё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3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1. Волг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Г. Ре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3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2. Байка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В. Озер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0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3. Атлантически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Б. Океа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03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4. Чёрно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Franklin Gothic Medium"/>
                          <a:ea typeface="Calibri"/>
                        </a:rPr>
                        <a:t>А. Мор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42920" y="285840"/>
          <a:ext cx="8858160" cy="6332400"/>
        </p:xfrm>
        <a:graphic>
          <a:graphicData uri="http://schemas.openxmlformats.org/drawingml/2006/table">
            <a:tbl>
              <a:tblPr/>
              <a:tblGrid>
                <a:gridCol w="4857840"/>
                <a:gridCol w="4000320"/>
              </a:tblGrid>
              <a:tr h="100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Calibri"/>
                        </a:rPr>
                        <a:t>Вид спорт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Calibri"/>
                        </a:rPr>
                        <a:t>Инвентар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marL="743040" indent="-7430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Футбо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А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Клюш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2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 Хокк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Брусь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3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 Тенни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В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Мя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4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 Биатло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Г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Лыж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5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 Гимнасти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Д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Ракет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42920" y="285840"/>
          <a:ext cx="8858160" cy="6332400"/>
        </p:xfrm>
        <a:graphic>
          <a:graphicData uri="http://schemas.openxmlformats.org/drawingml/2006/table">
            <a:tbl>
              <a:tblPr/>
              <a:tblGrid>
                <a:gridCol w="4857840"/>
                <a:gridCol w="4000320"/>
              </a:tblGrid>
              <a:tr h="100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Calibri"/>
                        </a:rPr>
                        <a:t>Вид спорт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Calibri"/>
                        </a:rPr>
                        <a:t>Инвентар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marL="743040" indent="-74304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Franklin Gothic Medium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Футбо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В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Мя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2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 Хокк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А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Клюш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3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 Тенни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Д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Ракет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4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 Биатло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Г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Лыж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5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  Гимнасти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Б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.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Calibri"/>
                        </a:rPr>
                        <a:t> Брусь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1:08:45Z</dcterms:created>
  <dc:creator>Admin</dc:creator>
  <dc:description/>
  <dc:language>en-US</dc:language>
  <cp:lastModifiedBy>Svetlana</cp:lastModifiedBy>
  <dcterms:modified xsi:type="dcterms:W3CDTF">2016-12-02T18:16:03Z</dcterms:modified>
  <cp:revision>31</cp:revision>
  <dc:subject/>
  <dc:title>Слайд 1</dc:title>
</cp:coreProperties>
</file>