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9CC-FBBB-4BB7-B837-8DA8198CB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0336-A620-4AE1-8C69-3E0A6A7DF4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28DC-4FD5-464D-A6F9-7E93DAC17D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47B-A191-4A47-AB71-8557B1C3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BD8-2B1F-4C9E-B405-8B2765DA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D37-103F-4121-B4B2-A7C439C3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53E-FA49-4A41-8A4B-8C12B66C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E23A6-A181-451E-AB14-355CA323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9EEA3-7327-4481-8F13-2399E567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FA098-322C-4596-AF9D-4D089422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ED9B-9ED4-4E3B-8808-992DE713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0E155-D302-4D6F-BC0B-DC653B5E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C731F-3C01-4DC6-BCC4-DB9978C6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32D06-88D0-499B-A258-2801AEC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D82-34E4-411F-BB5B-F396374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FB7B5-E4B6-498E-B143-7E9FCD7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85C80-C229-4195-A72E-A92F3B1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4D4CE-38AF-4172-B3E3-906CA75A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7DF4C-1B1D-47EB-AC49-EF0D3A5F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BAB9-C0BC-40DF-A1F1-1BBAFEB0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167F-4217-43C9-9392-BEBFE2EB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6695-4069-4F38-A55D-F1CFAE37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83C5-DA39-4F6C-8D8D-3B4FCAA2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FE03-4F83-4AAD-B25B-740FC10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6505-1039-40B9-B8AA-041B588C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C71-6F5B-46A8-8633-10DE0014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516D-6DE2-41B1-85B8-32EC970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2242-50E2-40CB-B0ED-BF23D28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D0949-ED06-4AC3-93E8-4DB460B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1F7D6-AB69-40CD-B415-26192B7B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DDF0-B385-49A5-947C-F1A578E3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AA99-1041-44DB-BD34-EC2BA5A3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DDE3-5753-44C4-89FE-37EA51CC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396B6-E8E3-45D0-BBA9-915E6ECE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99C9C-0CC3-48EE-AFD0-4ABA499F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9F478-E745-4AB9-B480-F1CBC3C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765-3185-493B-8F5A-67A651D9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CB13D-A5B1-455B-A4D2-2E1A4C6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29AE0-81F9-4909-A9B7-3C069F53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2A4F4-B651-4B30-AF8B-71D3763D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878AA-E897-4156-95D8-537E77C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09F23-BBC7-46BA-8724-F7582A5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29FE3-126B-4908-964F-C73A656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588EF-53A8-4D9A-9389-05D9CAD8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79CC9-B87D-489C-8791-099E05D1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4612A-4199-4FBE-8307-93BD2600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96430-E685-4E1B-9C64-CF9D33A7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F37-000E-42D0-A8CD-F5A1EDF1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F5FA8-3E3C-4B3C-B5F3-D29A130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B9FCC-9AEC-40F1-9C19-40F9667B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CE05F-A5C0-458D-B71F-5EB1208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EFD4D-D01E-4E83-BFE6-2B8C5F10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44D3C-11E6-4B54-9D57-2EDC956A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069E1-3524-43C8-ACB8-D710BEB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4D109-13F9-42E3-8442-04DA54EB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A1738-E34C-4358-B25E-74F5E84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DE61D-FEF6-41A5-879C-C535DFC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D287E-982D-4E14-8C6D-FF50F3DD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FE3-3BA2-4ADB-8557-E2A5690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71F73-F33A-41E8-A37F-1AB9338F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D3B46-8AF8-4CA5-A64A-83BF8496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C62CB-28F9-40F3-B01A-AB2DF8A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DBF70-DCE6-4E42-94AB-37AD685E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5EC41-D783-499F-AF68-A513D05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A7677-B275-4F4B-9118-665878EE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DF37A-ADEB-42E6-942F-1827A01F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7ED23-E456-420C-9687-07DFA2B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85E10-AD2F-4E61-A859-9E63F388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118B7-5055-4727-A05A-A70F8F3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E68-BBF4-4AA5-B1BA-AD740F0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D74E4-924D-4D53-BDD3-4DA2E1A5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86EAB-A5D5-4140-AA02-6C03496D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C82C8-0683-425D-AD0C-D8E3D915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A2B-02FF-47CF-A934-8555BE7E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4BD-B7F6-4382-8D3C-095F079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4713-0A2B-409D-8C94-D6A5794AE2D9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1CC-70F5-4140-96F7-A71789193F04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951-A5FC-480D-A554-1AA4A7E7E877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D873-1DDF-4B7F-85E8-BDA41994B30B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CDA1-0274-4145-99E4-ACEFB2FD7E9A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DA34-7365-469C-88CA-14CD9DDC1A84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12-09/1348411610_01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1348411610_0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7"/>
          <p:cNvSpPr/>
          <p:nvPr/>
        </p:nvSpPr>
        <p:spPr>
          <a:xfrm>
            <a:off x="990720" y="1828800"/>
            <a:ext cx="7619760" cy="101592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600440" y="4648320"/>
            <a:ext cx="4543560" cy="39996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832200" y="6149880"/>
            <a:ext cx="1479600" cy="7038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скв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1600200" y="167652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Impact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Impact"/>
              <a:ea typeface="Impact"/>
            </a:endParaRPr>
          </a:p>
        </p:txBody>
      </p:sp>
      <p:pic>
        <p:nvPicPr>
          <p:cNvPr id="265" name="Picture 11" descr="antn02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4307040"/>
            <a:ext cx="4176720" cy="25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 ПОДИ ТУДА – НЕ ЗНАЮ КУДА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 класс ЧЕМ ДАЛЬШЕ В ЛЕС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7 класс КАК ВОЛКА НИ КОРМИ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8 класс ЛЮБИШЬ КАТАТЬСЯ,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9 класс НЕ РОЙ ЯМУ ДРУГОМУ,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0-11класс НЕ СПЕШИ ЯЗЫКОМ, 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6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литературного героя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адай автора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и соответствие, запиши в следующей последовательности: АВТОР- ПРОИЗВЕДЕНИЕ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6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ишите, что такое ….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6-7баллов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гадайте жанр по определению.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ние 6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станови порядок букв, чтобы получилось слово, связанное с литературой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балл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1219320" y="1752480"/>
            <a:ext cx="5943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User</cp:lastModifiedBy>
  <dcterms:modified xsi:type="dcterms:W3CDTF">2023-10-18T16:15:59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