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gif" ContentType="image/gif"/>
  <Override PartName="/ppt/media/image8.gif" ContentType="image/gif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4db0"/>
            </a:gs>
            <a:gs pos="100000">
              <a:srgbClr val="9928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0960" y="130320"/>
            <a:ext cx="8609040" cy="1792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900" spc="-1" strike="noStrike">
                <a:solidFill>
                  <a:srgbClr val="f9b639"/>
                </a:solidFill>
                <a:latin typeface="Arial"/>
              </a:rPr>
              <a:t>КАРМЕН</a:t>
            </a:r>
            <a:endParaRPr b="1" lang="en-US" sz="4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48360" y="2080800"/>
            <a:ext cx="38894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Users\33 кабинет\Desktop\5.jpg"/>
          <p:cNvPicPr/>
          <p:nvPr/>
        </p:nvPicPr>
        <p:blipFill>
          <a:blip r:embed="rId1"/>
          <a:stretch/>
        </p:blipFill>
        <p:spPr>
          <a:xfrm>
            <a:off x="396720" y="1922400"/>
            <a:ext cx="9684000" cy="563724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791856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f9b639"/>
                </a:solidFill>
                <a:latin typeface="Arial"/>
              </a:rPr>
              <a:t>«Кармен»</a:t>
            </a:r>
            <a:endParaRPr b="1" lang="en-US" sz="4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111280" y="1922040"/>
            <a:ext cx="496908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опер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      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    </a:t>
            </a: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Жорж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                </a:t>
            </a: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Биз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3360" y="1922400"/>
            <a:ext cx="420372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    </a:t>
            </a: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новелл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Проспер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         </a:t>
            </a: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Мерим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C:\Users\33 кабинет\Desktop\3.jpeg"/>
          <p:cNvPicPr/>
          <p:nvPr/>
        </p:nvPicPr>
        <p:blipFill>
          <a:blip r:embed="rId1"/>
          <a:stretch/>
        </p:blipFill>
        <p:spPr>
          <a:xfrm>
            <a:off x="1206360" y="2682720"/>
            <a:ext cx="2737080" cy="336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C:\Users\33 кабинет\Desktop\4.jpg"/>
          <p:cNvPicPr/>
          <p:nvPr/>
        </p:nvPicPr>
        <p:blipFill>
          <a:blip r:embed="rId2"/>
          <a:stretch/>
        </p:blipFill>
        <p:spPr>
          <a:xfrm>
            <a:off x="6211800" y="2682720"/>
            <a:ext cx="2657520" cy="3376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3720" y="503280"/>
            <a:ext cx="86328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  </a:t>
            </a:r>
            <a:r>
              <a:rPr b="1" lang="ru-RU" sz="4900" spc="-1" strike="noStrike">
                <a:solidFill>
                  <a:srgbClr val="f9b639"/>
                </a:solidFill>
                <a:latin typeface="Arial"/>
              </a:rPr>
              <a:t>Балет</a:t>
            </a:r>
            <a:endParaRPr b="1" lang="en-US" sz="4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360" y="1922040"/>
            <a:ext cx="520380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Родион Константинович Щедрин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ac66bb"/>
                </a:solidFill>
                <a:latin typeface="Arial"/>
              </a:rPr>
              <a:t>Майя Плисецка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33 кабинет\Desktop\2.jpg"/>
          <p:cNvPicPr/>
          <p:nvPr/>
        </p:nvPicPr>
        <p:blipFill>
          <a:blip r:embed="rId1"/>
          <a:stretch/>
        </p:blipFill>
        <p:spPr>
          <a:xfrm>
            <a:off x="5924520" y="1822320"/>
            <a:ext cx="3176640" cy="4773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33 кабинет\Desktop\1.jpg"/>
          <p:cNvPicPr/>
          <p:nvPr/>
        </p:nvPicPr>
        <p:blipFill>
          <a:blip r:embed="rId2"/>
          <a:stretch/>
        </p:blipFill>
        <p:spPr>
          <a:xfrm>
            <a:off x="426960" y="396720"/>
            <a:ext cx="3584520" cy="407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50920"/>
            <a:ext cx="83314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900" spc="-1" strike="noStrike">
                <a:solidFill>
                  <a:srgbClr val="f9b639"/>
                </a:solidFill>
                <a:latin typeface="Arial"/>
              </a:rPr>
              <a:t>Цель</a:t>
            </a:r>
            <a:endParaRPr b="1" lang="en-US" sz="4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4160" y="1922040"/>
            <a:ext cx="98265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t">
            <a:normAutofit/>
          </a:bodyPr>
          <a:p>
            <a:pPr marL="430200" indent="0" algn="just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Решить проблему: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430200" indent="0" algn="just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Как Родион Константинович  Щедрин приспособил партитуру оперы Жоржа Бизе «Кармен»    к  жанру «балет»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Вопросительный знак: 60 картинок пнг на прозрачном фоне "/>
          <p:cNvPicPr/>
          <p:nvPr/>
        </p:nvPicPr>
        <p:blipFill>
          <a:blip r:embed="rId1"/>
          <a:stretch/>
        </p:blipFill>
        <p:spPr>
          <a:xfrm>
            <a:off x="7897680" y="5637240"/>
            <a:ext cx="123048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На этой анимированной гифке: реклама, выпуск, Скачайте гиф от Thorgage или ..."/>
          <p:cNvPicPr/>
          <p:nvPr/>
        </p:nvPicPr>
        <p:blipFill>
          <a:blip r:embed="rId2"/>
          <a:stretch/>
        </p:blipFill>
        <p:spPr>
          <a:xfrm>
            <a:off x="1254240" y="493560"/>
            <a:ext cx="1857240" cy="104004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840" y="249120"/>
            <a:ext cx="964404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900" spc="-1" strike="noStrike">
                <a:solidFill>
                  <a:srgbClr val="f9b639"/>
                </a:solidFill>
                <a:latin typeface="Arial"/>
              </a:rPr>
              <a:t>Способы получения знаний</a:t>
            </a:r>
            <a:endParaRPr b="1" lang="en-US" sz="4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520" y="1922040"/>
            <a:ext cx="971064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900" spc="-1" strike="noStrike">
                <a:solidFill>
                  <a:srgbClr val="000000"/>
                </a:solidFill>
                <a:latin typeface="Arial"/>
              </a:rPr>
              <a:t>Способ уточнения</a:t>
            </a: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  -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можно сконструировать из того, что уже знакомо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900" spc="-1" strike="noStrike">
                <a:solidFill>
                  <a:srgbClr val="000000"/>
                </a:solidFill>
                <a:latin typeface="Arial"/>
              </a:rPr>
              <a:t>Способ дополнения</a:t>
            </a: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  -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требует введения новых практик и умений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1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63640" y="71280"/>
            <a:ext cx="86090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800" spc="-1" strike="noStrike">
              <a:solidFill>
                <a:srgbClr val="ac66b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27280" y="2101320"/>
            <a:ext cx="6336000" cy="53247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87440" y="603360"/>
            <a:ext cx="9504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40608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9" descr="C:\Users\33 кабинет\Desktop\12.gif"/>
          <p:cNvPicPr/>
          <p:nvPr/>
        </p:nvPicPr>
        <p:blipFill>
          <a:blip r:embed="rId1"/>
          <a:stretch/>
        </p:blipFill>
        <p:spPr>
          <a:xfrm>
            <a:off x="3683160" y="1136520"/>
            <a:ext cx="3933720" cy="542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Users\33 кабинет\Desktop\12.gif"/>
          <p:cNvPicPr/>
          <p:nvPr/>
        </p:nvPicPr>
        <p:blipFill>
          <a:blip r:embed="rId2"/>
          <a:stretch/>
        </p:blipFill>
        <p:spPr>
          <a:xfrm>
            <a:off x="6969240" y="-291960"/>
            <a:ext cx="3933720" cy="589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Users\33 кабинет\Desktop\12.gif"/>
          <p:cNvPicPr/>
          <p:nvPr/>
        </p:nvPicPr>
        <p:blipFill>
          <a:blip r:embed="rId3"/>
          <a:stretch/>
        </p:blipFill>
        <p:spPr>
          <a:xfrm>
            <a:off x="325440" y="1994040"/>
            <a:ext cx="3933720" cy="5898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C:\Users\33 кабинет\Desktop\12.gif"/>
          <p:cNvPicPr/>
          <p:nvPr/>
        </p:nvPicPr>
        <p:blipFill>
          <a:blip r:embed="rId4"/>
          <a:stretch/>
        </p:blipFill>
        <p:spPr>
          <a:xfrm>
            <a:off x="2111400" y="1422360"/>
            <a:ext cx="3933720" cy="589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C:\Users\33 кабинет\Desktop\12.gif"/>
          <p:cNvPicPr/>
          <p:nvPr/>
        </p:nvPicPr>
        <p:blipFill>
          <a:blip r:embed="rId5"/>
          <a:stretch/>
        </p:blipFill>
        <p:spPr>
          <a:xfrm>
            <a:off x="5254560" y="351000"/>
            <a:ext cx="3933720" cy="58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1320" y="707760"/>
            <a:ext cx="8609040" cy="10285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9b639"/>
                </a:solidFill>
                <a:latin typeface="Arial"/>
              </a:rPr>
              <a:t>Опера          Балет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360" y="1761840"/>
            <a:ext cx="9286920" cy="490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дноактный балет из 13 номеров в форме сюи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сновные музыкальные характеристики  Кармен, Хозе и Торер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раматургия балета: конфликт Кармен с окружающими людьми, ее любовь и трагическая гиб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ет массовых народных сцен, вместо них - бесчувственны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ас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ценическое действие происходит на арене, появляется персонаж      в облике бык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символ рока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удьбы, смер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з инструментов - только струнные и ударные, исключены духовые, чтобы подчеркнуть танцевальный ритм песенных мелодий оп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цитируются музыкальные темы оперы Бизе, сохраняется их эмоционально-образный ст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10"/>
          <p:cNvSpPr/>
          <p:nvPr/>
        </p:nvSpPr>
        <p:spPr>
          <a:xfrm>
            <a:off x="4968720" y="106524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b8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452160"/>
            <a:ext cx="860904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1200"/>
            </a:b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5080" y="707760"/>
            <a:ext cx="9572760" cy="66848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8000"/>
          </a:bodyPr>
          <a:p>
            <a:pPr marL="3358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f9b639"/>
                </a:solidFill>
                <a:latin typeface="Times New Roman"/>
              </a:rPr>
              <a:t>                            </a:t>
            </a:r>
            <a:r>
              <a:rPr b="1" lang="ru-RU" sz="4900" spc="-1" strike="noStrike">
                <a:solidFill>
                  <a:srgbClr val="f9b639"/>
                </a:solidFill>
                <a:latin typeface="Arial"/>
              </a:rPr>
              <a:t>Транскрипция</a:t>
            </a:r>
            <a:r>
              <a:rPr b="1" lang="ru-RU" sz="2000" spc="-1" strike="noStrike">
                <a:solidFill>
                  <a:srgbClr val="f9b63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переработка, переписывание, переложение музыкального произведен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3 способа: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цитирование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аранжировк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1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3440" y="368280"/>
            <a:ext cx="943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74" name="Picture 19" descr="C:\Users\33 кабинет\Desktop\images (1).jpg"/>
          <p:cNvPicPr/>
          <p:nvPr/>
        </p:nvPicPr>
        <p:blipFill>
          <a:blip r:embed="rId1"/>
          <a:stretch/>
        </p:blipFill>
        <p:spPr>
          <a:xfrm>
            <a:off x="325440" y="0"/>
            <a:ext cx="9755280" cy="755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C:\Users\33 кабинет\Desktop\Кармен\mqdefault.jpg"/>
          <p:cNvPicPr/>
          <p:nvPr/>
        </p:nvPicPr>
        <p:blipFill>
          <a:blip r:embed="rId2"/>
          <a:stretch/>
        </p:blipFill>
        <p:spPr>
          <a:xfrm>
            <a:off x="6754680" y="0"/>
            <a:ext cx="3326040" cy="2065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C:\Users\33 кабинет\Desktop\images (2).jpg"/>
          <p:cNvPicPr/>
          <p:nvPr/>
        </p:nvPicPr>
        <p:blipFill>
          <a:blip r:embed="rId3"/>
          <a:stretch/>
        </p:blipFill>
        <p:spPr>
          <a:xfrm>
            <a:off x="396720" y="0"/>
            <a:ext cx="3257640" cy="243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C:\Users\33 кабинет\Desktop\Кармен\images (1).jpg"/>
          <p:cNvPicPr/>
          <p:nvPr/>
        </p:nvPicPr>
        <p:blipFill>
          <a:blip r:embed="rId4"/>
          <a:stretch/>
        </p:blipFill>
        <p:spPr>
          <a:xfrm>
            <a:off x="396720" y="2208240"/>
            <a:ext cx="2279880" cy="285732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14:56:28Z</dcterms:created>
  <dc:creator>Екатерина Тунтуева</dc:creator>
  <dc:description/>
  <dc:language>en-US</dc:language>
  <cp:lastModifiedBy>33 кабинет</cp:lastModifiedBy>
  <cp:lastPrinted>2013-10-13T20:33:03Z</cp:lastPrinted>
  <dcterms:modified xsi:type="dcterms:W3CDTF">2024-06-29T20:09:09Z</dcterms:modified>
  <cp:revision>79</cp:revision>
  <dc:subject/>
  <dc:title>Техника безопасности  на уроках  физической культуры (легкая атлетика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40000000000010250300207f7000400038000</vt:lpwstr>
  </property>
</Properties>
</file>