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843-ED84-4128-940F-390234C6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13D-1C1E-4A0D-8D62-1583990A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770-8E5F-4434-B416-CB1BE27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E0C-1DDA-49DE-A634-60673E80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3FC7-B362-4B30-A369-70972B80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5F6E-B83D-4AFB-BFC1-2BD8BB4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330-6D5E-4F61-8ED1-165B8623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970-96C1-447D-81F5-6E6F7F59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AFDC-32FD-411E-9A9A-E343A793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67C-4618-4E4B-933E-A4F5E7C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2F01-001A-41D1-856B-508F730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D26-8484-40B2-AC2A-215E0C47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C69-BE43-4E28-BCE3-41476095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5D13-8374-4544-8CCD-C9DE4734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A162-1966-437D-B690-085A439A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4390-FBA8-4DE6-B547-4950BFD4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8753-EB2E-4769-85E1-966A6146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849-F8BE-4C77-BAAB-29F47CA4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4FD-F82B-4A04-B759-EEF3D19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9FE-C6FF-43B6-A23F-39A5972E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6F2-AF46-458A-A72F-41596DAE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32E-9FAF-4E74-8A28-71FF77C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1D2-CF90-4746-AC4C-BAA4CE5B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80F-286F-4226-B3D9-FF5C96E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8A8-B6A5-4F7C-8916-DB99F3997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3D2-B289-405B-BDB3-7D49841746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96564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Благодарю тебя мам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2997360"/>
            <a:ext cx="6828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.П.О.                   МАТВЕЕВА Н.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63160" y="2997000"/>
            <a:ext cx="8629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Швеция и Франция – последнее воскресенье м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ргентина – октябр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спания и Португалия – 8 декабр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ербия – декабр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_-002"/>
          <p:cNvPicPr/>
          <p:nvPr/>
        </p:nvPicPr>
        <p:blipFill>
          <a:blip r:embed="rId1"/>
          <a:stretch/>
        </p:blipFill>
        <p:spPr>
          <a:xfrm>
            <a:off x="1908000" y="765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_-001"/>
          <p:cNvPicPr/>
          <p:nvPr/>
        </p:nvPicPr>
        <p:blipFill>
          <a:blip r:embed="rId2"/>
          <a:stretch/>
        </p:blipFill>
        <p:spPr>
          <a:xfrm>
            <a:off x="4572000" y="18900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88000" y="1844640"/>
            <a:ext cx="4176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Как поздравляют маму в разных странах мира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Picture 7" descr="IMG_0001"/>
          <p:cNvPicPr/>
          <p:nvPr/>
        </p:nvPicPr>
        <p:blipFill>
          <a:blip r:embed="rId1"/>
          <a:stretch/>
        </p:blipFill>
        <p:spPr>
          <a:xfrm>
            <a:off x="250920" y="549360"/>
            <a:ext cx="4329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8556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встралия – праздник для матерей и беременных женщи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 Австрии дети дарят небольшие букетики цвет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рмения – праздник тесно связан с церковь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Бразилия – называется «Dia das Mães», впервые проведён в 1918 год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нглия – в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XIII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еке утверждён Генрихом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в третье воскресенье марта.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8556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енгрия – дети дарят мамам цветы и художественные поделки, сделанные своими рукам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Древняя Греция – в честь Геи – матери великого Зевса (середина марта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временная Греция – 9 ма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талия – дети дарят мамам цветы, сладости, небольшие подарк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8485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best academy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mother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'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 knee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Нет лучше академии, чем колени матери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Джеймс Рассел Лауэл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Канад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850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итай – дети и взрослые поздравляют своих матере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Латвия – День Матери связывают с наступлением весн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Литва – торжественные богослужения в костёлах, поздравление матерей Президентом стран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ольша – взрослые дети приходят в гости в своим матеря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63160" y="260280"/>
            <a:ext cx="86295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ША – впервые праздновали в 1872 г. Официальный праздник  - с 1914 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оюз Украинок Канады учредили праздник в 1928 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Финляндия – заслуженным матерям, прежде всего матерям-героиням, президент вручает орден Белой розы. Вывешивают флаг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Эстония – утренники в школах и детских сада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63520" y="333360"/>
            <a:ext cx="87012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Мама, ты вязала мне вареж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язала без устали долгим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олодными вече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летит ко мне весточка из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ных крае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 в ней - запах домашнего очаг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Стихотворени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написанное японской девоч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как подарок ко Дню Матер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4176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Как Значимо имяМатери</a:t>
            </a:r>
            <a:br>
              <a:rPr sz="5400"/>
            </a:br>
            <a:r>
              <a:rPr b="1" i="1" lang="ru-RU" sz="5400" spc="-1" strike="noStrike">
                <a:solidFill>
                  <a:srgbClr val="feec94"/>
                </a:solidFill>
                <a:latin typeface="Times New Roman"/>
              </a:rPr>
              <a:t>в России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Picture 7" descr="IMG_0003"/>
          <p:cNvPicPr/>
          <p:nvPr/>
        </p:nvPicPr>
        <p:blipFill>
          <a:blip r:embed="rId1"/>
          <a:stretch/>
        </p:blipFill>
        <p:spPr>
          <a:xfrm>
            <a:off x="395280" y="1484280"/>
            <a:ext cx="4121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63160" y="476280"/>
            <a:ext cx="84121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Инициатива учреждения - Комитет Государственной Думы по делам женщин, семьи и молодеж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30.01.1998 года - Указ Президента Российской Федерации Б. Н. Ельцина № 120 «О Дне матери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429000" cy="5121360"/>
          </a:xfrm>
          <a:prstGeom prst="rect">
            <a:avLst/>
          </a:prstGeom>
          <a:ln w="76320">
            <a:solidFill>
              <a:srgbClr val="0088b8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173160" y="5661000"/>
            <a:ext cx="88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Мать – это женщина, которая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60076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Женщина - хранительница домашнего очага, домоустроительница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Дерево жизни 1"/>
          <p:cNvPicPr/>
          <p:nvPr/>
        </p:nvPicPr>
        <p:blipFill>
          <a:blip r:embed="rId1"/>
          <a:stretch/>
        </p:blipFill>
        <p:spPr>
          <a:xfrm>
            <a:off x="971640" y="1530360"/>
            <a:ext cx="7272360" cy="4830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лассный час «Дерево жизни»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" descr="Мелн_Черн_Корх"/>
          <p:cNvPicPr/>
          <p:nvPr/>
        </p:nvPicPr>
        <p:blipFill>
          <a:blip r:embed="rId1"/>
          <a:stretch/>
        </p:blipFill>
        <p:spPr>
          <a:xfrm>
            <a:off x="2771640" y="404640"/>
            <a:ext cx="2562480" cy="3930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Мелн_"/>
          <p:cNvPicPr/>
          <p:nvPr/>
        </p:nvPicPr>
        <p:blipFill>
          <a:blip r:embed="rId2"/>
          <a:stretch/>
        </p:blipFill>
        <p:spPr>
          <a:xfrm>
            <a:off x="611280" y="3429000"/>
            <a:ext cx="2008080" cy="293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Кузнецова Е"/>
          <p:cNvPicPr/>
          <p:nvPr/>
        </p:nvPicPr>
        <p:blipFill>
          <a:blip r:embed="rId3"/>
          <a:stretch/>
        </p:blipFill>
        <p:spPr>
          <a:xfrm>
            <a:off x="2268360" y="4437000"/>
            <a:ext cx="3418200" cy="2278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Черн_"/>
          <p:cNvPicPr/>
          <p:nvPr/>
        </p:nvPicPr>
        <p:blipFill>
          <a:blip r:embed="rId4"/>
          <a:stretch/>
        </p:blipFill>
        <p:spPr>
          <a:xfrm>
            <a:off x="250920" y="404640"/>
            <a:ext cx="2216160" cy="2891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P5112291"/>
          <p:cNvPicPr/>
          <p:nvPr/>
        </p:nvPicPr>
        <p:blipFill>
          <a:blip r:embed="rId5"/>
          <a:stretch/>
        </p:blipFill>
        <p:spPr>
          <a:xfrm>
            <a:off x="5364000" y="3645000"/>
            <a:ext cx="3548160" cy="2662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P6212485"/>
          <p:cNvPicPr/>
          <p:nvPr/>
        </p:nvPicPr>
        <p:blipFill>
          <a:blip r:embed="rId6"/>
          <a:stretch/>
        </p:blipFill>
        <p:spPr>
          <a:xfrm>
            <a:off x="5435640" y="69228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74548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Матэрь почитайтэ,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як на цэркви главу».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убанская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пословица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 старину на Кубани …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ие украшения носили девушк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то такое «хусточка»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кая самая главная черта характера женщины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то первым проявлял признаки гостеприимства при встрече гостей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63160" y="549000"/>
            <a:ext cx="8629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Могла ли женщина ходить без платка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Делали ли женщины стрижки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колько кос носили женщин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ое действие совершала женщина с волосом вечером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то делал для женщины пряху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 какими словами отдавали крещеного ребёнка матери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63160" y="333000"/>
            <a:ext cx="8629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мать принимала ребенка после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щ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ие обереги были на одежде женщин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Что обозначали женские фигуры в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мволике ремесе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в «Домострое» написано, надо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носиться мужу к жен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ог ли мужчина наказывать женщин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лись в народе к аборта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строила вдова дом для сы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738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есня Дмитрия Маликова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С днём рождения, мама!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3" name="mama.mp3" descr=""/>
          <p:cNvPicPr/>
          <p:nvPr/>
        </p:nvPicPr>
        <p:blipFill>
          <a:blip r:embed="rId1"/>
          <a:stretch/>
        </p:blipFill>
        <p:spPr>
          <a:xfrm>
            <a:off x="97164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2130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к называют маму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26920" y="1628640"/>
          <a:ext cx="7386840" cy="4710240"/>
        </p:xfrm>
        <a:graphic>
          <a:graphicData uri="http://schemas.openxmlformats.org/drawingml/2006/table">
            <a:tbl>
              <a:tblPr/>
              <a:tblGrid>
                <a:gridCol w="2462400"/>
                <a:gridCol w="2462040"/>
                <a:gridCol w="24624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áтэрь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áты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áтынька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ушка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ó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очка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уля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улечка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енька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áн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ther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mmy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tter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tti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м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570480" cy="5332320"/>
          </a:xfrm>
          <a:prstGeom prst="rect">
            <a:avLst/>
          </a:prstGeom>
          <a:ln w="76320">
            <a:solidFill>
              <a:srgbClr val="0088b8"/>
            </a:solidFill>
            <a:miter/>
          </a:ln>
        </p:spPr>
      </p:pic>
      <p:sp>
        <p:nvSpPr>
          <p:cNvPr id="197" name="Rectangle 3"/>
          <p:cNvSpPr/>
          <p:nvPr/>
        </p:nvSpPr>
        <p:spPr>
          <a:xfrm>
            <a:off x="665280" y="5808240"/>
            <a:ext cx="83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 забывайте благодарить мам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doll"/>
          <p:cNvPicPr/>
          <p:nvPr/>
        </p:nvPicPr>
        <p:blipFill>
          <a:blip r:embed="rId1"/>
          <a:stretch/>
        </p:blipFill>
        <p:spPr>
          <a:xfrm>
            <a:off x="2195640" y="404640"/>
            <a:ext cx="4570200" cy="4880160"/>
          </a:xfrm>
          <a:prstGeom prst="rect">
            <a:avLst/>
          </a:prstGeom>
          <a:ln w="76320">
            <a:solidFill>
              <a:srgbClr val="feec94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1925640" y="5684760"/>
            <a:ext cx="50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Он мне не нужен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6007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ать» - это женщина, которая не только родила, но и вырастила и воспитала своего ребён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«Зачем нужно каждый день благодарить маму? Ведь есть же 8 Марта…» и » День матери,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А вы согласны с эти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IMG_0004"/>
          <p:cNvPicPr/>
          <p:nvPr/>
        </p:nvPicPr>
        <p:blipFill>
          <a:blip r:embed="rId1"/>
          <a:stretch/>
        </p:blipFill>
        <p:spPr>
          <a:xfrm>
            <a:off x="3132000" y="333360"/>
            <a:ext cx="3016440" cy="4065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12 декабря 1912 года - создание Международной Ассоци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ня матер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гда празднуют День Матери другие страны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6202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орвегия - второе воскресенье февра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иван – первый день весн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Узбекистан – 8 март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рмения – 7 апрел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ЮАР – первое воскресенье мая.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IMG_0002"/>
          <p:cNvPicPr/>
          <p:nvPr/>
        </p:nvPicPr>
        <p:blipFill>
          <a:blip r:embed="rId1"/>
          <a:stretch/>
        </p:blipFill>
        <p:spPr>
          <a:xfrm>
            <a:off x="6877080" y="2133720"/>
            <a:ext cx="2000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3160" y="189000"/>
            <a:ext cx="38768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92360" y="306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Arial"/>
              </a:rPr>
              <a:t>10 м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4069080" y="5661000"/>
            <a:ext cx="461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Арабские Эмират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1116720" y="4437000"/>
            <a:ext cx="44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аудовская Арав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1333800" y="1844640"/>
            <a:ext cx="22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ингапу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469440" y="5661000"/>
            <a:ext cx="16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ата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6302880" y="2781360"/>
            <a:ext cx="25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акиста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3853440" y="907920"/>
            <a:ext cx="143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ма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5221440" y="1989000"/>
            <a:ext cx="21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екс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397440" y="2997360"/>
            <a:ext cx="24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алайз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974520" y="620640"/>
            <a:ext cx="16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Инд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2"/>
          <p:cNvSpPr/>
          <p:nvPr/>
        </p:nvSpPr>
        <p:spPr>
          <a:xfrm>
            <a:off x="6734160" y="4292640"/>
            <a:ext cx="20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Гонкон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6373440" y="62064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Бахрей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торо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скресень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2879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251280" y="1173240"/>
            <a:ext cx="21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Герм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612000" y="57085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Д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395280" y="278136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Финлянд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5510160" y="2708280"/>
            <a:ext cx="1845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тал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5365080" y="1316160"/>
            <a:ext cx="16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Турц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3"/>
          <p:cNvSpPr/>
          <p:nvPr/>
        </p:nvSpPr>
        <p:spPr>
          <a:xfrm>
            <a:off x="5293440" y="56372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Бель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4"/>
          <p:cNvSpPr/>
          <p:nvPr/>
        </p:nvSpPr>
        <p:spPr>
          <a:xfrm>
            <a:off x="5149080" y="419724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Украи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251640" y="419724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Эсто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37" descr="Deutsche"/>
          <p:cNvPicPr/>
          <p:nvPr/>
        </p:nvPicPr>
        <p:blipFill>
          <a:blip r:embed="rId1"/>
          <a:stretch/>
        </p:blipFill>
        <p:spPr>
          <a:xfrm>
            <a:off x="2627280" y="1052640"/>
            <a:ext cx="969840" cy="140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8" descr="Finnin"/>
          <p:cNvPicPr/>
          <p:nvPr/>
        </p:nvPicPr>
        <p:blipFill>
          <a:blip r:embed="rId2"/>
          <a:stretch/>
        </p:blipFill>
        <p:spPr>
          <a:xfrm>
            <a:off x="2987640" y="2421000"/>
            <a:ext cx="804960" cy="143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9" descr="Estin"/>
          <p:cNvPicPr/>
          <p:nvPr/>
        </p:nvPicPr>
        <p:blipFill>
          <a:blip r:embed="rId3"/>
          <a:stretch/>
        </p:blipFill>
        <p:spPr>
          <a:xfrm>
            <a:off x="2340000" y="3789360"/>
            <a:ext cx="871560" cy="135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0" descr="Danin"/>
          <p:cNvPicPr/>
          <p:nvPr/>
        </p:nvPicPr>
        <p:blipFill>
          <a:blip r:embed="rId4"/>
          <a:stretch/>
        </p:blipFill>
        <p:spPr>
          <a:xfrm>
            <a:off x="2627280" y="5084640"/>
            <a:ext cx="817560" cy="1408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1" descr="Turkin"/>
          <p:cNvPicPr/>
          <p:nvPr/>
        </p:nvPicPr>
        <p:blipFill>
          <a:blip r:embed="rId5"/>
          <a:stretch/>
        </p:blipFill>
        <p:spPr>
          <a:xfrm>
            <a:off x="7020000" y="981000"/>
            <a:ext cx="738000" cy="1347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2" descr="Italienerin"/>
          <p:cNvPicPr/>
          <p:nvPr/>
        </p:nvPicPr>
        <p:blipFill>
          <a:blip r:embed="rId6"/>
          <a:stretch/>
        </p:blipFill>
        <p:spPr>
          <a:xfrm>
            <a:off x="7524720" y="2276640"/>
            <a:ext cx="817560" cy="143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3" descr="Ukrainer"/>
          <p:cNvPicPr/>
          <p:nvPr/>
        </p:nvPicPr>
        <p:blipFill>
          <a:blip r:embed="rId7"/>
          <a:stretch/>
        </p:blipFill>
        <p:spPr>
          <a:xfrm>
            <a:off x="7093080" y="3645000"/>
            <a:ext cx="890280" cy="1407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4" descr="Belgierin"/>
          <p:cNvPicPr/>
          <p:nvPr/>
        </p:nvPicPr>
        <p:blipFill>
          <a:blip r:embed="rId8"/>
          <a:stretch/>
        </p:blipFill>
        <p:spPr>
          <a:xfrm>
            <a:off x="7451640" y="5013360"/>
            <a:ext cx="981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4:07:08Z</dcterms:created>
  <dc:creator>Атлон</dc:creator>
  <dc:description/>
  <dc:language>en-US</dc:language>
  <cp:lastModifiedBy>Юля</cp:lastModifiedBy>
  <dcterms:modified xsi:type="dcterms:W3CDTF">2020-04-24T09:22:22Z</dcterms:modified>
  <cp:revision>24</cp:revision>
  <dc:subject/>
  <dc:title>Международный День Матери</dc:title>
</cp:coreProperties>
</file>