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89E-23A7-4E29-9D21-2784622B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243-6180-424A-BF1B-1D8D23A7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38B-F4BC-43A8-B762-97E1AF38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A4B-D0C2-492B-802A-4D3EC194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029-9D47-4ADE-BD33-468F0D95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6B6-14AD-4F7E-A80B-5D3EFD14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3B8-4482-43CF-9473-2A47B0CA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F90-B49A-4786-B9EF-96E60D02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28A-E446-4E4B-AFCB-8FF7CD3F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F80-4AC8-49CE-BF9E-629676A5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CC6-FA6E-4BC2-A62B-EC2621F8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0D7-F9C2-4633-B9F1-A34E6549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2B90-EAB7-411B-905D-6AE6B339D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6028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ное государственное автономное профессиона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елгородский педагогический колледж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5300280"/>
            <a:ext cx="7921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уденты группы:  311 Н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ураторы: Захарова Н.В., Москаленко С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539640" y="2214720"/>
            <a:ext cx="8352000" cy="20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a9500"/>
                    </a:gs>
                    <a:gs pos="100000">
                      <a:srgbClr val="ff66cc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В корнях наша сила, 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a9500"/>
                  </a:gs>
                  <a:gs pos="100000">
                    <a:srgbClr val="ff66cc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a9500"/>
                    </a:gs>
                    <a:gs pos="100000">
                      <a:srgbClr val="ff66cc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корнях наша правда…» 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a9500"/>
                  </a:gs>
                  <a:gs pos="100000">
                    <a:srgbClr val="ff66cc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Calibri"/>
              </a:rPr>
              <a:t>                    </a:t>
            </a: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Люди искус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71280" y="1599840"/>
            <a:ext cx="5915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Михаил Семёнович Щеп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6 ноября 1788 года в деревне Крас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ковлевского                      рай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i?id=7cf2140d67ea6ba33065d668121096cc-60-144&amp;n=21"/>
          <p:cNvPicPr/>
          <p:nvPr/>
        </p:nvPicPr>
        <p:blipFill>
          <a:blip r:embed="rId1"/>
          <a:stretch/>
        </p:blipFill>
        <p:spPr>
          <a:xfrm>
            <a:off x="395280" y="260280"/>
            <a:ext cx="2386080" cy="3167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539640" y="3554280"/>
            <a:ext cx="8136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1823 году он начал работать в Малом театре в Москве, где был ведущим актёром  и драматургом в течение 40 л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мые выдающиеся его роли были сыграны в пьесах Уильяма Шекспира и Николая Васильевича Гого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Calibri"/>
              </a:rPr>
              <a:t>                          </a:t>
            </a: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Наши учё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58920" y="1600200"/>
            <a:ext cx="56163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ладимир Григорьевич Шух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28 августа 1853 года в г. Грайворон. В.Г. Шухов – изобретатель первой в мире промышленной установки крекинга   нефти,   трубчатых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Шухов Владимир Григорьевич"/>
          <p:cNvPicPr/>
          <p:nvPr/>
        </p:nvPicPr>
        <p:blipFill>
          <a:blip r:embed="rId1"/>
          <a:stretch/>
        </p:blipFill>
        <p:spPr>
          <a:xfrm>
            <a:off x="539640" y="333360"/>
            <a:ext cx="2506680" cy="3672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611280" y="4149720"/>
            <a:ext cx="7921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аровых котлов, эрлифта, форсунки для сжигания мазута, первых в мире конструкций в форме гиперболои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н был удостоен Ленинской премии в 1929 году и звания Героя Труда в 1928 г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14560" y="25992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Алексей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асильевич Погоре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2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.В. Погорелов является автором нескольких учебников матема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Семинар Геометрия в целом"/>
          <p:cNvPicPr/>
          <p:nvPr/>
        </p:nvPicPr>
        <p:blipFill>
          <a:blip r:embed="rId1"/>
          <a:stretch/>
        </p:blipFill>
        <p:spPr>
          <a:xfrm>
            <a:off x="561960" y="339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492360" y="1628640"/>
            <a:ext cx="54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419640" y="1557360"/>
            <a:ext cx="525600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3 марта 1919 года в городе Короч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1945 году А.В. Погорелов окончил инженерную ака-демию им. Н.Е. Жуковск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1640" y="3409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Белгородские </a:t>
            </a:r>
            <a:br>
              <a:rPr sz="4400"/>
            </a:b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писат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16000" y="1744560"/>
            <a:ext cx="56991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ладими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Фёдорович Рае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28 марта 1795 года в деревне Хворостянка в семье дворян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Большой Русский Альбом - Публикации"/>
          <p:cNvPicPr/>
          <p:nvPr/>
        </p:nvPicPr>
        <p:blipFill>
          <a:blip r:embed="rId1"/>
          <a:stretch/>
        </p:blipFill>
        <p:spPr>
          <a:xfrm>
            <a:off x="560520" y="549360"/>
            <a:ext cx="242712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684360" y="47196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ладимир Фёдорович Раевский  был декабристом, поэтом и публицистом, другом А.С.Пушк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Михаил Семёнович Булгаков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 (псевдоним Майск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одился в 1889 году в г. Грайворон. Его литературная деятельность началась в харьковской газете «Проле-тарий, где в 1920 г. появился его первый фельето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39640" y="3933720"/>
            <a:ext cx="8064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21 г. создал пьесу «На посту», которую поставили в театре и рабочих клубах. По сценарию писателя был снят один из первых украинских фильмов «Остап Бандура»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ихаил Семёнович умер 31 декабря 1960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00" y="3409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Известные музыка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09560" y="1744560"/>
            <a:ext cx="519444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Степан Аникеевич Дегтярё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одился крепостной семье в 1766 году в деревне Борисовка Грайворонского рай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Степан Аникиевич Дегтярёв - смотреть фотографии, фото, картинки. Список фотографий. Фотогалерея."/>
          <p:cNvPicPr/>
          <p:nvPr/>
        </p:nvPicPr>
        <p:blipFill>
          <a:blip r:embed="rId1"/>
          <a:stretch/>
        </p:blipFill>
        <p:spPr>
          <a:xfrm>
            <a:off x="544680" y="477720"/>
            <a:ext cx="2874960" cy="3167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6"/>
          <p:cNvSpPr/>
          <p:nvPr/>
        </p:nvSpPr>
        <p:spPr>
          <a:xfrm>
            <a:off x="8424720" y="6283440"/>
            <a:ext cx="719280" cy="57456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39640" y="388296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.А. Дегтярёв является автором первой русской оратории «Минин и Пожарский» или «Освобождение Москвы» (1811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.А. Дегтярёвым написано около 150 произвед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 умер в бедности в 1813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Выдающиеся худож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Станислав Степанович Косен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анислав Косенков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дающимся художником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рафик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н создал сорок иллюстраций к различным книга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ы можем найти его картины в Третьяковской галерее и в других четырнадцати музеях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Истории Орла в фотографиях - г. Орел в фотографиях, картинках. История Орла, фото Орла, сайт с фотографиями - город Орел - Худож"/>
          <p:cNvPicPr/>
          <p:nvPr/>
        </p:nvPicPr>
        <p:blipFill>
          <a:blip r:embed="rId1"/>
          <a:stretch/>
        </p:blipFill>
        <p:spPr>
          <a:xfrm>
            <a:off x="468360" y="260280"/>
            <a:ext cx="2374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i?id=8e1bc3950cb67b595f6ad79a477ad7b0-78-144&amp;n=21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294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ерои Великой отечественной вой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т не могильный выверенный кам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тоит в конце прекрасной жизни и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 горячим сердцем, с тёплыми ру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ни живут живыми средь жив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ед ними никнет пышность обелис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м просто чужда бронза и гран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вечно белгородскую пропис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м город благодарно сохрани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Ю.Лебед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Николай Фёдорович Вату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иколай Ватутин в 1901 году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ревне Чепухино в семь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рестьянина. В 1920 году он бы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зван в арм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 августа 1943 года Москва салютовала в честь освобождения Белгорода. Наш город был назван «Город первого салюта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апреле 1944 года Н.Ф.Ватутин был тяжело ранен и умер. Был похоронен в Кие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Николай Федорович Ватутин"/>
          <p:cNvPicPr/>
          <p:nvPr/>
        </p:nvPicPr>
        <p:blipFill>
          <a:blip r:embed="rId1"/>
          <a:stretch/>
        </p:blipFill>
        <p:spPr>
          <a:xfrm>
            <a:off x="468360" y="260280"/>
            <a:ext cx="27036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Николай Лазаревич Шершнёв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ыл призван в Красную арм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 время Великой Отечествен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й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н являлся командиром взвода                    противотанкового оруд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Шершнёв подбил вражеский танк, но не увидел своей победы – был уби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августе 1963 года улица Садовая была переименована в улицу Шершнё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памятная доска"/>
          <p:cNvPicPr/>
          <p:nvPr/>
        </p:nvPicPr>
        <p:blipFill>
          <a:blip r:embed="rId1"/>
          <a:stretch/>
        </p:blipFill>
        <p:spPr>
          <a:xfrm>
            <a:off x="428760" y="285840"/>
            <a:ext cx="2714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01240"/>
            <a:ext cx="80758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Calibri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здание условий для развития у студентов ценностных ориентаций; повышение уровня духовности и эрудиции студентов; воспитание чувства патриотизма и гордости за Россию, свою Малую Род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2565360"/>
            <a:ext cx="8064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Calibri"/>
              </a:rPr>
              <a:t>Подготовительный этап</a:t>
            </a: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"/>
              </a:rPr>
              <a:t>подготовка видеопрезентаци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"/>
              </a:rPr>
              <a:t>создание архива биографий знаменит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"/>
              </a:rPr>
              <a:t>белгородц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Calibri"/>
              </a:rPr>
              <a:t>Форма проведения</a:t>
            </a: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: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ritannic Bold"/>
              </a:rPr>
              <a:t>Информация + (Годы и лю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«Наше настояще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andrey_caspy: Какая гадина обидела Боярского?"/>
          <p:cNvPicPr/>
          <p:nvPr/>
        </p:nvPicPr>
        <p:blipFill>
          <a:blip r:embed="rId1"/>
          <a:stretch/>
        </p:blipFill>
        <p:spPr>
          <a:xfrm>
            <a:off x="4716360" y="4149720"/>
            <a:ext cx="3318120" cy="230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i?id=5b3886e8e4215fcd3369a66db847fa2a-59-144&amp;n=21"/>
          <p:cNvPicPr/>
          <p:nvPr/>
        </p:nvPicPr>
        <p:blipFill>
          <a:blip r:embed="rId2"/>
          <a:stretch/>
        </p:blipFill>
        <p:spPr>
          <a:xfrm>
            <a:off x="3995640" y="1305000"/>
            <a:ext cx="3600720" cy="270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i?id=de63de1dcb6cc5acc104005df85d9722-94-144&amp;n=21"/>
          <p:cNvPicPr/>
          <p:nvPr/>
        </p:nvPicPr>
        <p:blipFill>
          <a:blip r:embed="rId3"/>
          <a:stretch/>
        </p:blipFill>
        <p:spPr>
          <a:xfrm>
            <a:off x="971640" y="404640"/>
            <a:ext cx="2475000" cy="367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i?id=9bd1d593ecc06fb88f792da8a6303712-11-144&amp;n=21"/>
          <p:cNvPicPr/>
          <p:nvPr/>
        </p:nvPicPr>
        <p:blipFill>
          <a:blip r:embed="rId4"/>
          <a:stretch/>
        </p:blipFill>
        <p:spPr>
          <a:xfrm>
            <a:off x="826920" y="422100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Известные писатели Белгородч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 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Осыков Борис 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Игорь Чернух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i?id=e751b4a89a5068a2e3e4b5230926bb3e-103-144&amp;n=21"/>
          <p:cNvPicPr/>
          <p:nvPr/>
        </p:nvPicPr>
        <p:blipFill>
          <a:blip r:embed="rId1"/>
          <a:stretch/>
        </p:blipFill>
        <p:spPr>
          <a:xfrm>
            <a:off x="539640" y="242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В Белгороде открылась Неделя книги для молодежи"/>
          <p:cNvPicPr/>
          <p:nvPr/>
        </p:nvPicPr>
        <p:blipFill>
          <a:blip r:embed="rId2"/>
          <a:stretch/>
        </p:blipFill>
        <p:spPr>
          <a:xfrm>
            <a:off x="5508720" y="2997360"/>
            <a:ext cx="2670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Известные спортсмены Белгородч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орт – это престиж стр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юди – главное богат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i?id=de63de1dcb6cc5acc104005df85d9722-94-144&amp;n=21"/>
          <p:cNvPicPr/>
          <p:nvPr/>
        </p:nvPicPr>
        <p:blipFill>
          <a:blip r:embed="rId1"/>
          <a:stretch/>
        </p:blipFill>
        <p:spPr>
          <a:xfrm>
            <a:off x="611280" y="2565360"/>
            <a:ext cx="2378160" cy="352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?id=868a07b1dd3a0a4b0b451fa3352aa8f3-13-144&amp;n=21"/>
          <p:cNvPicPr/>
          <p:nvPr/>
        </p:nvPicPr>
        <p:blipFill>
          <a:blip r:embed="rId2"/>
          <a:stretch/>
        </p:blipFill>
        <p:spPr>
          <a:xfrm>
            <a:off x="3348000" y="1628640"/>
            <a:ext cx="2359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Хоркина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Светлана Васи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одилась 19 января в Белго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ветлана - заслуженный мас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порта, двукратная олимпий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емпионка по спортивной гимнастике, трёхкратная абсолютная чемпионка мира, трёхкратная абсолютная чемпионка Европы, четырёхкратная абсолютная чемпионка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2001 году награждена Орденом Почё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Светлана Хоркина Спортивная гимнастика Двукратная олимпийская чемпионка"/>
          <p:cNvPicPr/>
          <p:nvPr/>
        </p:nvPicPr>
        <p:blipFill>
          <a:blip r:embed="rId1"/>
          <a:stretch/>
        </p:blipFill>
        <p:spPr>
          <a:xfrm>
            <a:off x="468360" y="333360"/>
            <a:ext cx="261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Емельяненко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Фёдор Владими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етырёхкратный чемпион мира 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МА в тяжёлом весе по вер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Pride FC», двукратный — по версии «RINGS», трёхкратный — по версии «WAMMA», четырёхкратный чемпион мира и пятикратный чемпион России по боевому самб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ёдор Владимирович - заслуженный мастер спорта по самбо, мастер спорта международного класса по дзюд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i?id=355436ec5a972671152fa4066229257e-26-144&amp;n=21"/>
          <p:cNvPicPr/>
          <p:nvPr/>
        </p:nvPicPr>
        <p:blipFill>
          <a:blip r:embed="rId1"/>
          <a:stretch/>
        </p:blipFill>
        <p:spPr>
          <a:xfrm>
            <a:off x="468360" y="189000"/>
            <a:ext cx="24559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Калугина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алентина Ива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чемпионка СССР 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удожественной гимнас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Белгород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спорта по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удожественной гимнастик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личник физической культур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личник народного просве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G:\Знакомые\КалугинаВИ.JPG"/>
          <p:cNvPicPr/>
          <p:nvPr/>
        </p:nvPicPr>
        <p:blipFill>
          <a:blip r:embed="rId1"/>
          <a:srcRect l="0" t="0" r="0" b="-67"/>
          <a:stretch/>
        </p:blipFill>
        <p:spPr>
          <a:xfrm>
            <a:off x="539640" y="260280"/>
            <a:ext cx="273708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Калугина\6.JPG"/>
          <p:cNvPicPr/>
          <p:nvPr/>
        </p:nvPicPr>
        <p:blipFill>
          <a:blip r:embed="rId2"/>
          <a:stretch/>
        </p:blipFill>
        <p:spPr>
          <a:xfrm>
            <a:off x="6810480" y="3500280"/>
            <a:ext cx="18460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колос, пшеница, поле, небо, облака, макро, фото, обои, картинка #430698 - www.GdeFon.ru"/>
          <p:cNvPicPr/>
          <p:nvPr/>
        </p:nvPicPr>
        <p:blipFill>
          <a:blip r:embed="rId1"/>
          <a:stretch/>
        </p:blipFill>
        <p:spPr>
          <a:xfrm>
            <a:off x="395280" y="295200"/>
            <a:ext cx="8280360" cy="6302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Люди, которыми мы гордим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я за синими лес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емля – прогнутая стог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емля – промятая скирд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емля – борьба моя и хлеб!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а –  любви и долга ме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а в туманах и лучах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разделяем с нею верн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на её легло плечах!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ладимир Михал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Горин Василий Яковл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Яковлевич – бы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едателем колхоза име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рунзе Белгородского райо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гражден орденом Трудового Красного Знамени, дважды Герой социалистического т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Основная общеобразовательная школа с. Большое Чернянского района Белгородской области"/>
          <p:cNvPicPr/>
          <p:nvPr/>
        </p:nvPicPr>
        <p:blipFill>
          <a:blip r:embed="rId1"/>
          <a:stretch/>
        </p:blipFill>
        <p:spPr>
          <a:xfrm>
            <a:off x="482760" y="290520"/>
            <a:ext cx="3095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«Герои современнос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Колес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Александр Юрь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i?id=bf5f22bdc5bf293281bfdd970c9d8e2d-01-144&amp;n=21"/>
          <p:cNvPicPr/>
          <p:nvPr/>
        </p:nvPicPr>
        <p:blipFill>
          <a:blip r:embed="rId1"/>
          <a:stretch/>
        </p:blipFill>
        <p:spPr>
          <a:xfrm>
            <a:off x="826920" y="2565360"/>
            <a:ext cx="2560680" cy="3311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4932360" y="1557360"/>
            <a:ext cx="360036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Зу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Денис</a:t>
            </a:r>
            <a:r>
              <a:rPr b="1" i="1" lang="ru-RU" sz="18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Новости с Северного Кавказа"/>
          <p:cNvPicPr/>
          <p:nvPr/>
        </p:nvPicPr>
        <p:blipFill>
          <a:blip r:embed="rId2"/>
          <a:stretch/>
        </p:blipFill>
        <p:spPr>
          <a:xfrm>
            <a:off x="5435640" y="2637000"/>
            <a:ext cx="2651040" cy="3313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39640" y="6021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Новиков Руслан Анатоль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  <a:ea typeface="Arial"/>
              </a:rPr>
              <a:t>Чумак Юрий Алексе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ыпускник колледжа 1997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гиб 22 августа 1999 года в Дагест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достоен звания Герой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Доска Ю"/>
          <p:cNvPicPr/>
          <p:nvPr/>
        </p:nvPicPr>
        <p:blipFill>
          <a:blip r:embed="rId1"/>
          <a:stretch/>
        </p:blipFill>
        <p:spPr>
          <a:xfrm>
            <a:off x="324000" y="260280"/>
            <a:ext cx="2535120" cy="489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Ю"/>
          <p:cNvPicPr/>
          <p:nvPr/>
        </p:nvPicPr>
        <p:blipFill>
          <a:blip r:embed="rId2"/>
          <a:stretch/>
        </p:blipFill>
        <p:spPr>
          <a:xfrm>
            <a:off x="4211640" y="1197000"/>
            <a:ext cx="2673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Формируемые компетенц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K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1. Понимать сущность и социальную значимость своей будущей профессии, проявлять к ней устойчивый интере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К 4. Осуществлять поиск, анализ и оценку информации, необходимой для постановки и решения профессиональных задач, профессионального и личностного развит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К 5. Использовать информационно-коммуникационные технологии для совершенствования профессиональной де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К 8. Самостоятельно определять задачи профессиональ-ного и личностного развития, заниматься самообразованием, осознанно планировать повышение квалифик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К 2.1. Определять цели и задачи внеурочной деятельности и общения, планировать внеурочные занят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К 2.4. Анализировать процесс и результаты внеурочной деятельности и отдельных занят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Захаров Вячеслав Семе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 1984 по 2004 год директором  педагогического училища № 2, затем педагогического колледжа был Заслуженный учитель школы Захаров В.С.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алантливый преподаватель и руководитель, при котором  учебное заведение  стало известно всей стра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604360" y="6381720"/>
            <a:ext cx="539640" cy="47628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Захаров_ВС"/>
          <p:cNvPicPr/>
          <p:nvPr/>
        </p:nvPicPr>
        <p:blipFill>
          <a:blip r:embed="rId1"/>
          <a:stretch/>
        </p:blipFill>
        <p:spPr>
          <a:xfrm>
            <a:off x="539640" y="1700280"/>
            <a:ext cx="31528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  <a:ea typeface="Arial"/>
              </a:rPr>
              <a:t>Человек, которым я горжус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  <a:ea typeface="Arial"/>
              </a:rPr>
              <a:t>Переверзева Татьяна Никола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нимки из фильма  « Екатерина Велика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:\Users\Кристина\Desktop\работы\Сочинение\JmM5tRS3fV8.jpg"/>
          <p:cNvPicPr/>
          <p:nvPr/>
        </p:nvPicPr>
        <p:blipFill>
          <a:blip r:embed="rId1"/>
          <a:stretch/>
        </p:blipFill>
        <p:spPr>
          <a:xfrm>
            <a:off x="395280" y="2565360"/>
            <a:ext cx="3030480" cy="396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Кристина\Desktop\работы\Сочинение\U1CUXsIgCpM.jpg"/>
          <p:cNvPicPr/>
          <p:nvPr/>
        </p:nvPicPr>
        <p:blipFill>
          <a:blip r:embed="rId2"/>
          <a:stretch/>
        </p:blipFill>
        <p:spPr>
          <a:xfrm>
            <a:off x="3419640" y="2565360"/>
            <a:ext cx="2968560" cy="3957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Кристина\Desktop\работы\Сочинение\rFXvdExUV6Y.jpg"/>
          <p:cNvPicPr/>
          <p:nvPr/>
        </p:nvPicPr>
        <p:blipFill>
          <a:blip r:embed="rId3"/>
          <a:stretch/>
        </p:blipFill>
        <p:spPr>
          <a:xfrm>
            <a:off x="6372360" y="2565360"/>
            <a:ext cx="245412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Фотосе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Users\Кристина\Desktop\работы\Сочинение\1qVmIMvD2_A.jpg"/>
          <p:cNvPicPr/>
          <p:nvPr/>
        </p:nvPicPr>
        <p:blipFill>
          <a:blip r:embed="rId1"/>
          <a:stretch/>
        </p:blipFill>
        <p:spPr>
          <a:xfrm>
            <a:off x="4716360" y="1125360"/>
            <a:ext cx="3994200" cy="5461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Кристина\Desktop\работы\Сочинение\-K8t3KrSLzw.jpg"/>
          <p:cNvPicPr/>
          <p:nvPr/>
        </p:nvPicPr>
        <p:blipFill>
          <a:blip r:embed="rId2"/>
          <a:stretch/>
        </p:blipFill>
        <p:spPr>
          <a:xfrm>
            <a:off x="395280" y="1125360"/>
            <a:ext cx="396072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Учеба на гримера-постиж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Кристина\Desktop\работы\Сочинение\QWS3RZ-3OW8.jpg"/>
          <p:cNvPicPr/>
          <p:nvPr/>
        </p:nvPicPr>
        <p:blipFill>
          <a:blip r:embed="rId1"/>
          <a:stretch/>
        </p:blipFill>
        <p:spPr>
          <a:xfrm>
            <a:off x="468360" y="1773360"/>
            <a:ext cx="4525920" cy="4741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Кристина\Desktop\работы\Сочинение\amYD7HK9TH0.jpg"/>
          <p:cNvPicPr/>
          <p:nvPr/>
        </p:nvPicPr>
        <p:blipFill>
          <a:blip r:embed="rId2"/>
          <a:stretch/>
        </p:blipFill>
        <p:spPr>
          <a:xfrm>
            <a:off x="5292720" y="1916280"/>
            <a:ext cx="326700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«Мы в истории Белгородчин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G:\Кураторство_111НК\111 НК фото\DSC01674.JPG"/>
          <p:cNvPicPr/>
          <p:nvPr/>
        </p:nvPicPr>
        <p:blipFill>
          <a:blip r:embed="rId1"/>
          <a:stretch/>
        </p:blipFill>
        <p:spPr>
          <a:xfrm>
            <a:off x="539640" y="1109520"/>
            <a:ext cx="80647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SAM_202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рилагательное, прилага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глагол, глагол, глаг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фраза из четырёх слов, выражающая личное отношение к описываемому объек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лово-резю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«Так господь определил, что мы родились и живем в эту эпоху и именно на этой земле. Иного времени и иного отечества нам не надо. Так гласит народная мудрость, «народ без истории – что трава на ветру, куда ветер подул, туда и поклонился». Чтобы не кланяться «чужим Богам»,… не отрекаться от своих духовных корней, необходимо любить свою историю, свои традиции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4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География Семеновского полка. Наши города.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Архиепископ Белгородский и Старооскольский Иоан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http://nikolo-ioasaf.prihod.ru/users/80/980/editor_files/image/Novosti-eparh/2011.06.23.jpg"/>
          <p:cNvPicPr/>
          <p:nvPr/>
        </p:nvPicPr>
        <p:blipFill>
          <a:blip r:embed="rId1"/>
          <a:stretch/>
        </p:blipFill>
        <p:spPr>
          <a:xfrm>
            <a:off x="2195640" y="1484280"/>
            <a:ext cx="446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Е.С. Савченко, экс-губернатор Белгородской об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http://tlt-prozrenie.narod.ru/novosti/savchenko.jpg"/>
          <p:cNvPicPr/>
          <p:nvPr/>
        </p:nvPicPr>
        <p:blipFill>
          <a:blip r:embed="rId1"/>
          <a:stretch/>
        </p:blipFill>
        <p:spPr>
          <a:xfrm>
            <a:off x="2556000" y="1413000"/>
            <a:ext cx="3887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В память о геройски погибшем</a:t>
            </a:r>
            <a:br>
              <a:rPr sz="3600"/>
            </a:b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Зуеве Денисе Сергеевич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9280" y="4149360"/>
            <a:ext cx="37195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Дорог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к вам не приду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Новости с Северного Кавказа"/>
          <p:cNvPicPr/>
          <p:nvPr/>
        </p:nvPicPr>
        <p:blipFill>
          <a:blip r:embed="rId1"/>
          <a:stretch/>
        </p:blipFill>
        <p:spPr>
          <a:xfrm>
            <a:off x="684360" y="1484280"/>
            <a:ext cx="3976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i?id=d9818e75d92f7beedf3046e5f6881f06-89-144&amp;n=21"/>
          <p:cNvPicPr/>
          <p:nvPr/>
        </p:nvPicPr>
        <p:blipFill>
          <a:blip r:embed="rId1"/>
          <a:stretch/>
        </p:blipFill>
        <p:spPr>
          <a:xfrm>
            <a:off x="6137280" y="3646440"/>
            <a:ext cx="225108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Белгородский политический клуб - Выборы на пост главы Белгородской области."/>
          <p:cNvPicPr/>
          <p:nvPr/>
        </p:nvPicPr>
        <p:blipFill>
          <a:blip r:embed="rId2"/>
          <a:stretch/>
        </p:blipFill>
        <p:spPr>
          <a:xfrm>
            <a:off x="4788000" y="33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Как нарисовать герб осетии Сайт о рисовании"/>
          <p:cNvPicPr/>
          <p:nvPr/>
        </p:nvPicPr>
        <p:blipFill>
          <a:blip r:embed="rId3"/>
          <a:stretch/>
        </p:blipFill>
        <p:spPr>
          <a:xfrm>
            <a:off x="468360" y="3357720"/>
            <a:ext cx="4248000" cy="287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i?id=f74b623b475e61c3e16d28c2b6612b57-71-144&amp;n=21"/>
          <p:cNvPicPr/>
          <p:nvPr/>
        </p:nvPicPr>
        <p:blipFill>
          <a:blip r:embed="rId4"/>
          <a:stretch/>
        </p:blipFill>
        <p:spPr>
          <a:xfrm>
            <a:off x="1019160" y="549360"/>
            <a:ext cx="22575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?id=0d0ba5902a2d514610d669eba37d4992-26-144&amp;n=21"/>
          <p:cNvPicPr/>
          <p:nvPr/>
        </p:nvPicPr>
        <p:blipFill>
          <a:blip r:embed="rId1"/>
          <a:stretch/>
        </p:blipFill>
        <p:spPr>
          <a:xfrm>
            <a:off x="468360" y="268200"/>
            <a:ext cx="8207280" cy="6256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doni MT Black"/>
              </a:rPr>
              <a:t>«Наше прошло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66560" y="3933720"/>
            <a:ext cx="6769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шлое – оно осталось с н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вовеки, знаю, не умрёт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ячеслав Заха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«Славные люди Белгородчин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Героями книги «Славные люди Белгородчины» стали более 1 000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5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В Белгороде прошла презентация книги  «Славные люди Белгородчины»."/>
          <p:cNvPicPr/>
          <p:nvPr/>
        </p:nvPicPr>
        <p:blipFill>
          <a:blip r:embed="rId1"/>
          <a:stretch/>
        </p:blipFill>
        <p:spPr>
          <a:xfrm>
            <a:off x="4861080" y="3884760"/>
            <a:ext cx="3743280" cy="2498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Героями книги «Славные люди Белгородчины» стали более 1 000 человек"/>
          <p:cNvPicPr/>
          <p:nvPr/>
        </p:nvPicPr>
        <p:blipFill>
          <a:blip r:embed="rId2"/>
          <a:stretch/>
        </p:blipFill>
        <p:spPr>
          <a:xfrm>
            <a:off x="468360" y="2781360"/>
            <a:ext cx="43196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Наталья</cp:lastModifiedBy>
  <dcterms:modified xsi:type="dcterms:W3CDTF">2024-06-01T11:04:26Z</dcterms:modified>
  <cp:revision>28</cp:revision>
  <dc:subject/>
  <dc:title>Шаблон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1200000000000102a2010207f7000400038000</vt:lpwstr>
  </property>
</Properties>
</file>