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6ED-5DBD-4716-9F4B-65D59814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0E0-D07F-41FF-9E47-63496F57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208-710E-4743-8885-9DBFE384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CD2-3A81-45DC-9974-5D206523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6B3-C5B7-4289-AFBD-162CC0AF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788-2B0C-445C-B7F2-30AD478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534-2492-46D0-9C1B-3B93CDA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EA3-E8EC-4091-8E91-62401323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B9E-7BDB-4A8E-A8BF-595CDE1A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55D-0A64-49D9-BA56-70CD2C6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D98-D50B-4A73-B670-5F950EE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4FF-B384-4E3D-B653-2ED4F63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9E74-561C-49EA-B964-7334F0AE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585" t="0" r="6797" b="0"/>
          <a:stretch/>
        </p:blipFill>
        <p:spPr>
          <a:xfrm>
            <a:off x="0" y="47628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10138" t="12213" r="12796" b="12189"/>
          <a:stretch/>
        </p:blipFill>
        <p:spPr>
          <a:xfrm>
            <a:off x="250920" y="907920"/>
            <a:ext cx="5976720" cy="4397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82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16490" b="0"/>
          <a:stretch/>
        </p:blipFill>
        <p:spPr>
          <a:xfrm>
            <a:off x="179280" y="260280"/>
            <a:ext cx="6121440" cy="4849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6520" y="549360"/>
            <a:ext cx="3004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6880" y="2924280"/>
            <a:ext cx="361260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640" y="1700280"/>
            <a:ext cx="50011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еустремл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640" y="4365720"/>
            <a:ext cx="610164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ение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мелым исследовател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3240" y="333360"/>
            <a:ext cx="6124320" cy="6129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енно та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ыцари нау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явля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линной гордость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е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малой роди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торых воспит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ервую очередь сем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мейный уклад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адиции и огром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юбовь ро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68880" y="5805360"/>
            <a:ext cx="429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Н.П. Крав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7673E-006 L -0.3474 -0.26348 E">
                                      <p:cBhvr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3982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14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485" t="0" r="6683" b="0"/>
          <a:stretch/>
        </p:blipFill>
        <p:spPr>
          <a:xfrm>
            <a:off x="0" y="404640"/>
            <a:ext cx="914400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3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360"/>
            <a:ext cx="820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известный известный учены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трихи к портрету Н.П. Крав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461800">
            <a:off x="3276360" y="3284280"/>
            <a:ext cx="2995560" cy="29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8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67331" t="26385" r="0" b="14450"/>
          <a:stretch/>
        </p:blipFill>
        <p:spPr>
          <a:xfrm>
            <a:off x="0" y="0"/>
            <a:ext cx="5826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982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503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5480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765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8000" y="189000"/>
            <a:ext cx="6119280" cy="5041800"/>
            <a:chOff x="108000" y="189000"/>
            <a:chExt cx="6119280" cy="50418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8000" y="189000"/>
              <a:ext cx="2958120" cy="50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305160" y="189000"/>
              <a:ext cx="2922120" cy="504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982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202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89120" cy="344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42544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610000" cy="347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6072120" cy="455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446880" y="3268800"/>
            <a:ext cx="2609640" cy="347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12610" t="0" r="11779" b="0"/>
          <a:stretch/>
        </p:blipFill>
        <p:spPr>
          <a:xfrm>
            <a:off x="6588000" y="333360"/>
            <a:ext cx="21607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6:11:51Z</dcterms:created>
  <dc:creator>сергей</dc:creator>
  <dc:description/>
  <dc:language>en-US</dc:language>
  <cp:lastModifiedBy>сергей</cp:lastModifiedBy>
  <dcterms:modified xsi:type="dcterms:W3CDTF">2017-03-13T16:14:48Z</dcterms:modified>
  <cp:revision>4</cp:revision>
  <dc:subject/>
  <dc:title>Слайд 1</dc:title>
</cp:coreProperties>
</file>