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C5538-D4EA-4D6D-9E1B-C5EDF47CD1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3C68A-2224-4377-ABBE-C2680D6F228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D3B2A-743A-4DA0-8AFA-2A8214EEC75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C834-614B-42FB-BEF8-77402081B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60B9-562A-46EE-B4B5-C1DEA0C0D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C0E4-5BB7-4CE0-A9D0-B3E3C7A1B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5BAC-C07A-488E-AD57-F5011FDE1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A8BA6-C963-487A-A073-2EE132B97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C5804-E860-48DD-94C8-7D9FD5AA5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4A563-E61E-40C7-9EA0-830181B8A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B2C2C-0344-4FBB-A10C-5D90ADCC3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D7635-6B37-4939-9717-E31A18B9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B8B85-477D-4B45-B1CE-6432D80EB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1CEA0-C715-4323-8447-798D59DF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DF62-79C6-40AD-A033-546EBD57D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26FE7-59CC-46F0-8AE4-93C3FB9E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CBA4F-5320-4F56-A357-AF7A90DA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F7F04-6282-46BF-A80D-3EC1C65C7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E3E94-78F2-48B5-9CC2-D924E9EA5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BD414-378D-4DF3-8936-1D4EA1A92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9451-CA93-4747-95D8-51940865D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1C32-73BB-4BE7-911E-3691EBF3D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8441-E02F-444C-8B5B-354573676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D6D3-C5B9-41A3-9C7C-EA928EC7E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786A-A7CC-4A18-9F15-24F5B875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56EF-E66E-4889-9323-42295448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72B9-7847-4332-AD12-EA4FF2DF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52047-541E-45D8-AF1D-E19ECF214BF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4A9C5-2DD3-42B4-8F70-ABE8F6BCD599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1.xml"/><Relationship Id="rId9" Type="http://schemas.openxmlformats.org/officeDocument/2006/relationships/slide" Target="slide12.xml"/><Relationship Id="rId10" Type="http://schemas.openxmlformats.org/officeDocument/2006/relationships/slide" Target="slide13.xml"/><Relationship Id="rId11" Type="http://schemas.openxmlformats.org/officeDocument/2006/relationships/slide" Target="slide14.xml"/><Relationship Id="rId12" Type="http://schemas.openxmlformats.org/officeDocument/2006/relationships/slide" Target="slide15.xml"/><Relationship Id="rId13" Type="http://schemas.openxmlformats.org/officeDocument/2006/relationships/slide" Target="slide16.xml"/><Relationship Id="rId14" Type="http://schemas.openxmlformats.org/officeDocument/2006/relationships/slide" Target="slide17.xml"/><Relationship Id="rId15" Type="http://schemas.openxmlformats.org/officeDocument/2006/relationships/slide" Target="slide18.xml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0" y="2276640"/>
            <a:ext cx="9144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5c2ff"/>
                </a:solidFill>
                <a:latin typeface="Arial"/>
              </a:rPr>
              <a:t>НЕУДОБНЫЕ ВОПРОСЫ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5c2ff"/>
                </a:solidFill>
                <a:latin typeface="Arial"/>
              </a:rPr>
              <a:t>КАК НА НИХ ОТВЕЧАТЬ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2" descr="C:\Users\Gamer\Desktop\учитель года 2014\игра\logo_ug (1).gif"/>
          <p:cNvPicPr/>
          <p:nvPr/>
        </p:nvPicPr>
        <p:blipFill>
          <a:blip r:embed="rId1"/>
          <a:stretch/>
        </p:blipFill>
        <p:spPr>
          <a:xfrm>
            <a:off x="298440" y="316080"/>
            <a:ext cx="1419120" cy="14191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684000" y="620640"/>
            <a:ext cx="817236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9e09b"/>
                </a:solidFill>
                <a:latin typeface="Arial"/>
              </a:rPr>
              <a:t>Беседа с родителя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9e09b"/>
                </a:solidFill>
                <a:latin typeface="Arial"/>
              </a:rPr>
              <a:t>Старший воспитател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9e09b"/>
                </a:solidFill>
                <a:latin typeface="Arial"/>
              </a:rPr>
              <a:t>МКДОУ №8 г. Мирног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9e09b"/>
                </a:solidFill>
                <a:latin typeface="Arial"/>
              </a:rPr>
              <a:t>Стронадко Наталья Владимиро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1857240"/>
            <a:ext cx="91440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Вопрос 2.</a:t>
            </a: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 Почему этот дядя такой большой, а ездит в коляске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9"/>
          <p:cNvSpPr/>
          <p:nvPr/>
        </p:nvSpPr>
        <p:spPr>
          <a:xfrm>
            <a:off x="468360" y="6165720"/>
            <a:ext cx="863640" cy="432000"/>
          </a:xfrm>
          <a:prstGeom prst="leftArrow">
            <a:avLst>
              <a:gd name="adj1" fmla="val 50000"/>
              <a:gd name="adj2" fmla="val 49979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Прямоугольник 7"/>
          <p:cNvSpPr/>
          <p:nvPr/>
        </p:nvSpPr>
        <p:spPr>
          <a:xfrm>
            <a:off x="0" y="2142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Тема: О физических недостатка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5" descr="C:\Users\Gamer\Desktop\учитель года 2014\неудобные вопросы. как на них отвечать\www-St-Takla-org___Disability-Chair.jpg"/>
          <p:cNvPicPr/>
          <p:nvPr/>
        </p:nvPicPr>
        <p:blipFill>
          <a:blip r:embed="rId1"/>
          <a:stretch/>
        </p:blipFill>
        <p:spPr>
          <a:xfrm>
            <a:off x="6215040" y="3143160"/>
            <a:ext cx="250020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277920"/>
            <a:ext cx="86425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Тема: </a:t>
            </a: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О страхах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-360" y="1628640"/>
            <a:ext cx="8218440" cy="7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marL="185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Вопрос 1.</a:t>
            </a: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 Укол больно буде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18504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делать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12"/>
          <p:cNvSpPr/>
          <p:nvPr/>
        </p:nvSpPr>
        <p:spPr>
          <a:xfrm>
            <a:off x="468360" y="6165720"/>
            <a:ext cx="863640" cy="432000"/>
          </a:xfrm>
          <a:prstGeom prst="leftArrow">
            <a:avLst>
              <a:gd name="adj1" fmla="val 50000"/>
              <a:gd name="adj2" fmla="val 49979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5" descr="C:\Users\Gamer\Desktop\учитель года 2014\неудобные вопросы. как на них отвечать\1288120106l7mZ2Q.jpg"/>
          <p:cNvPicPr/>
          <p:nvPr/>
        </p:nvPicPr>
        <p:blipFill>
          <a:blip r:embed="rId1"/>
          <a:stretch/>
        </p:blipFill>
        <p:spPr>
          <a:xfrm>
            <a:off x="5214960" y="3778200"/>
            <a:ext cx="3568680" cy="26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0" y="1285560"/>
            <a:ext cx="8424720" cy="5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Вопрос 2.</a:t>
            </a: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 А вдруг меня съест чудовище из шкаф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9"/>
          <p:cNvSpPr/>
          <p:nvPr/>
        </p:nvSpPr>
        <p:spPr>
          <a:xfrm>
            <a:off x="468360" y="6165720"/>
            <a:ext cx="863640" cy="432000"/>
          </a:xfrm>
          <a:prstGeom prst="leftArrow">
            <a:avLst>
              <a:gd name="adj1" fmla="val 50000"/>
              <a:gd name="adj2" fmla="val 49979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Прямоугольник 7"/>
          <p:cNvSpPr/>
          <p:nvPr/>
        </p:nvSpPr>
        <p:spPr>
          <a:xfrm>
            <a:off x="214200" y="285840"/>
            <a:ext cx="871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Тема: О страха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6" descr="C:\Users\Gamer\Desktop\учитель года 2014\неудобные вопросы. как на них отвечать\18035-1u.jpg"/>
          <p:cNvPicPr/>
          <p:nvPr/>
        </p:nvPicPr>
        <p:blipFill>
          <a:blip r:embed="rId1"/>
          <a:stretch/>
        </p:blipFill>
        <p:spPr>
          <a:xfrm>
            <a:off x="4500720" y="3571920"/>
            <a:ext cx="41497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277920"/>
            <a:ext cx="8713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Тема: О разладе в семье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468360" y="1928880"/>
            <a:ext cx="799128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Вопрос 1.</a:t>
            </a: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 Почему ушёл пап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26"/>
          <p:cNvSpPr/>
          <p:nvPr/>
        </p:nvSpPr>
        <p:spPr>
          <a:xfrm>
            <a:off x="468360" y="6165720"/>
            <a:ext cx="863640" cy="432000"/>
          </a:xfrm>
          <a:prstGeom prst="leftArrow">
            <a:avLst>
              <a:gd name="adj1" fmla="val 50000"/>
              <a:gd name="adj2" fmla="val 49979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5" descr="C:\Users\Gamer\Desktop\учитель года 2014\неудобные вопросы. как на них отвечать\605968.jpg"/>
          <p:cNvPicPr/>
          <p:nvPr/>
        </p:nvPicPr>
        <p:blipFill>
          <a:blip r:embed="rId1"/>
          <a:stretch/>
        </p:blipFill>
        <p:spPr>
          <a:xfrm>
            <a:off x="4929120" y="3643200"/>
            <a:ext cx="3946680" cy="28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8"/>
          <p:cNvSpPr/>
          <p:nvPr/>
        </p:nvSpPr>
        <p:spPr>
          <a:xfrm>
            <a:off x="857160" y="1285920"/>
            <a:ext cx="771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Вопрос 2.</a:t>
            </a: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 Почему папа уходит из дома, когда к нам приезжает погостить мамина мама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9"/>
          <p:cNvSpPr/>
          <p:nvPr/>
        </p:nvSpPr>
        <p:spPr>
          <a:xfrm>
            <a:off x="468360" y="6165720"/>
            <a:ext cx="863640" cy="432000"/>
          </a:xfrm>
          <a:prstGeom prst="leftArrow">
            <a:avLst>
              <a:gd name="adj1" fmla="val 50000"/>
              <a:gd name="adj2" fmla="val 49979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Прямоугольник 7"/>
          <p:cNvSpPr/>
          <p:nvPr/>
        </p:nvSpPr>
        <p:spPr>
          <a:xfrm>
            <a:off x="0" y="2858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Тема: О разладе в семь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5" descr="C:\Users\Gamer\Desktop\учитель года 2014\неудобные вопросы. как на них отвечать\35166.jpeg"/>
          <p:cNvPicPr/>
          <p:nvPr/>
        </p:nvPicPr>
        <p:blipFill>
          <a:blip r:embed="rId1"/>
          <a:stretch/>
        </p:blipFill>
        <p:spPr>
          <a:xfrm>
            <a:off x="5072040" y="3594240"/>
            <a:ext cx="3643200" cy="29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8"/>
          <p:cNvSpPr/>
          <p:nvPr/>
        </p:nvSpPr>
        <p:spPr>
          <a:xfrm>
            <a:off x="857160" y="1857240"/>
            <a:ext cx="77155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Вопрос 1.</a:t>
            </a: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 Почему Взрослым можно ходить без шапки, а детям нет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9"/>
          <p:cNvSpPr/>
          <p:nvPr/>
        </p:nvSpPr>
        <p:spPr>
          <a:xfrm>
            <a:off x="468360" y="6165720"/>
            <a:ext cx="863640" cy="432000"/>
          </a:xfrm>
          <a:prstGeom prst="leftArrow">
            <a:avLst>
              <a:gd name="adj1" fmla="val 50000"/>
              <a:gd name="adj2" fmla="val 49979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Прямоугольник 7"/>
          <p:cNvSpPr/>
          <p:nvPr/>
        </p:nvSpPr>
        <p:spPr>
          <a:xfrm>
            <a:off x="0" y="2858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Тема: О неравенстве детей и  взрослы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5" descr="C:\Users\Gamer\Desktop\учитель года 2014\неудобные вопросы. как на них отвечать\582101144.jpg"/>
          <p:cNvPicPr/>
          <p:nvPr/>
        </p:nvPicPr>
        <p:blipFill>
          <a:blip r:embed="rId1"/>
          <a:stretch/>
        </p:blipFill>
        <p:spPr>
          <a:xfrm>
            <a:off x="5176800" y="4000680"/>
            <a:ext cx="3613320" cy="23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8"/>
          <p:cNvSpPr/>
          <p:nvPr/>
        </p:nvSpPr>
        <p:spPr>
          <a:xfrm>
            <a:off x="857160" y="1857240"/>
            <a:ext cx="77155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Вопрос 2.</a:t>
            </a: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 Почему взрослым можно пить вино, а детям нет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AutoShape 9"/>
          <p:cNvSpPr/>
          <p:nvPr/>
        </p:nvSpPr>
        <p:spPr>
          <a:xfrm>
            <a:off x="468360" y="6165720"/>
            <a:ext cx="863640" cy="432000"/>
          </a:xfrm>
          <a:prstGeom prst="leftArrow">
            <a:avLst>
              <a:gd name="adj1" fmla="val 50000"/>
              <a:gd name="adj2" fmla="val 49979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рямоугольник 7"/>
          <p:cNvSpPr/>
          <p:nvPr/>
        </p:nvSpPr>
        <p:spPr>
          <a:xfrm>
            <a:off x="0" y="2858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Тема: О неравенстве детей и  взрослы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5" descr="C:\Users\Gamer\Desktop\учитель года 2014\неудобные вопросы. как на них отвечать\allfons.ru-27267.jpg"/>
          <p:cNvPicPr/>
          <p:nvPr/>
        </p:nvPicPr>
        <p:blipFill>
          <a:blip r:embed="rId1"/>
          <a:stretch/>
        </p:blipFill>
        <p:spPr>
          <a:xfrm>
            <a:off x="5143680" y="3857760"/>
            <a:ext cx="3511440" cy="26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8"/>
          <p:cNvSpPr/>
          <p:nvPr/>
        </p:nvSpPr>
        <p:spPr>
          <a:xfrm>
            <a:off x="857160" y="1571760"/>
            <a:ext cx="77155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Вопрос 1.</a:t>
            </a: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 Я когда-нибудь умру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>
            <a:off x="468360" y="6165720"/>
            <a:ext cx="863640" cy="432000"/>
          </a:xfrm>
          <a:prstGeom prst="leftArrow">
            <a:avLst>
              <a:gd name="adj1" fmla="val 50000"/>
              <a:gd name="adj2" fmla="val 49979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Прямоугольник 7"/>
          <p:cNvSpPr/>
          <p:nvPr/>
        </p:nvSpPr>
        <p:spPr>
          <a:xfrm>
            <a:off x="0" y="2858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Тема: О смерт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5" descr="C:\Users\Gamer\Desktop\учитель года 2014\неудобные вопросы. как на них отвечать\1300455088_detskie_straxi_strax_smerti.jpg"/>
          <p:cNvPicPr/>
          <p:nvPr/>
        </p:nvPicPr>
        <p:blipFill>
          <a:blip r:embed="rId1"/>
          <a:stretch/>
        </p:blipFill>
        <p:spPr>
          <a:xfrm>
            <a:off x="4714920" y="3286080"/>
            <a:ext cx="403380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8"/>
          <p:cNvSpPr/>
          <p:nvPr/>
        </p:nvSpPr>
        <p:spPr>
          <a:xfrm>
            <a:off x="857160" y="1571760"/>
            <a:ext cx="77155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Вопрос 2.</a:t>
            </a: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 Мамы больше нет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9"/>
          <p:cNvSpPr/>
          <p:nvPr/>
        </p:nvSpPr>
        <p:spPr>
          <a:xfrm>
            <a:off x="468360" y="6165720"/>
            <a:ext cx="863640" cy="432000"/>
          </a:xfrm>
          <a:prstGeom prst="leftArrow">
            <a:avLst>
              <a:gd name="adj1" fmla="val 50000"/>
              <a:gd name="adj2" fmla="val 49979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Прямоугольник 7"/>
          <p:cNvSpPr/>
          <p:nvPr/>
        </p:nvSpPr>
        <p:spPr>
          <a:xfrm>
            <a:off x="0" y="2858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Тема: О смерт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5" descr="C:\Users\Gamer\Desktop\учитель года 2014\неудобные вопросы. как на них отвечать\32186-1u.jpg"/>
          <p:cNvPicPr/>
          <p:nvPr/>
        </p:nvPicPr>
        <p:blipFill>
          <a:blip r:embed="rId1"/>
          <a:stretch/>
        </p:blipFill>
        <p:spPr>
          <a:xfrm>
            <a:off x="4357800" y="3286080"/>
            <a:ext cx="44434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Правила ответов на любые вопросы ребенка</a:t>
            </a:r>
            <a:br>
              <a:rPr sz="4400"/>
            </a:b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08000" y="1412640"/>
            <a:ext cx="8856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ври. Говори ребенку только правду, но в доступной для него форм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овори проще. Главное преимущество простоты в том, что ты идёшь к ответу по наиболее короткой дорог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седовать следует на равных, ваши глаза должны находиться на одном уровн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йми и прочувствуй, о чём ребенок на самом деле тебя спрашивает. Дети задают околичные вопросы не потому, что хитры и тактичны, просто им иногда сложно выразить тревожащие их мыс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сли тебе трудно ответить на какой-то вопрос, проанализируй, что тебе мешает, а потом честно расскажи об этом своему ребенк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5"/>
          <p:cNvSpPr/>
          <p:nvPr/>
        </p:nvSpPr>
        <p:spPr>
          <a:xfrm>
            <a:off x="395280" y="2637000"/>
            <a:ext cx="82486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21" descr="4FK93M6Knm_i2"/>
          <p:cNvPicPr/>
          <p:nvPr/>
        </p:nvPicPr>
        <p:blipFill>
          <a:blip r:embed="rId1"/>
          <a:stretch/>
        </p:blipFill>
        <p:spPr>
          <a:xfrm>
            <a:off x="3643200" y="5000760"/>
            <a:ext cx="5500800" cy="1857240"/>
          </a:xfrm>
          <a:prstGeom prst="rect">
            <a:avLst/>
          </a:prstGeom>
          <a:ln w="0">
            <a:noFill/>
          </a:ln>
        </p:spPr>
      </p:pic>
      <p:pic>
        <p:nvPicPr>
          <p:cNvPr id="110" name="своя игра_1.mp3" descr=""/>
          <p:cNvPicPr/>
          <p:nvPr/>
        </p:nvPicPr>
        <p:blipFill>
          <a:blip r:embed="rId2"/>
          <a:stretch/>
        </p:blipFill>
        <p:spPr>
          <a:xfrm>
            <a:off x="8643960" y="3571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с двумя скругленными противолежащими углами 1"/>
          <p:cNvSpPr/>
          <p:nvPr/>
        </p:nvSpPr>
        <p:spPr>
          <a:xfrm>
            <a:off x="1452600" y="725400"/>
            <a:ext cx="5927760" cy="496800"/>
          </a:xfrm>
          <a:prstGeom prst="pie">
            <a:avLst/>
          </a:prstGeom>
          <a:solidFill>
            <a:srgbClr val="85c2ff"/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 сексе                                             3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рямоугольник с двумя скругленными противолежащими углами 6"/>
          <p:cNvSpPr/>
          <p:nvPr/>
        </p:nvSpPr>
        <p:spPr>
          <a:xfrm>
            <a:off x="1476360" y="1316160"/>
            <a:ext cx="5926320" cy="496800"/>
          </a:xfrm>
          <a:prstGeom prst="pie">
            <a:avLst/>
          </a:prstGeom>
          <a:solidFill>
            <a:srgbClr val="85c2ff"/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 тайне рождения                           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рямоугольник с двумя скругленными противолежащими углами 7"/>
          <p:cNvSpPr/>
          <p:nvPr/>
        </p:nvSpPr>
        <p:spPr>
          <a:xfrm>
            <a:off x="1455840" y="1906560"/>
            <a:ext cx="5927760" cy="495360"/>
          </a:xfrm>
          <a:prstGeom prst="pie">
            <a:avLst/>
          </a:prstGeom>
          <a:solidFill>
            <a:srgbClr val="85c2ff"/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 физических недостатках             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рямоугольник с двумя скругленными противолежащими углами 8"/>
          <p:cNvSpPr/>
          <p:nvPr/>
        </p:nvSpPr>
        <p:spPr>
          <a:xfrm>
            <a:off x="1486080" y="2496960"/>
            <a:ext cx="5927400" cy="495360"/>
          </a:xfrm>
          <a:prstGeom prst="pie">
            <a:avLst/>
          </a:prstGeom>
          <a:solidFill>
            <a:srgbClr val="85c2ff"/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 страхах                                         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рямоугольник с двумя скругленными противолежащими углами 9"/>
          <p:cNvSpPr/>
          <p:nvPr/>
        </p:nvSpPr>
        <p:spPr>
          <a:xfrm>
            <a:off x="1486080" y="3103560"/>
            <a:ext cx="5927400" cy="496800"/>
          </a:xfrm>
          <a:prstGeom prst="pie">
            <a:avLst/>
          </a:prstGeom>
          <a:solidFill>
            <a:srgbClr val="85c2ff"/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 разладе в семье                          1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рямоугольник с двумя скругленными противолежащими углами 10"/>
          <p:cNvSpPr/>
          <p:nvPr/>
        </p:nvSpPr>
        <p:spPr>
          <a:xfrm>
            <a:off x="1486080" y="3711600"/>
            <a:ext cx="5927400" cy="495360"/>
          </a:xfrm>
          <a:prstGeom prst="pie">
            <a:avLst/>
          </a:prstGeom>
          <a:solidFill>
            <a:srgbClr val="85c2ff"/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 неравенстве детей и взрослых    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рямоугольник с двумя скругленными противолежащими углами 11"/>
          <p:cNvSpPr/>
          <p:nvPr/>
        </p:nvSpPr>
        <p:spPr>
          <a:xfrm>
            <a:off x="1473120" y="4300560"/>
            <a:ext cx="5926320" cy="496800"/>
          </a:xfrm>
          <a:prstGeom prst="pie">
            <a:avLst/>
          </a:prstGeom>
          <a:solidFill>
            <a:srgbClr val="85c2ff"/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 смерти                                           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306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8" nodeType="clickEffect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28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38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1547280" y="3715920"/>
            <a:ext cx="648036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66"/>
                </a:solidFill>
                <a:latin typeface="Arial"/>
              </a:rPr>
              <a:t>Всем спасибо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cc66"/>
                </a:solidFill>
                <a:latin typeface="Arial"/>
              </a:rPr>
              <a:t>Молодцы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11" descr="744637"/>
          <p:cNvPicPr/>
          <p:nvPr/>
        </p:nvPicPr>
        <p:blipFill>
          <a:blip r:embed="rId1"/>
          <a:stretch/>
        </p:blipFill>
        <p:spPr>
          <a:xfrm>
            <a:off x="2771640" y="549360"/>
            <a:ext cx="4038840" cy="3025800"/>
          </a:xfrm>
          <a:prstGeom prst="rect">
            <a:avLst/>
          </a:prstGeom>
          <a:ln w="0">
            <a:noFill/>
          </a:ln>
        </p:spPr>
      </p:pic>
      <p:pic>
        <p:nvPicPr>
          <p:cNvPr id="185" name="своя игра3.mp3" descr=""/>
          <p:cNvPicPr/>
          <p:nvPr/>
        </p:nvPicPr>
        <p:blipFill>
          <a:blip r:embed="rId2"/>
          <a:stretch/>
        </p:blipFill>
        <p:spPr>
          <a:xfrm>
            <a:off x="8501040" y="5716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63347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66"/>
                </a:solidFill>
                <a:latin typeface="Arial"/>
              </a:rPr>
              <a:t>Темы игры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500040" y="1214280"/>
          <a:ext cx="8143920" cy="5357880"/>
        </p:xfrm>
        <a:graphic>
          <a:graphicData uri="http://schemas.openxmlformats.org/drawingml/2006/table">
            <a:tbl>
              <a:tblPr/>
              <a:tblGrid>
                <a:gridCol w="5137200"/>
                <a:gridCol w="958680"/>
                <a:gridCol w="1076400"/>
                <a:gridCol w="971640"/>
              </a:tblGrid>
              <a:tr h="64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cc66"/>
                          </a:solidFill>
                          <a:latin typeface="Arial"/>
                        </a:rPr>
                        <a:t>О секс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cc66"/>
                          </a:solidFill>
                          <a:latin typeface="Arial"/>
                        </a:rPr>
                        <a:t>О тайне рождени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71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cc66"/>
                          </a:solidFill>
                          <a:latin typeface="Arial"/>
                        </a:rPr>
                        <a:t>О физических недостатках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cc66"/>
                          </a:solidFill>
                          <a:latin typeface="Arial"/>
                        </a:rPr>
                        <a:t>О страхах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cc66"/>
                          </a:solidFill>
                          <a:latin typeface="Arial"/>
                        </a:rPr>
                        <a:t>О разладе в семь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7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cc66"/>
                          </a:solidFill>
                          <a:latin typeface="Arial"/>
                        </a:rPr>
                        <a:t>О неравенстве детей и взрослых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cc66"/>
                          </a:solidFill>
                          <a:latin typeface="Arial"/>
                        </a:rPr>
                        <a:t>О смерт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Управляющая кнопка: домой 1">
            <a:hlinkClick r:id="" action="ppaction://hlinkshowjump?jump=lastslide"/>
          </p:cNvPr>
          <p:cNvSpPr/>
          <p:nvPr/>
        </p:nvSpPr>
        <p:spPr>
          <a:xfrm>
            <a:off x="179280" y="189000"/>
            <a:ext cx="468360" cy="53820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38200"/>
              <a:gd name="textAreaBottom" fmla="*/ 507960 h 538200"/>
            </a:gdLst>
            <a:ahLst/>
            <a:rect l="textAreaLeft" t="textAreaTop" r="textAreaRight" b="textAreaBottom"/>
            <a:pathLst>
              <a:path w="21600" h="24818">
                <a:moveTo>
                  <a:pt x="0" y="0"/>
                </a:moveTo>
                <a:lnTo>
                  <a:pt x="21600" y="0"/>
                </a:lnTo>
                <a:lnTo>
                  <a:pt x="21600" y="24818"/>
                </a:lnTo>
                <a:lnTo>
                  <a:pt x="0" y="24818"/>
                </a:lnTo>
                <a:close/>
              </a:path>
              <a:path fill="lightenLess" w="21600" h="248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18">
                <a:moveTo>
                  <a:pt x="21600" y="0"/>
                </a:moveTo>
                <a:lnTo>
                  <a:pt x="21600" y="24818"/>
                </a:lnTo>
                <a:lnTo>
                  <a:pt x="20200" y="23418"/>
                </a:lnTo>
                <a:lnTo>
                  <a:pt x="20200" y="1400"/>
                </a:lnTo>
                <a:close/>
              </a:path>
              <a:path fill="darkenLess" w="21600" h="24818">
                <a:moveTo>
                  <a:pt x="21600" y="24818"/>
                </a:moveTo>
                <a:lnTo>
                  <a:pt x="0" y="24818"/>
                </a:lnTo>
                <a:lnTo>
                  <a:pt x="1400" y="23418"/>
                </a:lnTo>
                <a:lnTo>
                  <a:pt x="20200" y="23418"/>
                </a:lnTo>
                <a:close/>
              </a:path>
              <a:path fill="lighten" w="21600" h="24818">
                <a:moveTo>
                  <a:pt x="0" y="248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18"/>
                </a:lnTo>
                <a:close/>
              </a:path>
              <a:path fill="darken" w="21600" h="24818">
                <a:moveTo>
                  <a:pt x="10800" y="5446"/>
                </a:moveTo>
                <a:lnTo>
                  <a:pt x="13376" y="8057"/>
                </a:lnTo>
                <a:lnTo>
                  <a:pt x="13376" y="6317"/>
                </a:lnTo>
                <a:lnTo>
                  <a:pt x="15152" y="6317"/>
                </a:lnTo>
                <a:lnTo>
                  <a:pt x="15152" y="9833"/>
                </a:lnTo>
                <a:lnTo>
                  <a:pt x="17763" y="12409"/>
                </a:lnTo>
                <a:lnTo>
                  <a:pt x="16109" y="12409"/>
                </a:lnTo>
                <a:lnTo>
                  <a:pt x="16109" y="19598"/>
                </a:lnTo>
                <a:lnTo>
                  <a:pt x="5491" y="19598"/>
                </a:lnTo>
                <a:lnTo>
                  <a:pt x="5491" y="12409"/>
                </a:lnTo>
                <a:lnTo>
                  <a:pt x="3837" y="12409"/>
                </a:lnTo>
                <a:close/>
              </a:path>
              <a:path fill="darkenLess" w="21600" h="24818">
                <a:moveTo>
                  <a:pt x="13376" y="8057"/>
                </a:moveTo>
                <a:lnTo>
                  <a:pt x="13376" y="6317"/>
                </a:lnTo>
                <a:lnTo>
                  <a:pt x="15152" y="6317"/>
                </a:lnTo>
                <a:lnTo>
                  <a:pt x="15152" y="9833"/>
                </a:lnTo>
                <a:close/>
              </a:path>
              <a:path fill="darkenLess" w="21600" h="24818">
                <a:moveTo>
                  <a:pt x="9877" y="15908"/>
                </a:moveTo>
                <a:lnTo>
                  <a:pt x="11723" y="15908"/>
                </a:lnTo>
                <a:lnTo>
                  <a:pt x="11723" y="19598"/>
                </a:lnTo>
                <a:lnTo>
                  <a:pt x="16109" y="19598"/>
                </a:lnTo>
                <a:lnTo>
                  <a:pt x="16109" y="12409"/>
                </a:lnTo>
                <a:lnTo>
                  <a:pt x="5491" y="12409"/>
                </a:lnTo>
                <a:lnTo>
                  <a:pt x="5491" y="19598"/>
                </a:lnTo>
                <a:lnTo>
                  <a:pt x="9877" y="19598"/>
                </a:lnTo>
                <a:close/>
              </a:path>
            </a:pathLst>
          </a:custGeom>
          <a:solidFill>
            <a:srgbClr val="3399ff"/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277920"/>
            <a:ext cx="86407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Тема: О сексе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AutoShape 16">
            <a:hlinkClick r:id="rId1" action="ppaction://hlinksldjump"/>
          </p:cNvPr>
          <p:cNvSpPr/>
          <p:nvPr/>
        </p:nvSpPr>
        <p:spPr>
          <a:xfrm>
            <a:off x="468360" y="6165720"/>
            <a:ext cx="863640" cy="432000"/>
          </a:xfrm>
          <a:prstGeom prst="leftArrow">
            <a:avLst>
              <a:gd name="adj1" fmla="val 50000"/>
              <a:gd name="adj2" fmla="val 49979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2286000"/>
            <a:ext cx="678672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Вопрос 1.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Что такое секс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5" descr="C:\Users\Gamer\Desktop\учитель года 2014\неудобные вопросы. как на них отвечать\01.jpg"/>
          <p:cNvPicPr/>
          <p:nvPr/>
        </p:nvPicPr>
        <p:blipFill>
          <a:blip r:embed="rId2"/>
          <a:stretch/>
        </p:blipFill>
        <p:spPr>
          <a:xfrm>
            <a:off x="6715080" y="3929040"/>
            <a:ext cx="199404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14200" y="1643040"/>
            <a:ext cx="87156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Вопрос 2.</a:t>
            </a: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40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          </a:t>
            </a: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Чем мальчики отличаютс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40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                                      </a:t>
            </a: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от девочек? 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13">
            <a:hlinkClick r:id="rId1" action="ppaction://hlinksldjump"/>
          </p:cNvPr>
          <p:cNvSpPr/>
          <p:nvPr/>
        </p:nvSpPr>
        <p:spPr>
          <a:xfrm>
            <a:off x="468360" y="6165720"/>
            <a:ext cx="863640" cy="432000"/>
          </a:xfrm>
          <a:prstGeom prst="leftArrow">
            <a:avLst>
              <a:gd name="adj1" fmla="val 50000"/>
              <a:gd name="adj2" fmla="val 49979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7"/>
          <p:cNvSpPr/>
          <p:nvPr/>
        </p:nvSpPr>
        <p:spPr>
          <a:xfrm>
            <a:off x="0" y="5000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Тема: О секс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5" descr="C:\Users\Gamer\Desktop\учитель года 2014\неудобные вопросы. как на них отвечать\239094.jpg"/>
          <p:cNvPicPr/>
          <p:nvPr/>
        </p:nvPicPr>
        <p:blipFill>
          <a:blip r:embed="rId2"/>
          <a:stretch/>
        </p:blipFill>
        <p:spPr>
          <a:xfrm>
            <a:off x="5357880" y="4286160"/>
            <a:ext cx="338292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24000" y="1999800"/>
            <a:ext cx="807552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Вопрос 3.</a:t>
            </a: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     А 2 мальчика               ( 2 девочки) могут пожениться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9">
            <a:hlinkClick r:id="rId1" action="ppaction://hlinksldjump"/>
          </p:cNvPr>
          <p:cNvSpPr/>
          <p:nvPr/>
        </p:nvSpPr>
        <p:spPr>
          <a:xfrm>
            <a:off x="468360" y="6165720"/>
            <a:ext cx="863640" cy="432000"/>
          </a:xfrm>
          <a:prstGeom prst="leftArrow">
            <a:avLst>
              <a:gd name="adj1" fmla="val 50000"/>
              <a:gd name="adj2" fmla="val 49979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Прямоугольник 7"/>
          <p:cNvSpPr/>
          <p:nvPr/>
        </p:nvSpPr>
        <p:spPr>
          <a:xfrm>
            <a:off x="2570040" y="428760"/>
            <a:ext cx="4003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Тема: О секс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5" descr="C:\Users\Gamer\Desktop\учитель года 2014\неудобные вопросы. как на них отвечать\1742656.jpg"/>
          <p:cNvPicPr/>
          <p:nvPr/>
        </p:nvPicPr>
        <p:blipFill>
          <a:blip r:embed="rId2"/>
          <a:stretch/>
        </p:blipFill>
        <p:spPr>
          <a:xfrm>
            <a:off x="6357960" y="3857760"/>
            <a:ext cx="219384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Тема: О тайне рожден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0760" y="2071440"/>
            <a:ext cx="760572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Вопрос 1.</a:t>
            </a: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 Правда, что меня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                                  </a:t>
            </a: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принёс аист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13"/>
          <p:cNvSpPr/>
          <p:nvPr/>
        </p:nvSpPr>
        <p:spPr>
          <a:xfrm>
            <a:off x="468360" y="6165720"/>
            <a:ext cx="863640" cy="432000"/>
          </a:xfrm>
          <a:prstGeom prst="leftArrow">
            <a:avLst>
              <a:gd name="adj1" fmla="val 50000"/>
              <a:gd name="adj2" fmla="val 49979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5" descr="C:\Users\Gamer\Desktop\учитель года 2014\неудобные вопросы. как на них отвечать\av-132429.jpg"/>
          <p:cNvPicPr/>
          <p:nvPr/>
        </p:nvPicPr>
        <p:blipFill>
          <a:blip r:embed="rId1"/>
          <a:stretch/>
        </p:blipFill>
        <p:spPr>
          <a:xfrm>
            <a:off x="6286680" y="3929040"/>
            <a:ext cx="24444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476280"/>
            <a:ext cx="8858160" cy="7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7000"/>
          </a:bodyPr>
          <a:p>
            <a:pPr marL="92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Тема: О тайне рожде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92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2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       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Вопрос 2.</a:t>
            </a: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  Как я вылез из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25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маминого животик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826920" y="4365000"/>
            <a:ext cx="51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11"/>
          <p:cNvSpPr/>
          <p:nvPr/>
        </p:nvSpPr>
        <p:spPr>
          <a:xfrm>
            <a:off x="468360" y="6165720"/>
            <a:ext cx="863640" cy="432000"/>
          </a:xfrm>
          <a:prstGeom prst="leftArrow">
            <a:avLst>
              <a:gd name="adj1" fmla="val 50000"/>
              <a:gd name="adj2" fmla="val 49979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5" descr="C:\Users\Gamer\Desktop\учитель года 2014\неудобные вопросы. как на них отвечать\25_Beremenaja_1791116782.jpg"/>
          <p:cNvPicPr/>
          <p:nvPr/>
        </p:nvPicPr>
        <p:blipFill>
          <a:blip r:embed="rId1"/>
          <a:stretch/>
        </p:blipFill>
        <p:spPr>
          <a:xfrm>
            <a:off x="5857920" y="3929040"/>
            <a:ext cx="27385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277920"/>
            <a:ext cx="93582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Тема: О физических недостатках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AutoShape 11"/>
          <p:cNvSpPr/>
          <p:nvPr/>
        </p:nvSpPr>
        <p:spPr>
          <a:xfrm>
            <a:off x="468360" y="6165720"/>
            <a:ext cx="863640" cy="432000"/>
          </a:xfrm>
          <a:prstGeom prst="leftArrow">
            <a:avLst>
              <a:gd name="adj1" fmla="val 50000"/>
              <a:gd name="adj2" fmla="val 49979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395280" y="1643040"/>
            <a:ext cx="793116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Вопрос 1.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Мама, ты говоришь, что я красавица. А почему тогда они говорят, что я некрасивая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5" descr="C:\Users\Gamer\Desktop\учитель года 2014\неудобные вопросы. как на них отвечать\4077239-643-482.jpg"/>
          <p:cNvPicPr/>
          <p:nvPr/>
        </p:nvPicPr>
        <p:blipFill>
          <a:blip r:embed="rId1"/>
          <a:stretch/>
        </p:blipFill>
        <p:spPr>
          <a:xfrm>
            <a:off x="5214960" y="3786120"/>
            <a:ext cx="36496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2T09:31:32Z</dcterms:created>
  <dc:creator>Iza Marquise</dc:creator>
  <dc:description/>
  <dc:language>en-US</dc:language>
  <cp:lastModifiedBy>Admin</cp:lastModifiedBy>
  <dcterms:modified xsi:type="dcterms:W3CDTF">2019-02-08T10:58:19Z</dcterms:modified>
  <cp:revision>102</cp:revision>
  <dc:subject/>
  <dc:title>Слайд 1</dc:title>
</cp:coreProperties>
</file>