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3DB1-E7F2-41B9-9807-68088F84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0803-8E6B-4652-910E-EEED0AF3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FDAEB-7802-40B4-B101-6A87B212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E8E10-9DF9-4B6A-BF7C-7A5FBAE9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9DCD7-E2E7-462A-B3BC-C9EB5E7E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CC12E-7316-4CE1-862A-0225C614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6F716-027A-49DE-95C6-1C03CF22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3B1E6-8952-486E-9DB7-E75B430D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7BC35-00B5-4BEF-921E-009CE096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91BC8-425B-4B34-9CBB-5343BE28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76811-880B-44DB-91FE-0DD8EFDD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6D60-E932-464C-9CEF-C37966DE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8733-A2B3-49AD-B28A-15BED3F3C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430A-2C3D-40A6-A4B9-AC63B01F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4A9B-6822-4C95-AA0A-80432EEF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BD89-C6E7-453B-80D8-5B39E8F6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EF87-D0F7-4272-8C77-40FE2438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6D74-1152-4F56-9A6B-8CD2CFC9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9C95-9056-4E80-8C0E-38D38D61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F709-6CAA-451E-89A5-84F1CFBD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6165-324A-456E-954C-FDFC60CD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5C11-117B-4B30-B384-6DC1192A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DBE3-BD0E-47A8-A04C-99D3D3F0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CD15-3065-443E-8471-F6A7E365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6FAB-C680-482B-9B41-BA41AE90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CE6D-8995-4C1B-86C6-97073CCA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457C3-B971-4103-AE13-9FB58982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3F8E2-DDEE-4490-9A2B-5C9B0DEC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0D3699-5AC0-4D82-9246-ED732A2D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0E0AAA-B981-4922-B0AA-A46D66D5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C7D73E-9BBC-4AA8-8EAC-D17E52AD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72C3-60E8-4C61-9A3C-EAC10A35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772F22-30A3-4048-820C-6A5F673A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C3D266-2487-42CF-91D5-F2DAC89F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C177C0-2EF0-474C-8C92-351A1EF2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2D4A6E-D6D3-430B-8F3D-445E97BC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67402C-BCD9-4506-9861-A5EF2097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1B3E8A-1EE9-4ED6-8C1E-3622913A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0ECCC-FD3A-4B0C-8F01-375C8290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A1CB9-E84C-4BFF-B159-FDCEE2B4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F8FEC-25A6-45FF-B040-748EE774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624BB-8F01-48EC-B54B-CCDFFE32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A2CC-0ED0-45EE-9052-11BEFF76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F8F46-5807-4471-BA58-6808279D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9A31C-1B22-4C39-B9D3-6BAB33DD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61020-BFA3-46F6-A44D-CE2ADDD2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331EB-6CF5-4C01-9B99-64444344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36DE6-E3BF-42D1-BCBD-F6ECD6D4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AB999-9ED5-4554-A0D5-E2EF15CA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BDC11-B0D7-4E8B-93BA-79059BA7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0E9B3-4076-4096-B33E-DDBF569A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B21FA-4553-4034-8B7D-EB8C8C43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DC141-4354-4A6A-8266-495952CB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5495-BE05-499E-BD1A-3B9659DF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6028E-7835-4E5B-925C-69A0E8D2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711B1-351A-4080-8F48-B0BA4049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2512F-6706-4D55-AE00-5AC467D3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09926-54B2-49DF-85CC-753B1FCF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1FB0F-A37E-4C0A-848F-1C8EA293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3FE18-CCBA-4B93-9BE9-9A2FCF30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BE0A5-5525-4D8B-993A-250A14C6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37EB9-105A-4CF4-ADCE-BA9FCD19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1916F-A5FC-4A1D-83CE-1ED79090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D675D-F210-4E0B-BAA0-A71B887E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EE13-D963-422C-B17F-205008E4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FD766-F18A-4747-8044-67C99A76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DA608-B506-4997-B041-A7748BC5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91847-A251-46C4-9F4D-C5F7CD2E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49A14-3468-45B0-9477-DE53966C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667C2-C1A7-46B7-85F2-A0EC4AA5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8BA48-D798-4A27-971E-C5B5177D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AFD16-B74C-4AD9-ABD4-516968C4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0073F-4E41-40DB-B50E-CBB87F81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9D381-9CA8-4658-948E-D8FD88B0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069A9-489F-4ED9-953D-95CF9813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B426-BC20-4A5C-B661-6D880315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8FB25-1CB9-45FC-ACC0-C0E719D0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DDAFE-1E1D-4A47-9C78-895E83DBB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08B60-9D8A-4799-9A58-A955C793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7627A-F707-404F-B792-73B72949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04E65-FE6C-4199-974A-7D7DCA79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3360F-1B02-43AE-A253-6ABE45C8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D2D4A-1E45-41D2-8A9E-167A250B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90898-3836-4F76-86D9-4F413DC0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DE7E8-3F80-4A77-A82E-FED1357F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3BF36-4902-4C55-8817-72A940FB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D82C-16D9-4547-8471-8E489772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5C703-CA57-4DCC-829C-F80138A1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11663-7AF5-44CE-8081-81B2126B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E3835-023F-4220-83F6-C0ED76AE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5BE85-1A96-4AE7-BB3B-B97D43AA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F891D-C4CB-48E1-8B9C-D5F414F59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55BBF-7B0A-4610-AE3B-3281B5B8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9A1B9-FE54-4BD0-B41B-B74C1362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A4A55-9CE4-4A36-86E0-4C42BA2B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0C6FB-7BA8-4574-A929-942EF038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E3115-4387-4BC3-B408-8D6E2A6F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43B6-D2DD-48BE-8098-B88811DB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243A1-7E2A-4D75-B433-0D256E14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B3A30-5AC0-4503-9C10-37A51DE6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76DF6-7DA0-473F-A9F4-8C20FA87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67B38-9F52-4AFE-8CD6-C0849A2D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751DF-4D99-4780-A7F9-74DA8D30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7228A-FD4C-4E4A-95D7-D781EA06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B405E-01CA-481A-B1BA-2D0B14FD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E127D-52E4-4C3E-A6D9-26E5D6F0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E9C97-0C2C-4856-87C5-971DE871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9960A-6C61-43B7-9193-6CC2DD9A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4BEB-FBA4-4830-8C12-0FE1B16F13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3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46BE-235F-4C0F-8A58-03C76C2AF06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2CE4-9604-4977-90D6-7F00BD82CE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3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3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8" name="Овал 1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39" name="Овал 1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1" name="Овал 2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E5CF-D0B1-4CEA-AECF-7D3E46D9CB6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5" name="Овал 3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86" name="Овал 3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8" name="Овал 5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C587-AFB5-4993-A278-747A47616FE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D2B6-DFAC-4185-98E1-7B00D1EB50B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Прямоугольник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2F1F-C42C-45B2-857C-0EF2C5275C3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338A-E25E-498F-ADDD-02E1D7DC052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Прямоугольник 1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56" name="Прямоугольник 1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8" name="Блок-схема: процесс 2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Блок-схема: процесс 3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0B93-DB9F-4223-8151-9229F0F56BB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Picture 13" descr="bc2030-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14"/>
          <p:cNvSpPr/>
          <p:nvPr/>
        </p:nvSpPr>
        <p:spPr>
          <a:xfrm>
            <a:off x="1660680" y="1484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15"/>
          <p:cNvSpPr/>
          <p:nvPr/>
        </p:nvSpPr>
        <p:spPr>
          <a:xfrm>
            <a:off x="457200" y="91440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нергоэффективный дом. Биоисточник энерг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3c3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66cc"/>
                </a:solidFill>
                <a:latin typeface="Corbel"/>
              </a:rPr>
              <a:t>Спасибо за внимание</a:t>
            </a:r>
            <a:endParaRPr b="0" lang="en-US" sz="8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Цели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омочь людям сэкономить энергию через новый биоисточник.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762120" y="274320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Задачи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       Разработать прибор для получения дешевой дополнительной энергии с минимальными затратами. Способствовать очищению экологи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4" descr="b10396710ca6c61a9f440f5e23dd346f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Без чего не может существовать человечество? Что произойдет со всеми нами, когда через 5 млрд. лет не станет Солнца? Гибель всех живых существ – это еще минимум. Слово «свет» мы олицетворяем со словом «жизнь». И, естественно, люди всех времен и народов ищут пути и возможности получения новых источников световой энергии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4" descr="1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 ведь это здорово, что благодаря лишь взаимодействию между органическими веществами, морской водой с участием бактерий в придонном слое морей и океанов образуется так называемое естественное электричество. В новых источниках энергии могут быть использованы явления разложения окисления органических веществ, приводящие к выработке электроэнергии. Известно, что в придонном слое океана образуется электричество, там как бы имеется гигантский топливный элемент. Состав морской воды довольно сложный и включает в себя около 70 химических элементов, которые непрерывно взаимодействуют друг с другом. В результате этого происходят многочисленные реакции окисления, и при взаимодействии с кислородом выделяется энергия, которою можно использовать для получения электрического тока. Происходит превращение химической энергии в электрическую. 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       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Таблица расчетов по          биоисточнику энергии 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(*КОЕ – количество органических единиц)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533520" y="1596960"/>
          <a:ext cx="7619760" cy="4880160"/>
        </p:xfrm>
        <a:graphic>
          <a:graphicData uri="http://schemas.openxmlformats.org/drawingml/2006/table">
            <a:tbl>
              <a:tblPr/>
              <a:tblGrid>
                <a:gridCol w="1523880"/>
                <a:gridCol w="2746440"/>
                <a:gridCol w="1674720"/>
                <a:gridCol w="1674720"/>
              </a:tblGrid>
              <a:tr h="658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 в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траченные ресур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аемое напряж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ход на потребите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м</a:t>
                      </a:r>
                      <a:r>
                        <a:rPr b="0" lang="ru-RU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кг водорослей, 3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Е термолерантных колиформные бактерии, 1,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КОЕ общих колиформные бактерии, объем кислорода – 0,5 м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 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 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м</a:t>
                      </a:r>
                      <a:r>
                        <a:rPr b="0" lang="ru-RU" sz="16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кг водорослей, 6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Е термолерантных колиформные бактерии, 3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КОЕ общих колиформные бактерии, объем кислорода – 1 м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4 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м</a:t>
                      </a:r>
                      <a:r>
                        <a:rPr b="0" lang="ru-RU" sz="16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кг водорослей, 9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Е термолерантных колиформные бактерии, 4,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КОЕ общих колиформные бактерии, объем кислорода – 1,5 м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8 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Заключ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Таким образом, от прибора можно питать минимум подсветку квартиры с применением твердотельных источников света. Особенно это удобно, если есть маленькие дети и необходим ночной уход. Бесспорное преимущество прибора в том, что затраты самые минимальны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бор экологически чист и плюс ко всему еще очищает окружающую среду. И в заключении, я хочу сказать словами Р. Фейнмана «Нам необыкновенно повезло, что мы живем в век, когда еще можно делать открытия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"/>
          <p:cNvSpPr/>
          <p:nvPr/>
        </p:nvSpPr>
        <p:spPr>
          <a:xfrm>
            <a:off x="1828800" y="600120"/>
            <a:ext cx="579132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ЛИТЕРАТУ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) Дмитриева В.Ф. Физика.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[Текст]: учеб. пособие для школьников/ В.Ф. Дмитриева.- 3-е изд., стер. – М.: Aкадемия, 2007. – 580 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) Павленко   Ю.Г.    Физика.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[Текст]: учеб. пособие для школьников/ Ю.Г. Павленко. -  4-е изд.,    стереотип. – М.: Академия, 2005. – 566,[1] 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) Перельман  Я.И.   Занимательная   физика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[Текст]: занимательная литература для школьников/ Я.И. Перельман. -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М.: Дрофа, 1994.-360 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)  Алексеева М.Н.,  Физика – юным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[Текст]: занимательная литература для школьников/М.Н.Алексеева. -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М.: Просвещение, 1980.-400 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5)   Цифровые образовательные ресурсы. 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                                                                                              </a:t>
            </a:r>
            <a:r>
              <a:rPr b="0" lang="ru-RU" sz="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7086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Работу выполнила: 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20" name="Rectangle 3" descr=""/>
          <p:cNvPicPr/>
          <p:nvPr/>
        </p:nvPicPr>
        <p:blipFill>
          <a:blip r:embed="rId1"/>
          <a:stretch/>
        </p:blipFill>
        <p:spPr>
          <a:xfrm>
            <a:off x="-1371600" y="1603440"/>
            <a:ext cx="10223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 Маликова</cp:lastModifiedBy>
  <dcterms:modified xsi:type="dcterms:W3CDTF">2024-05-17T07:59:0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