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127A-F95C-4654-9C54-60D5E906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E244-FFDE-46D2-9F3E-35B10E94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EBB8-8946-4B63-9BE2-4DCA8624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41A2-07A8-49D9-91DB-08F7C2DF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D1E5-6C58-41C5-9DDB-E0FF45519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C4F9-DA04-4696-A419-C6D444DA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0239-6C11-42D1-9C28-4D7AAD820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9E937-EAAE-4FF3-BD7A-FF87DBB5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5014-8136-40DD-B207-2FC02CA33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221A-95A6-439E-A0FF-1834415F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48BAC-A7FF-416B-B795-7678BDC1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C258-BB7E-4061-98E6-B85F5309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8547-D18E-4E86-941B-B0677F23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4E14-6251-4DF0-8735-57CDC011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D0AA-0F36-4DC7-BDEF-EB808646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29F3-859E-4CE5-BCE2-1E2C3AB42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CCE0-458D-4E8E-83D8-B2B79157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D1F9D-1A38-4385-B6CA-97FC3A0AB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BABAB-6940-48BB-9EE9-4E334C0E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967C9-2D98-4B5D-A46B-345BEF93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D829E-6373-4227-A417-47347E7D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355AE-0C00-41A1-BF5B-232044FE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EF94-C798-418C-98FD-F469F814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2D68F-E9CA-40BA-9D56-0AA3418E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5F74D-A449-40F5-9338-7549BDB8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ED5A1-0F19-4C93-B637-D276B6D1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2B8B3-583A-4956-8758-2575E6E9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AE1AC-E71F-4D45-8F0C-6E2674C7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88CCE-0B86-4589-8F37-4D429C762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4B015-B4F7-4672-A2E8-428451304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114B5-87A8-4F8C-AA18-9EAA8622F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6BB45-23B5-48D6-A2E9-D5DAD762D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C45DB-89A9-487A-9032-6BC3B774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41C9-2B80-452B-91AB-4DB7BF0E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3110F-C7F0-4248-94AF-39937398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20B21-60CA-46F0-9109-EF658D29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B8340-466E-436B-8ACA-EE1D40FA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0BF41-B6D4-4070-B36C-0D78A3DB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C5346-28EC-4F91-823E-DDDFD248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1EF06-F635-4ADD-99D5-F5EA8A12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79992-82AB-45DC-9B2D-E48E64E2D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8C94F-AE4F-4B27-B869-A9B9FD54A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116DD-965A-4FA2-963F-E566534E0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5B2609-62D2-4B12-A01F-4FF22E71F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8F1A-D7BD-4CB1-8E95-DA4F985F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4FB6C2-E766-4679-8740-0643EA479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3F1970-CC21-4682-BB8B-3F8863B2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067792-3392-4399-BD73-1C55A3B8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910078-0737-4FCE-B1B2-09AB9189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154755-DB20-4E23-9B46-268AD815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CF556E-5025-4980-BAE7-3D5BDA5E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3AF100-4DB5-4078-8F7D-C159CA511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D28A95-7219-4BF4-A45B-1714905C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532196-65F3-445F-AF44-A6EF0C1B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00FF7A-322D-46DD-893E-61DF510C1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2F76-0901-4AE7-8711-0A43DC20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40F827-EF32-4237-A0BA-0B4D7B54D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471DC-9AC7-42EB-AD67-B0A766712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7B3FE-A2F2-48FF-BF00-8ECD4023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71542-62B0-4365-896A-FF773A61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4A953-9960-444B-8598-D2AA44C02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5463B-6117-4829-9D20-02D725A7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E91C2-1EFC-44DB-B752-01933AD69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8ADAF-8113-4225-8FC5-B5CD7FD6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23F67-EF7C-49A6-A90A-98FEA7F4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43640-E5D0-42F1-A031-BF905313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0E87-D82E-4B3F-8FE5-D91CB4D8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CFF0A3-44FB-493D-85D9-37CDF09E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9E89F-9ADC-4EA3-A47B-A69475DDF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A3A523-9852-4E31-80E4-AD1CD67DC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7D66-F1D0-4841-8DDC-0F1E68CE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947C-5E3D-45C5-8B76-7FEB0C2F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C489-B8DA-4CAA-846C-B4014348F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DBB8-BADB-4A10-8F7B-475315251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2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E1C9-B872-4AE3-98A2-A142FF54C1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7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7859-C6C0-4C9E-9384-FA4A73570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C83F-2E7F-4CFE-9ED9-05BB3741C2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20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21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68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69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4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0EBC-B487-4000-A78F-75595606AE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«Поющее сердце России»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«Вся красота родного края отразилась в его стихах, полных любви к русской земле»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569080" cy="480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евцом России, поэтом, у которого «в сердце светит Русь», был Сергей Есенин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2438280" y="1762200"/>
            <a:ext cx="5013360" cy="493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Жизнь, творчество, личность Сергея Александровича Есенина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rcRect l="17994" t="13842" r="1782" b="1874"/>
          <a:stretch/>
        </p:blipFill>
        <p:spPr>
          <a:xfrm>
            <a:off x="2658960" y="1600200"/>
            <a:ext cx="3826080" cy="4530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Тот не поймет живой души России,</a:t>
            </a:r>
            <a:br>
              <a:rPr sz="2800"/>
            </a:b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Кто не читал есенинских стихов.</a:t>
            </a:r>
            <a:br>
              <a:rPr sz="2800"/>
            </a:br>
            <a:r>
              <a:rPr b="1" i="1" lang="ru-RU" sz="2800" spc="-1" strike="noStrike">
                <a:solidFill>
                  <a:srgbClr val="feec94"/>
                </a:solidFill>
                <a:latin typeface="Times New Roman"/>
              </a:rPr>
              <a:t>                                        Рюрик Ивнев</a:t>
            </a:r>
            <a:br>
              <a:rPr sz="2800"/>
            </a:b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624720" cy="5445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68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68" fill="hold"/>
                                        <p:tgtEl>
                                          <p:spTgt spid="3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68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68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План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58400" y="2197080"/>
            <a:ext cx="77914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Биография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Автобиография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Личность поэт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Творчество С.А. Есенин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esenin_pic_02" descr=""/>
          <p:cNvPicPr/>
          <p:nvPr/>
        </p:nvPicPr>
        <p:blipFill>
          <a:blip r:embed="rId1"/>
          <a:stretch/>
        </p:blipFill>
        <p:spPr>
          <a:xfrm>
            <a:off x="3059280" y="260280"/>
            <a:ext cx="6084720" cy="1656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Там, где капустные гряд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расной водой поливает восход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лененочек маленький матк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Зеленое вымя сосет»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b7"/>
                </a:solidFill>
                <a:latin typeface="Arial Black"/>
              </a:rPr>
              <a:t>«В ХАТЕ»    </a:t>
            </a:r>
            <a:r>
              <a:rPr b="0" lang="ru-RU" sz="2400" spc="-1" strike="noStrike">
                <a:solidFill>
                  <a:srgbClr val="ffffb7"/>
                </a:solidFill>
                <a:latin typeface="Arial Black"/>
              </a:rPr>
              <a:t>(1914 г.)</a:t>
            </a:r>
            <a:r>
              <a:rPr b="1" lang="ru-RU" sz="2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80071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хнет рыхлыми драчен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 порога в дежке квас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д печурками точены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раканы лезут в па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ьется сажа над заслонкою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печке нитки попелиц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 на лавке за солонкою 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Шелуха сырых яиц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ть с ухватами не сладитс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гибается низко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тарый кот к махотке крадетс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 парное молоко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8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98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98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98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98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98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98" fill="hold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98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898" fill="hold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98" fill="hold"/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3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98" fill="hold"/>
                                        <p:tgtEl>
                                          <p:spTgt spid="3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3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98" fill="hold"/>
                                        <p:tgtEl>
                                          <p:spTgt spid="3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98" fill="hold"/>
                                        <p:tgtEl>
                                          <p:spTgt spid="3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гадки слов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рачён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это значит драть крупу, обдирать, очищать лузгу, молоть на ручном жёрнове; получалась мука дранка, т.е. мука крупного помола; лепешки из этой му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Дёжка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– кадка, в которой квася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Попелиц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зола, саж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Махотк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– мис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66ff"/>
                </a:solidFill>
                <a:latin typeface="Arial"/>
              </a:rPr>
              <a:t>(Словарь В.И. Даля)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e5ff"/>
                </a:solidFill>
                <a:latin typeface="Garamond"/>
              </a:rPr>
              <a:t>«Моя лирика, - не без гордости, говорил Есенин, - жива одной большой любовью, - любовью к Родине. Чувство Родины – основное в моём творчестве.»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1217" t="3496" r="1260" b="4120"/>
          <a:stretch/>
        </p:blipFill>
        <p:spPr>
          <a:xfrm>
            <a:off x="539640" y="1773360"/>
            <a:ext cx="8064720" cy="498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оэт воспевает неброскую красоту и удивительную прелесть природы средней полосы Росси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rcRect l="25120" t="2690" r="5333" b="0"/>
          <a:stretch/>
        </p:blipFill>
        <p:spPr>
          <a:xfrm>
            <a:off x="2411280" y="1773360"/>
            <a:ext cx="4329360" cy="4868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9T15:44:06Z</dcterms:created>
  <dc:creator>User</dc:creator>
  <dc:description/>
  <dc:language>en-US</dc:language>
  <cp:lastModifiedBy>User</cp:lastModifiedBy>
  <dcterms:modified xsi:type="dcterms:W3CDTF">2008-01-22T14:57:50Z</dcterms:modified>
  <cp:revision>14</cp:revision>
  <dc:subject/>
  <dc:title>«Поющее сердце России»</dc:title>
</cp:coreProperties>
</file>