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0ECB-BEDA-4E52-890D-EF05382A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F22-AB01-45E1-A8C0-C5056ED4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A092-1B8A-45C4-9F4F-4371CE64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170-6765-49E0-B081-8D5FC306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386-87E4-4BEE-BE7F-0BB6556F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F25-4715-4B59-BC02-8BFDCBB0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5AD8-8555-44F4-9E90-3129A2A0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607D-D2C6-4D49-B481-78582AA0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F8C-7D85-4CA3-97C4-91B9883E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6A8-AA35-4C5E-B7AB-A9195D48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3DF0-71E6-4296-A1D4-31C41040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5F4-3D42-4E42-A73D-A0CB2547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552C-1635-45C3-9D40-18BF50B2C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6.xml"/><Relationship Id="rId11" Type="http://schemas.openxmlformats.org/officeDocument/2006/relationships/slide" Target="slide15.xml"/><Relationship Id="rId12" Type="http://schemas.openxmlformats.org/officeDocument/2006/relationships/slide" Target="slide15.xml"/><Relationship Id="rId13" Type="http://schemas.openxmlformats.org/officeDocument/2006/relationships/slide" Target="slide14.xml"/><Relationship Id="rId14" Type="http://schemas.openxmlformats.org/officeDocument/2006/relationships/slide" Target="slide7.xml"/><Relationship Id="rId15" Type="http://schemas.openxmlformats.org/officeDocument/2006/relationships/slide" Target="slide17.xml"/><Relationship Id="rId16" Type="http://schemas.openxmlformats.org/officeDocument/2006/relationships/slide" Target="slide12.xml"/><Relationship Id="rId17" Type="http://schemas.openxmlformats.org/officeDocument/2006/relationships/slide" Target="slide8.xml"/><Relationship Id="rId18" Type="http://schemas.openxmlformats.org/officeDocument/2006/relationships/slide" Target="slide18.xml"/><Relationship Id="rId19" Type="http://schemas.openxmlformats.org/officeDocument/2006/relationships/slide" Target="slide21.xml"/><Relationship Id="rId20" Type="http://schemas.openxmlformats.org/officeDocument/2006/relationships/slide" Target="slide20.xml"/><Relationship Id="rId21" Type="http://schemas.openxmlformats.org/officeDocument/2006/relationships/slide" Target="slide20.xml"/><Relationship Id="rId22" Type="http://schemas.openxmlformats.org/officeDocument/2006/relationships/slide" Target="slide19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13.xml"/><Relationship Id="rId26" Type="http://schemas.openxmlformats.org/officeDocument/2006/relationships/image" Target="../media/image1.png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Monotype Corsiva"/>
              </a:rPr>
              <a:t>КЛАССНЫЙ  ЧА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2205000"/>
            <a:ext cx="828036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Monotype Corsiva"/>
              </a:rPr>
              <a:t>Своя игра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Monotype Corsiva"/>
              </a:rPr>
              <a:t>«Здоровый образ жизни – выбор молодых!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028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304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ction Button: Back or Previous 4">
            <a:hlinkClick r:id="rId1" action="ppaction://hlinksldjump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900000" y="155736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нению А.П. Чехова, водка, хотя и белая, но красит нос.  А, что она черни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ction Button: Back or Previous 4">
            <a:hlinkClick r:id="rId1" action="ppaction://hlinksldjump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250920" y="184464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 одной народной китайской мудрости приносит сто горестей и одну радость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ction Button: Back or Previous 14">
            <a:hlinkClick r:id="rId1" action="ppaction://hlinksldjump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0" y="304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611280" y="1341360"/>
            <a:ext cx="7929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болезнь, которой во Франции страдает около четверти  всей молодежи, а каждый год умирает больше людей, чем от белокровия, туберкулеза  полиомиелита вместе взяты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ction Button: Back or Previous 1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0" y="304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684360" y="1700280"/>
            <a:ext cx="76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ря человеком свойственных ему способностей и качеств, которая сопровождается утратой суждений, дарований и чувст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ction Button: Back or Previous 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539640" y="1773360"/>
            <a:ext cx="821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e1c11"/>
                </a:solidFill>
                <a:latin typeface="Times New Roman"/>
                <a:ea typeface="SimSun"/>
              </a:rPr>
              <a:t>Какую болезнь называют «болезнью грязных рук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ction Button: Back or Previous 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539640" y="1628640"/>
            <a:ext cx="821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e1c11"/>
                </a:solidFill>
                <a:latin typeface="Times New Roman"/>
                <a:ea typeface="SimSun"/>
              </a:rPr>
              <a:t>Самая смертельная болезнь 21 века?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ction Button: Back or Previous 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324000" y="1844640"/>
            <a:ext cx="8429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ли заразиться куриным гриппом, если съесть вареную курицу больную куриным грипп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ction Button: Back or Previous 1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0" y="304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611280" y="1341360"/>
            <a:ext cx="7929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и считают, что самая распространенная заразная инфекционная болезнь в мире – насморк. А, что считается самой распространенной в мире незаразной инфекционной болезнью?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ction Button: Back or Previous 1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0" y="304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468360" y="1628640"/>
            <a:ext cx="82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категория населения является главным переносчиком грипп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ction Button: Back or Previous 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539640" y="907920"/>
            <a:ext cx="8218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чень долгое врем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на Олимпийских играх в Древней Греци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ыл один единственный вид легкой атлетик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КАКОЙ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SimSu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http://vv-34.ru/images/photos/medium/64cda5a94b5f11060898422f2ad5c1b2.jpg"/>
          <p:cNvPicPr/>
          <p:nvPr/>
        </p:nvPicPr>
        <p:blipFill>
          <a:blip r:embed="rId2"/>
          <a:srcRect l="0" t="0" r="0" b="8588"/>
          <a:stretch/>
        </p:blipFill>
        <p:spPr>
          <a:xfrm>
            <a:off x="1763640" y="217440"/>
            <a:ext cx="557208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ction Button: Back or Previous 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0" y="836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c11"/>
                </a:solidFill>
                <a:latin typeface="Arial"/>
                <a:ea typeface="SimSun"/>
              </a:rPr>
              <a:t>Изобретатель </a:t>
            </a:r>
            <a:r>
              <a:rPr b="1" lang="ru-RU" sz="3600" spc="-1" strike="noStrike">
                <a:solidFill>
                  <a:srgbClr val="1e1c11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1e1c11"/>
                </a:solidFill>
                <a:latin typeface="Arial"/>
                <a:ea typeface="SimSun"/>
              </a:rPr>
              <a:t>этого предрекал </a:t>
            </a:r>
            <a:r>
              <a:rPr b="1" lang="ru-RU" sz="3600" spc="-1" strike="noStrike">
                <a:solidFill>
                  <a:srgbClr val="1e1c11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1e1c11"/>
                </a:solidFill>
                <a:latin typeface="Arial"/>
                <a:ea typeface="SimSun"/>
              </a:rPr>
              <a:t>своему детищу </a:t>
            </a:r>
            <a:r>
              <a:rPr b="1" lang="ru-RU" sz="3600" spc="-1" strike="noStrike">
                <a:solidFill>
                  <a:srgbClr val="1e1c11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1e1c11"/>
                </a:solidFill>
                <a:latin typeface="Arial"/>
                <a:ea typeface="SimSun"/>
              </a:rPr>
              <a:t>две </a:t>
            </a:r>
            <a:r>
              <a:rPr b="1" lang="ru-RU" sz="3600" spc="-1" strike="noStrike">
                <a:solidFill>
                  <a:srgbClr val="1e1c11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1e1c11"/>
                </a:solidFill>
                <a:latin typeface="Arial"/>
                <a:ea typeface="SimSun"/>
              </a:rPr>
              <a:t>области применения – доставка почты </a:t>
            </a:r>
            <a:r>
              <a:rPr b="1" lang="ru-RU" sz="3600" spc="-1" strike="noStrike">
                <a:solidFill>
                  <a:srgbClr val="1e1c11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1e1c11"/>
                </a:solidFill>
                <a:latin typeface="Arial"/>
                <a:ea typeface="SimSun"/>
              </a:rPr>
              <a:t>и </a:t>
            </a:r>
            <a:r>
              <a:rPr b="1" lang="ru-RU" sz="3600" spc="-1" strike="noStrike">
                <a:solidFill>
                  <a:srgbClr val="1e1c11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1e1c11"/>
                </a:solidFill>
                <a:latin typeface="Arial"/>
                <a:ea typeface="SimSun"/>
              </a:rPr>
              <a:t>средство </a:t>
            </a:r>
            <a:r>
              <a:rPr b="1" lang="ru-RU" sz="3600" spc="-1" strike="noStrike">
                <a:solidFill>
                  <a:srgbClr val="1e1c11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1e1c11"/>
                </a:solidFill>
                <a:latin typeface="Arial"/>
                <a:ea typeface="SimSun"/>
              </a:rPr>
              <a:t>для похудения. Назовите современный п</a:t>
            </a:r>
            <a:r>
              <a:rPr b="1" lang="ru-RU" sz="3600" spc="-1" strike="noStrike">
                <a:solidFill>
                  <a:srgbClr val="1e1c11"/>
                </a:solidFill>
                <a:latin typeface="Arial"/>
              </a:rPr>
              <a:t>р</a:t>
            </a:r>
            <a:r>
              <a:rPr b="1" lang="ru-RU" sz="3600" spc="-1" strike="noStrike">
                <a:solidFill>
                  <a:srgbClr val="1e1c11"/>
                </a:solidFill>
                <a:latin typeface="Arial"/>
                <a:ea typeface="SimSun"/>
              </a:rPr>
              <a:t>ообраз этого предмета?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ction Button: Back or Previous 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324000" y="184464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е девиз Олимпийского дви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ction Button: Back or Previous 1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0" y="304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611280" y="1341360"/>
            <a:ext cx="792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усский язык это слово пришло в конце 18 века из французского языка. Так первоначально называли срочную почту, доставлявшую письма, донесение специальными посыльными, которые сменяли друг друга в пути в определенных пунктах.  Назовите это слово, которое в наши дни получило иное знач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ction Button: Back or Previous 1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0" y="304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468360" y="1628640"/>
            <a:ext cx="8207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Брегг говорит, что есть 9 докторов. Начиная с четвертого, это: естественное питание, голодание, спорт, отдых, хорошая осанка и разум. Назовите первых трех докторов, упомянутых Брегг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cs405119.vk.me/v405119238/b672/aDqojyXeYyk.jpg"/>
          <p:cNvPicPr/>
          <p:nvPr/>
        </p:nvPicPr>
        <p:blipFill>
          <a:blip r:embed="rId1"/>
          <a:stretch/>
        </p:blipFill>
        <p:spPr>
          <a:xfrm>
            <a:off x="826920" y="620640"/>
            <a:ext cx="7632720" cy="56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mtdata.ru/u23/photo2EBA/20570970869-0/original.jpg"/>
          <p:cNvPicPr/>
          <p:nvPr/>
        </p:nvPicPr>
        <p:blipFill>
          <a:blip r:embed="rId1"/>
          <a:stretch/>
        </p:blipFill>
        <p:spPr>
          <a:xfrm>
            <a:off x="1312920" y="0"/>
            <a:ext cx="69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www.funlib.ru/cimg/2014/102113/4141276"/>
          <p:cNvPicPr/>
          <p:nvPr/>
        </p:nvPicPr>
        <p:blipFill>
          <a:blip r:embed="rId1"/>
          <a:srcRect l="13168" t="0" r="5553" b="0"/>
          <a:stretch/>
        </p:blipFill>
        <p:spPr>
          <a:xfrm>
            <a:off x="0" y="0"/>
            <a:ext cx="9144000" cy="5264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4080" y="5445000"/>
            <a:ext cx="898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51120" y="5433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4920" y="549360"/>
          <a:ext cx="9109080" cy="5976720"/>
        </p:xfrm>
        <a:graphic>
          <a:graphicData uri="http://schemas.openxmlformats.org/drawingml/2006/table">
            <a:tbl>
              <a:tblPr/>
              <a:tblGrid>
                <a:gridCol w="1940040"/>
                <a:gridCol w="2089080"/>
                <a:gridCol w="2762280"/>
                <a:gridCol w="2317680"/>
              </a:tblGrid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1c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1c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1c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1c11"/>
                    </a:solidFill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46" name="Rectangle 7"/>
          <p:cNvSpPr/>
          <p:nvPr/>
        </p:nvSpPr>
        <p:spPr>
          <a:xfrm>
            <a:off x="682920" y="1773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45040" y="28656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1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545040" y="3789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664360" y="1773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2450160" y="2852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1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2526480" y="38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4974120" y="3789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4971240" y="2852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1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6"/>
          <p:cNvSpPr/>
          <p:nvPr/>
        </p:nvSpPr>
        <p:spPr>
          <a:xfrm>
            <a:off x="5112000" y="1844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6"/>
          <p:cNvSpPr/>
          <p:nvPr/>
        </p:nvSpPr>
        <p:spPr>
          <a:xfrm>
            <a:off x="-108000" y="54936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икотину скажем  -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7"/>
          <p:cNvSpPr/>
          <p:nvPr/>
        </p:nvSpPr>
        <p:spPr>
          <a:xfrm>
            <a:off x="3995640" y="54936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5b5"/>
                </a:solidFill>
                <a:latin typeface="Arial"/>
              </a:rPr>
              <a:t>Кто не унывает, болезни  побежда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0"/>
          <p:cNvSpPr/>
          <p:nvPr/>
        </p:nvSpPr>
        <p:spPr>
          <a:xfrm>
            <a:off x="1979640" y="549360"/>
            <a:ext cx="173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Алкоголь, наркотик никог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5040" y="47242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4974120" y="4797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2526480" y="4797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616680" y="5661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5045760" y="5732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7"/>
          <p:cNvSpPr/>
          <p:nvPr/>
        </p:nvSpPr>
        <p:spPr>
          <a:xfrm>
            <a:off x="6804000" y="476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Кто любит спорт, тот здоров и бод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7566840" y="3718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hlinkClick r:id="rId19" action="ppaction://hlinksldjump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7563600" y="2781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hlinkClick r:id="rId20" action="ppaction://hlinksldjump"/>
              </a:rPr>
              <a:t>1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21" action="ppaction://hlinksldjump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7704720" y="1773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hlinkClick r:id="rId22" action="ppaction://hlinksldjump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7566840" y="4726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hlinkClick r:id="rId23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7638120" y="5661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hlinkClick r:id="rId24" action="ppaction://hlinksldjump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2561400" y="5661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hlinkClick r:id="rId25" action="ppaction://hlinksldjump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6"/>
          <a:stretch/>
        </p:blipFill>
        <p:spPr>
          <a:xfrm>
            <a:off x="817236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844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ction Button: Back or Previous 5">
            <a:hlinkClick r:id="rId1" action="ppaction://hlinksldjump"/>
          </p:cNvPr>
          <p:cNvSpPr/>
          <p:nvPr/>
        </p:nvSpPr>
        <p:spPr>
          <a:xfrm>
            <a:off x="7238880" y="6172200"/>
            <a:ext cx="1905120" cy="685800"/>
          </a:xfrm>
          <a:custGeom>
            <a:avLst/>
            <a:gdLst>
              <a:gd name="textAreaLeft" fmla="*/ 44280 w 1905120"/>
              <a:gd name="textAreaRight" fmla="*/ 1860840 w 1905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9984" h="21600">
                <a:moveTo>
                  <a:pt x="0" y="0"/>
                </a:moveTo>
                <a:lnTo>
                  <a:pt x="59984" y="0"/>
                </a:lnTo>
                <a:lnTo>
                  <a:pt x="59984" y="21600"/>
                </a:lnTo>
                <a:lnTo>
                  <a:pt x="0" y="21600"/>
                </a:lnTo>
                <a:close/>
              </a:path>
              <a:path fill="lightenLess" w="59984" h="21600">
                <a:moveTo>
                  <a:pt x="0" y="0"/>
                </a:moveTo>
                <a:lnTo>
                  <a:pt x="59984" y="0"/>
                </a:lnTo>
                <a:lnTo>
                  <a:pt x="58584" y="1400"/>
                </a:lnTo>
                <a:lnTo>
                  <a:pt x="1400" y="1400"/>
                </a:lnTo>
                <a:close/>
              </a:path>
              <a:path fill="darken" w="59984" h="21600">
                <a:moveTo>
                  <a:pt x="59984" y="0"/>
                </a:moveTo>
                <a:lnTo>
                  <a:pt x="59984" y="21600"/>
                </a:lnTo>
                <a:lnTo>
                  <a:pt x="58584" y="20200"/>
                </a:lnTo>
                <a:lnTo>
                  <a:pt x="58584" y="1400"/>
                </a:lnTo>
                <a:close/>
              </a:path>
              <a:path fill="darkenLess" w="59984" h="21600">
                <a:moveTo>
                  <a:pt x="59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84" y="20200"/>
                </a:lnTo>
                <a:close/>
              </a:path>
              <a:path fill="lighten" w="59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984" h="21600">
                <a:moveTo>
                  <a:pt x="22985" y="10800"/>
                </a:moveTo>
                <a:lnTo>
                  <a:pt x="36998" y="3794"/>
                </a:lnTo>
                <a:lnTo>
                  <a:pt x="36998" y="17806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228600" y="4572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468360" y="1557360"/>
            <a:ext cx="8215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и считают, что это самое доступное из всех веществ, к которым у человека вырабатывается наркотическая привязанность. Что это?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ction Button: Back or Previous 5">
            <a:hlinkClick r:id="rId1" action="ppaction://hlinksldjump"/>
          </p:cNvPr>
          <p:cNvSpPr/>
          <p:nvPr/>
        </p:nvSpPr>
        <p:spPr>
          <a:xfrm>
            <a:off x="7238880" y="6172200"/>
            <a:ext cx="1905120" cy="685800"/>
          </a:xfrm>
          <a:custGeom>
            <a:avLst/>
            <a:gdLst>
              <a:gd name="textAreaLeft" fmla="*/ 44280 w 1905120"/>
              <a:gd name="textAreaRight" fmla="*/ 1860840 w 1905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9984" h="21600">
                <a:moveTo>
                  <a:pt x="0" y="0"/>
                </a:moveTo>
                <a:lnTo>
                  <a:pt x="59984" y="0"/>
                </a:lnTo>
                <a:lnTo>
                  <a:pt x="59984" y="21600"/>
                </a:lnTo>
                <a:lnTo>
                  <a:pt x="0" y="21600"/>
                </a:lnTo>
                <a:close/>
              </a:path>
              <a:path fill="lightenLess" w="59984" h="21600">
                <a:moveTo>
                  <a:pt x="0" y="0"/>
                </a:moveTo>
                <a:lnTo>
                  <a:pt x="59984" y="0"/>
                </a:lnTo>
                <a:lnTo>
                  <a:pt x="58584" y="1400"/>
                </a:lnTo>
                <a:lnTo>
                  <a:pt x="1400" y="1400"/>
                </a:lnTo>
                <a:close/>
              </a:path>
              <a:path fill="darken" w="59984" h="21600">
                <a:moveTo>
                  <a:pt x="59984" y="0"/>
                </a:moveTo>
                <a:lnTo>
                  <a:pt x="59984" y="21600"/>
                </a:lnTo>
                <a:lnTo>
                  <a:pt x="58584" y="20200"/>
                </a:lnTo>
                <a:lnTo>
                  <a:pt x="58584" y="1400"/>
                </a:lnTo>
                <a:close/>
              </a:path>
              <a:path fill="darkenLess" w="59984" h="21600">
                <a:moveTo>
                  <a:pt x="59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84" y="20200"/>
                </a:lnTo>
                <a:close/>
              </a:path>
              <a:path fill="lighten" w="59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984" h="21600">
                <a:moveTo>
                  <a:pt x="22985" y="10800"/>
                </a:moveTo>
                <a:lnTo>
                  <a:pt x="36998" y="3794"/>
                </a:lnTo>
                <a:lnTo>
                  <a:pt x="36998" y="17806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0" y="304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 </a:t>
            </a:r>
            <a:r>
              <a:rPr b="1" lang="ru-RU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395280" y="1773360"/>
            <a:ext cx="8429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П. Чехов говорил «Целовать курящую женщину, все равно, что…  Продолжите его высказывание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ction Button: Back or Previous 14">
            <a:hlinkClick r:id="rId1" action="ppaction://hlinksldjump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0" y="304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826920" y="1844640"/>
            <a:ext cx="79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го царица Екатерина нюхала табак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ction Button: Back or Previous 14">
            <a:hlinkClick r:id="rId1" action="ppaction://hlinksldjump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0" y="304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826920" y="1844640"/>
            <a:ext cx="792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й стране производится больше сигарет, чем в какой-либо другой?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ction Button: Back or Previous 14">
            <a:hlinkClick r:id="rId1" action="ppaction://hlinksldjump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0" y="304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826920" y="1341360"/>
            <a:ext cx="7929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правил противопожарной безопасности по болгарски звучит: «Не курите в леглото! Переведите его на русский язы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ction Button: Back or Previous 4">
            <a:hlinkClick r:id="rId1" action="ppaction://hlinksldjump"/>
          </p:cNvPr>
          <p:cNvSpPr/>
          <p:nvPr/>
        </p:nvSpPr>
        <p:spPr>
          <a:xfrm>
            <a:off x="7238880" y="6324480"/>
            <a:ext cx="1905120" cy="533520"/>
          </a:xfrm>
          <a:custGeom>
            <a:avLst/>
            <a:gdLst>
              <a:gd name="textAreaLeft" fmla="*/ 34560 w 1905120"/>
              <a:gd name="textAreaRight" fmla="*/ 1870560 w 1905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7093" h="21600">
                <a:moveTo>
                  <a:pt x="0" y="0"/>
                </a:moveTo>
                <a:lnTo>
                  <a:pt x="77093" y="0"/>
                </a:lnTo>
                <a:lnTo>
                  <a:pt x="77093" y="21600"/>
                </a:lnTo>
                <a:lnTo>
                  <a:pt x="0" y="21600"/>
                </a:lnTo>
                <a:close/>
              </a:path>
              <a:path fill="lightenLess" w="77093" h="21600">
                <a:moveTo>
                  <a:pt x="0" y="0"/>
                </a:moveTo>
                <a:lnTo>
                  <a:pt x="77093" y="0"/>
                </a:lnTo>
                <a:lnTo>
                  <a:pt x="75693" y="1400"/>
                </a:lnTo>
                <a:lnTo>
                  <a:pt x="1400" y="1400"/>
                </a:lnTo>
                <a:close/>
              </a:path>
              <a:path fill="darken" w="77093" h="21600">
                <a:moveTo>
                  <a:pt x="77093" y="0"/>
                </a:moveTo>
                <a:lnTo>
                  <a:pt x="77093" y="21600"/>
                </a:lnTo>
                <a:lnTo>
                  <a:pt x="75693" y="20200"/>
                </a:lnTo>
                <a:lnTo>
                  <a:pt x="75693" y="1400"/>
                </a:lnTo>
                <a:close/>
              </a:path>
              <a:path fill="darkenLess" w="77093" h="21600">
                <a:moveTo>
                  <a:pt x="77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93" y="20200"/>
                </a:lnTo>
                <a:close/>
              </a:path>
              <a:path fill="lighten" w="77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093" h="21600">
                <a:moveTo>
                  <a:pt x="31540" y="10800"/>
                </a:moveTo>
                <a:lnTo>
                  <a:pt x="45553" y="3794"/>
                </a:lnTo>
                <a:lnTo>
                  <a:pt x="45553" y="17806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755640" y="155736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ревние греки назвали бы человека, страдающего влечением к оцепенению?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  <a:ea typeface="SimSu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6:07:51Z</dcterms:created>
  <dc:creator>Лена</dc:creator>
  <dc:description/>
  <dc:language>en-US</dc:language>
  <cp:lastModifiedBy>Х_А_А</cp:lastModifiedBy>
  <dcterms:modified xsi:type="dcterms:W3CDTF">2017-12-14T15:55:24Z</dcterms:modified>
  <cp:revision>33</cp:revision>
  <dc:subject/>
  <dc:title>Слайд 1</dc:title>
</cp:coreProperties>
</file>