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25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7.jpeg" ContentType="image/jpeg"/>
  <Override PartName="/ppt/media/image16.wmf" ContentType="image/x-wmf"/>
  <Override PartName="/ppt/media/image23.jpeg" ContentType="image/jpeg"/>
  <Override PartName="/ppt/media/image1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26.jpeg" ContentType="image/jpeg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0718C-6A45-4D74-A7CE-5F0B7729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02A02-64DE-42AB-B7D6-971C562A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D8A2F-522F-494C-B611-14667884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1E24C-4B56-4575-90EC-BB418E4A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6B0C-D00C-44C7-BF79-83FFD529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090B-4D8A-4F5E-BE08-CAFB6BAA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A8F2-006E-495E-A37D-ADB172BD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6399-2D9B-4B13-8C5F-EC01EB8F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977C-D8C6-41EB-82E4-5CFCD512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4183-F57E-47B4-9C41-B70E36E3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B5D5-C282-470E-ABB6-8806F1FF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86EA7-B4B8-438F-BC69-4B4749FE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FC66-4B65-4F93-AE4B-E9B03A89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FCBE-AC14-4C95-AF99-794ECB4C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82A0-D383-4A38-998E-1FE83FA4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8A92-75B9-4952-A5BA-06CDD89D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7B38-0484-42A1-B443-E21EC8DE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29E65-261D-4232-8E92-825AD939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56894-A32B-45AB-A0F8-90F70E11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F5EEB-452F-4B82-A49E-CB4C8D7D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E7C1C-8EF3-4F8F-86FC-54CB34BB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D7069-76C4-4C30-A57E-0651F817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CF5B7-116F-4059-A2D1-0DE49C81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CA4BC-3D4B-43E3-B6AE-43DDA125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62A1-AD89-4819-A1BC-0FAD8FF10F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91DA-9978-4B22-98EB-D1908126148E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66D4-44E8-46F9-888C-98967F4D5FA2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DAA6-1BBF-412C-BBE2-FA9AA7967B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CA80-CA83-4E1D-8ACA-B54F29B75A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8677440" y="981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1123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«Человек подобен дроби: в знаменателе – то, что он о себе думает. В числителе – то, что есть на самом дел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:\Documents and Settings\All Users\Документы\Мои рисунки\Образцы рисунков\WP6CAOETMLGCAJS66PICAFBVECJCAC3E2LVCAC3MBDYCAHKG0SRCALYZIL5CAJLOHK9CA3F9IM8CAYJZC6MCAM1SU86CA6X75BICAPMCXGWCA31NQV5CAL51XEZCAM3FFV4CA2Q1E1HCAQLHT5PCATXE11U.jpg"/>
          <p:cNvPicPr/>
          <p:nvPr/>
        </p:nvPicPr>
        <p:blipFill>
          <a:blip r:embed="rId1"/>
          <a:stretch/>
        </p:blipFill>
        <p:spPr>
          <a:xfrm>
            <a:off x="6827760" y="46656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3"/>
          <p:cNvSpPr/>
          <p:nvPr/>
        </p:nvSpPr>
        <p:spPr>
          <a:xfrm>
            <a:off x="5867280" y="3021120"/>
            <a:ext cx="28544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Лев Толс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2"/>
          <a:stretch/>
        </p:blipFill>
        <p:spPr>
          <a:xfrm>
            <a:off x="549360" y="2371680"/>
            <a:ext cx="362592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8499-821F-4B74-AEC7-30B5FB8F1A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8677440" y="981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5120" y="20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Физкульт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C:\Documents and Settings\All Users\Документы\Мои рисунки\Образцы рисунков\WP6CAOETMLGCAJS66PICAFBVECJCAC3E2LVCAC3MBDYCAHKG0SRCALYZIL5CAJLOHK9CA3F9IM8CAYJZC6MCAM1SU86CA6X75BICAPMCXGWCA31NQV5CAL51XEZCAM3FFV4CA2Q1E1HCAQLHT5PCATXE11U.jpg"/>
          <p:cNvPicPr/>
          <p:nvPr/>
        </p:nvPicPr>
        <p:blipFill>
          <a:blip r:embed="rId1"/>
          <a:stretch/>
        </p:blipFill>
        <p:spPr>
          <a:xfrm>
            <a:off x="6827760" y="46656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Выполните задание, получите слово- имя известного математика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TextBox 5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6895-20D5-481E-99A3-54959939CA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2"/>
          <p:cNvSpPr/>
          <p:nvPr/>
        </p:nvSpPr>
        <p:spPr>
          <a:xfrm>
            <a:off x="8677440" y="981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6760" y="4777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«У математиков существует свой язык – это формул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6" descr=""/>
          <p:cNvPicPr/>
          <p:nvPr/>
        </p:nvPicPr>
        <p:blipFill>
          <a:blip r:embed="rId1"/>
          <a:stretch/>
        </p:blipFill>
        <p:spPr>
          <a:xfrm>
            <a:off x="266760" y="1879560"/>
            <a:ext cx="3205080" cy="39322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3"/>
          <p:cNvSpPr/>
          <p:nvPr/>
        </p:nvSpPr>
        <p:spPr>
          <a:xfrm>
            <a:off x="3351240" y="2147760"/>
            <a:ext cx="539892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Софья Васильевна Ковалевская (1850-18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Русский математик и механик, писатель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Первая в России и Северной Европе женщина профессор – математик. Член Санкт-Петербургской Академии на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Основные научные труды посвящены математическому анализу, механике и астрономи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7640" y="-262080"/>
            <a:ext cx="8229600" cy="5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Calibri"/>
                <a:ea typeface="Times New Roman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Текст 2" descr=""/>
          <p:cNvPicPr/>
          <p:nvPr/>
        </p:nvPicPr>
        <p:blipFill>
          <a:blip r:embed="rId1"/>
          <a:stretch/>
        </p:blipFill>
        <p:spPr>
          <a:xfrm>
            <a:off x="743040" y="712800"/>
            <a:ext cx="4041720" cy="6145200"/>
          </a:xfrm>
          <a:prstGeom prst="rect">
            <a:avLst/>
          </a:prstGeom>
          <a:ln w="0">
            <a:noFill/>
          </a:ln>
        </p:spPr>
      </p:pic>
      <p:pic>
        <p:nvPicPr>
          <p:cNvPr id="181" name="Текст 2" descr=""/>
          <p:cNvPicPr/>
          <p:nvPr/>
        </p:nvPicPr>
        <p:blipFill>
          <a:blip r:embed="rId2"/>
          <a:stretch/>
        </p:blipFill>
        <p:spPr>
          <a:xfrm>
            <a:off x="4572000" y="712800"/>
            <a:ext cx="396252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№</a:t>
            </a:r>
            <a:r>
              <a:rPr b="1" lang="en-US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81</a:t>
            </a:r>
            <a:r>
              <a:rPr b="1" lang="ru-RU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, 82, с.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12" descr=""/>
          <p:cNvPicPr/>
          <p:nvPr/>
        </p:nvPicPr>
        <p:blipFill>
          <a:blip r:embed="rId1"/>
          <a:stretch/>
        </p:blipFill>
        <p:spPr>
          <a:xfrm>
            <a:off x="31680" y="190440"/>
            <a:ext cx="9144000" cy="6667560"/>
          </a:xfrm>
          <a:prstGeom prst="rect">
            <a:avLst/>
          </a:prstGeom>
          <a:ln w="0">
            <a:noFill/>
          </a:ln>
        </p:spPr>
      </p:pic>
      <p:sp>
        <p:nvSpPr>
          <p:cNvPr id="185" name="Содержимое 2"/>
          <p:cNvSpPr/>
          <p:nvPr/>
        </p:nvSpPr>
        <p:spPr>
          <a:xfrm>
            <a:off x="1068480" y="198900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На уроке м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было тру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одержимое 2"/>
          <p:cNvSpPr/>
          <p:nvPr/>
        </p:nvSpPr>
        <p:spPr>
          <a:xfrm>
            <a:off x="3382920" y="2127240"/>
            <a:ext cx="29624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На уроке 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работал</a:t>
            </a:r>
            <a:r>
              <a:rPr b="1" lang="en-US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неплох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одержимое 2"/>
          <p:cNvSpPr/>
          <p:nvPr/>
        </p:nvSpPr>
        <p:spPr>
          <a:xfrm>
            <a:off x="6076800" y="2003400"/>
            <a:ext cx="3302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Я доволен сво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работой на ур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10920" y="1341360"/>
            <a:ext cx="81010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Масса витамина С, ежедневно необходимая человеку, относится к массе витамина Е, как 4: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Какова суточная норма в витамине Е, если  витамина С   мы в день должны употреблять 60 мг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http://glamius.ru/uploads/11-12-2015/vitamin-c.jpg"/>
          <p:cNvPicPr/>
          <p:nvPr/>
        </p:nvPicPr>
        <p:blipFill>
          <a:blip r:embed="rId1"/>
          <a:stretch/>
        </p:blipFill>
        <p:spPr>
          <a:xfrm>
            <a:off x="5148360" y="3284640"/>
            <a:ext cx="31590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485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Ответ:15 м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http://glamius.ru/uploads/11-12-2015/vitamin-c.jpg"/>
          <p:cNvPicPr/>
          <p:nvPr/>
        </p:nvPicPr>
        <p:blipFill>
          <a:blip r:embed="rId1"/>
          <a:stretch/>
        </p:blipFill>
        <p:spPr>
          <a:xfrm>
            <a:off x="3995640" y="1341360"/>
            <a:ext cx="488808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260280" y="1773360"/>
            <a:ext cx="8623440" cy="2288520"/>
          </a:xfrm>
          <a:prstGeom prst="rect">
            <a:avLst/>
          </a:prstGeom>
          <a:gradFill rotWithShape="0">
            <a:gsLst>
              <a:gs pos="0">
                <a:srgbClr val="c5c5db"/>
              </a:gs>
              <a:gs pos="100000">
                <a:srgbClr val="aeaecf"/>
              </a:gs>
            </a:gsLst>
            <a:lin ang="5400000"/>
          </a:gradFill>
          <a:ln w="6480">
            <a:solidFill>
              <a:srgbClr val="8a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Совершенствование умений складывать и вычитать алгебраические дроби с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 разными знаменател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Прямоугольник 5" descr=""/>
          <p:cNvPicPr/>
          <p:nvPr/>
        </p:nvPicPr>
        <p:blipFill>
          <a:blip r:embed="rId1"/>
          <a:stretch/>
        </p:blipFill>
        <p:spPr>
          <a:xfrm>
            <a:off x="3371760" y="573120"/>
            <a:ext cx="2187720" cy="95076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7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9ADA-B364-4C1F-8DEB-AE36A40B62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C:\Documents and Settings\All Users\Документы\Мои рисунки\Образцы рисунков\WP6CAOETMLGCAJS66PICAFBVECJCAC3E2LVCAC3MBDYCAHKG0SRCALYZIL5CAJLOHK9CA3F9IM8CAYJZC6MCAM1SU86CA6X75BICAPMCXGWCA31NQV5CAL51XEZCAM3FFV4CA2Q1E1HCAQLHT5PCATXE11U.jpg"/>
          <p:cNvPicPr/>
          <p:nvPr/>
        </p:nvPicPr>
        <p:blipFill>
          <a:blip r:embed="rId2"/>
          <a:stretch/>
        </p:blipFill>
        <p:spPr>
          <a:xfrm>
            <a:off x="7236000" y="18900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All Users\Документы\Мои рисунки\Образцы рисунков\3LCCAL3VWXVCAR01R14CAJKKEKDCA9G7WIFCA9G0LL8CAHXM5S7CAJ4CQ01CAATPEOJCALZBEMYCAB90X5HCA9SGP0JCA3J21JGCA2JOKWVCASJTJ29CAKEGE54CATC0ZUACAR0HD83CAU4RQXFCA3F8E4S.jpg"/>
          <p:cNvPicPr/>
          <p:nvPr/>
        </p:nvPicPr>
        <p:blipFill>
          <a:blip r:embed="rId3"/>
          <a:stretch/>
        </p:blipFill>
        <p:spPr>
          <a:xfrm>
            <a:off x="900000" y="5157720"/>
            <a:ext cx="21607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Прямоугольник 3" descr=""/>
          <p:cNvPicPr/>
          <p:nvPr/>
        </p:nvPicPr>
        <p:blipFill>
          <a:blip r:embed="rId1"/>
          <a:stretch/>
        </p:blipFill>
        <p:spPr>
          <a:xfrm>
            <a:off x="-73080" y="566640"/>
            <a:ext cx="929016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249120" y="620640"/>
            <a:ext cx="864576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2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Алгоритм сложения и вычитания алгебраических дробей с разными знаменателя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2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1. Найти наименьший общий знаменатель др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2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2. Найти дополнительные множители для каждой из др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2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3. Домножить числители на соответствующие дополнительные множи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2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4. Сложить или вычесть дроби, пользуясь правилами сложения и вычитания дробей с одинаковыми знаменателя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214280" y="2924280"/>
            <a:ext cx="3132360" cy="2152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356000" y="2924280"/>
            <a:ext cx="2960640" cy="21398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2013120" y="3413160"/>
          <a:ext cx="362556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3120" y="3413160"/>
                    <a:ext cx="362556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5"/>
          <p:cNvGraphicFramePr/>
          <p:nvPr/>
        </p:nvGraphicFramePr>
        <p:xfrm>
          <a:off x="1514520" y="3465360"/>
          <a:ext cx="4233960" cy="109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4520" y="3465360"/>
                    <a:ext cx="423396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2387520" y="3492360"/>
          <a:ext cx="3592440" cy="103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87520" y="3492360"/>
                    <a:ext cx="359244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полните действ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8"/>
          <p:cNvGraphicFramePr/>
          <p:nvPr/>
        </p:nvGraphicFramePr>
        <p:xfrm>
          <a:off x="2532240" y="3427560"/>
          <a:ext cx="3682800" cy="11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32240" y="3427560"/>
                    <a:ext cx="368280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9"/>
          <p:cNvGraphicFramePr/>
          <p:nvPr/>
        </p:nvGraphicFramePr>
        <p:xfrm>
          <a:off x="2593800" y="3395520"/>
          <a:ext cx="3370320" cy="1146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3800" y="3395520"/>
                    <a:ext cx="33703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10"/>
          <p:cNvSpPr/>
          <p:nvPr/>
        </p:nvSpPr>
        <p:spPr>
          <a:xfrm>
            <a:off x="4503600" y="3116160"/>
            <a:ext cx="2616480" cy="1733760"/>
          </a:xfrm>
          <a:prstGeom prst="rect">
            <a:avLst/>
          </a:prstGeom>
          <a:solidFill>
            <a:srgbClr val="9999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Прави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214280" y="2924280"/>
            <a:ext cx="3132360" cy="2152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356000" y="2924280"/>
            <a:ext cx="2960640" cy="21398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938240" y="3413160"/>
          <a:ext cx="377352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8240" y="3413160"/>
                    <a:ext cx="37735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5"/>
          <p:cNvGraphicFramePr/>
          <p:nvPr/>
        </p:nvGraphicFramePr>
        <p:xfrm>
          <a:off x="1609560" y="3441600"/>
          <a:ext cx="4391280" cy="104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9560" y="3441600"/>
                    <a:ext cx="4391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6"/>
          <p:cNvGraphicFramePr/>
          <p:nvPr/>
        </p:nvGraphicFramePr>
        <p:xfrm>
          <a:off x="2523960" y="3490920"/>
          <a:ext cx="3424320" cy="103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23960" y="3490920"/>
                    <a:ext cx="34243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полните действ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8"/>
          <p:cNvGraphicFramePr/>
          <p:nvPr/>
        </p:nvGraphicFramePr>
        <p:xfrm>
          <a:off x="2344680" y="3414600"/>
          <a:ext cx="3683160" cy="109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4680" y="3414600"/>
                    <a:ext cx="368316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9"/>
          <p:cNvGraphicFramePr/>
          <p:nvPr/>
        </p:nvGraphicFramePr>
        <p:xfrm>
          <a:off x="2514600" y="3397320"/>
          <a:ext cx="3814920" cy="1146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5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3397320"/>
                    <a:ext cx="3814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10"/>
          <p:cNvSpPr/>
          <p:nvPr/>
        </p:nvSpPr>
        <p:spPr>
          <a:xfrm>
            <a:off x="4503600" y="3116160"/>
            <a:ext cx="2616480" cy="1733760"/>
          </a:xfrm>
          <a:prstGeom prst="rect">
            <a:avLst/>
          </a:prstGeom>
          <a:solidFill>
            <a:srgbClr val="9999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Прави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214280" y="2924280"/>
            <a:ext cx="3132360" cy="2152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356000" y="2924280"/>
            <a:ext cx="2960640" cy="21398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2249640" y="3386160"/>
          <a:ext cx="425448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9640" y="3386160"/>
                    <a:ext cx="42544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5"/>
          <p:cNvGraphicFramePr/>
          <p:nvPr/>
        </p:nvGraphicFramePr>
        <p:xfrm>
          <a:off x="1744560" y="3470400"/>
          <a:ext cx="5400720" cy="110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4560" y="3470400"/>
                    <a:ext cx="5400720" cy="11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6"/>
          <p:cNvGraphicFramePr/>
          <p:nvPr/>
        </p:nvGraphicFramePr>
        <p:xfrm>
          <a:off x="2724120" y="3425760"/>
          <a:ext cx="3457440" cy="117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24120" y="3425760"/>
                    <a:ext cx="345744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полните действ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8"/>
          <p:cNvGraphicFramePr/>
          <p:nvPr/>
        </p:nvGraphicFramePr>
        <p:xfrm>
          <a:off x="2765520" y="3443400"/>
          <a:ext cx="3682800" cy="1095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65520" y="3443400"/>
                    <a:ext cx="368280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9"/>
          <p:cNvGraphicFramePr/>
          <p:nvPr/>
        </p:nvGraphicFramePr>
        <p:xfrm>
          <a:off x="2633760" y="3430440"/>
          <a:ext cx="3556080" cy="1170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33760" y="3430440"/>
                    <a:ext cx="355608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Rectangle 10"/>
          <p:cNvSpPr/>
          <p:nvPr/>
        </p:nvSpPr>
        <p:spPr>
          <a:xfrm>
            <a:off x="4503600" y="3116160"/>
            <a:ext cx="2616480" cy="1733760"/>
          </a:xfrm>
          <a:prstGeom prst="rect">
            <a:avLst/>
          </a:prstGeom>
          <a:solidFill>
            <a:srgbClr val="9999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Прави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>
            <a:hlinkClick r:id="" action="ppaction://hlinkshowjump?jump=endshow"/>
          </p:cNvPr>
          <p:cNvSpPr/>
          <p:nvPr/>
        </p:nvSpPr>
        <p:spPr>
          <a:xfrm>
            <a:off x="4217760" y="6389640"/>
            <a:ext cx="76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Закры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3CC3-3F93-4C98-829A-D1AC7E99E6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8677440" y="981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0200" y="1506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Сложение и вычитание дробей с разными знаменател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C:\Documents and Settings\All Users\Документы\Мои рисунки\Образцы рисунков\WP6CAOETMLGCAJS66PICAFBVECJCAC3E2LVCAC3MBDYCAHKG0SRCALYZIL5CAJLOHK9CA3F9IM8CAYJZC6MCAM1SU86CA6X75BICAPMCXGWCA31NQV5CAL51XEZCAM3FFV4CA2Q1E1HCAQLHT5PCATXE11U.jpg"/>
          <p:cNvPicPr/>
          <p:nvPr/>
        </p:nvPicPr>
        <p:blipFill>
          <a:blip r:embed="rId1"/>
          <a:stretch/>
        </p:blipFill>
        <p:spPr>
          <a:xfrm>
            <a:off x="6827760" y="46656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3"/>
          <p:cNvSpPr/>
          <p:nvPr/>
        </p:nvSpPr>
        <p:spPr>
          <a:xfrm>
            <a:off x="6013440" y="844560"/>
            <a:ext cx="28544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29.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682560" y="1554120"/>
            <a:ext cx="82170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8T13:01:16Z</dcterms:created>
  <dc:creator>Кравченко</dc:creator>
  <dc:description/>
  <dc:language>en-US</dc:language>
  <cp:lastModifiedBy>Алина Гурышкина</cp:lastModifiedBy>
  <dcterms:modified xsi:type="dcterms:W3CDTF">2023-09-28T18:07:32Z</dcterms:modified>
  <cp:revision>185</cp:revision>
  <dc:subject/>
  <dc:title>8 класс алгебра</dc:title>
</cp:coreProperties>
</file>