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F039-1CFB-41DB-A0BE-6ACAD3B39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494F-219E-41EB-92E1-604A23D4FE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DD43-4F97-4B41-8F5B-09715DFB97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438120"/>
            <a:ext cx="38098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2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Защитники Отечества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809360"/>
            <a:ext cx="38102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2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ыполнили: Харлова Г.Ф. и Есенбулова А.Ж. воспитатели ст. группы БОУ г. Омска «СОШ № 107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Объект 4" descr=""/>
          <p:cNvPicPr/>
          <p:nvPr/>
        </p:nvPicPr>
        <p:blipFill>
          <a:blip r:embed="rId1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Open Sans"/>
              </a:rPr>
              <a:t>Снова в бой машина мчит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Open Sans"/>
              </a:rPr>
              <a:t>Режут землю гусеницы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Open Sans"/>
              </a:rPr>
              <a:t>Та машина в поле чист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Open Sans"/>
              </a:rPr>
              <a:t>Управляется 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Объект 4" descr=""/>
          <p:cNvPicPr/>
          <p:nvPr/>
        </p:nvPicPr>
        <p:blipFill>
          <a:blip r:embed="rId1"/>
          <a:stretch/>
        </p:blipFill>
        <p:spPr>
          <a:xfrm>
            <a:off x="3505320" y="914400"/>
            <a:ext cx="5138640" cy="4038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лет парит, как птиц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м — воздушная границ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осту и днем, и ноч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ш солдат — военный …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Объект 4" descr=""/>
          <p:cNvPicPr/>
          <p:nvPr/>
        </p:nvPicPr>
        <p:blipFill>
          <a:blip r:embed="rId1"/>
          <a:stretch/>
        </p:blipFill>
        <p:spPr>
          <a:xfrm>
            <a:off x="3575160" y="609480"/>
            <a:ext cx="5111640" cy="4294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, ребята, на границе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шу землю стережет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б работать и учиться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г спокойно наш народ?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Объект 4" descr=""/>
          <p:cNvPicPr/>
          <p:nvPr/>
        </p:nvPicPr>
        <p:blipFill>
          <a:blip r:embed="rId1"/>
          <a:stretch/>
        </p:blipFill>
        <p:spPr>
          <a:xfrm>
            <a:off x="3575160" y="990720"/>
            <a:ext cx="5111640" cy="3886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важения достои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мелый и отважный воин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о в тыл врага пробрать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замеченным остать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запомнить, разузна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тром в штабе рассказать.</a:t>
            </a:r>
            <a:br>
              <a:rPr sz="1400"/>
            </a:b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Объект 4" descr=""/>
          <p:cNvPicPr/>
          <p:nvPr/>
        </p:nvPicPr>
        <p:blipFill>
          <a:blip r:embed="rId1"/>
          <a:stretch/>
        </p:blipFill>
        <p:spPr>
          <a:xfrm>
            <a:off x="3575160" y="990720"/>
            <a:ext cx="5111640" cy="39099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на фронте, и в тыл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нь и ночь ведут борьб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Жизни раненым спасаю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трой вернуться помогают.</a:t>
            </a:r>
            <a:br>
              <a:rPr sz="1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Объект 4" descr=""/>
          <p:cNvPicPr/>
          <p:nvPr/>
        </p:nvPicPr>
        <p:blipFill>
          <a:blip r:embed="rId1"/>
          <a:stretch/>
        </p:blipFill>
        <p:spPr>
          <a:xfrm>
            <a:off x="3575160" y="1371600"/>
            <a:ext cx="5111640" cy="3809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бы Родине служит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ужно очень сильным бы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бы силы накопит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ужно с ложкою дружи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олько мамы рядом нет..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 ж состряпает обед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Военная техника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6" name="Объект 4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4343400" cy="2952720"/>
          </a:xfrm>
          <a:prstGeom prst="rect">
            <a:avLst/>
          </a:prstGeom>
          <a:ln w="0">
            <a:noFill/>
          </a:ln>
        </p:spPr>
      </p:pic>
      <p:pic>
        <p:nvPicPr>
          <p:cNvPr id="77" name="Объект 5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267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Объект 4" descr=""/>
          <p:cNvPicPr/>
          <p:nvPr/>
        </p:nvPicPr>
        <p:blipFill>
          <a:blip r:embed="rId1"/>
          <a:stretch/>
        </p:blipFill>
        <p:spPr>
          <a:xfrm>
            <a:off x="0" y="1371600"/>
            <a:ext cx="4419720" cy="3606840"/>
          </a:xfrm>
          <a:prstGeom prst="rect">
            <a:avLst/>
          </a:prstGeom>
          <a:ln w="0">
            <a:noFill/>
          </a:ln>
        </p:spPr>
      </p:pic>
      <p:pic>
        <p:nvPicPr>
          <p:cNvPr id="79" name="Объект 5" descr=""/>
          <p:cNvPicPr/>
          <p:nvPr/>
        </p:nvPicPr>
        <p:blipFill>
          <a:blip r:embed="rId2"/>
          <a:stretch/>
        </p:blipFill>
        <p:spPr>
          <a:xfrm>
            <a:off x="4495680" y="2286000"/>
            <a:ext cx="449604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Объект 6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01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Объект 3" descr=""/>
          <p:cNvPicPr/>
          <p:nvPr/>
        </p:nvPicPr>
        <p:blipFill>
          <a:blip r:embed="rId2"/>
          <a:stretch/>
        </p:blipFill>
        <p:spPr>
          <a:xfrm>
            <a:off x="2438280" y="608040"/>
            <a:ext cx="4191120" cy="6286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nstantia"/>
              </a:rPr>
              <a:t>Будущие защитник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Русские богатыр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-152280" y="1066680"/>
            <a:ext cx="9448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Интернет-ресурсы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0_c9796_95b71155_orig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18e2999891374a475d0687ca9f989d831405595709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1200-630-kopirovat-29-1170x630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1501679504_f726de37b4a8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C9tOjlXUAAA5nM0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news_20170528_085011_1495950611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org_ivak852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powerpoint-template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sviaz1_zarembo_d_850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ijkjhmjk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316880"/>
            <a:ext cx="4952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2" name="Объект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Объект 6" descr=""/>
          <p:cNvPicPr/>
          <p:nvPr/>
        </p:nvPicPr>
        <p:blipFill>
          <a:blip r:embed="rId1"/>
          <a:stretch/>
        </p:blipFill>
        <p:spPr>
          <a:xfrm>
            <a:off x="3581280" y="1523880"/>
            <a:ext cx="5112000" cy="3405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козырка и тельняшк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ьются ленты за спино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олгода ходит в мор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 узнали кто такой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Объект 6" descr=""/>
          <p:cNvPicPr/>
          <p:nvPr/>
        </p:nvPicPr>
        <p:blipFill>
          <a:blip r:embed="rId1"/>
          <a:stretch/>
        </p:blipFill>
        <p:spPr>
          <a:xfrm>
            <a:off x="3575160" y="1503360"/>
            <a:ext cx="5111640" cy="3392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репкий прочный парашю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спиной его раскрыл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за несколько мину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на землю опустилс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пройдет и лес, и брод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 противника найд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 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Объект 4" descr=""/>
          <p:cNvPicPr/>
          <p:nvPr/>
        </p:nvPicPr>
        <p:blipFill>
          <a:blip r:embed="rId1"/>
          <a:stretch/>
        </p:blipFill>
        <p:spPr>
          <a:xfrm>
            <a:off x="3575160" y="1495440"/>
            <a:ext cx="5111640" cy="3408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Я служу сейчас на флот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ух хороший у мен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ть такой же и в пехоте —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жим с рацией не зря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Объект 4" descr=""/>
          <p:cNvPicPr/>
          <p:nvPr/>
        </p:nvPicPr>
        <p:blipFill>
          <a:blip r:embed="rId1"/>
          <a:stretch/>
        </p:blipFill>
        <p:spPr>
          <a:xfrm>
            <a:off x="3575160" y="1494000"/>
            <a:ext cx="5111640" cy="3411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менит робота-машину —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 обезвредит бомбу, мин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сем не должен ошибать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бы в живых потом остатьс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ADMIN</cp:lastModifiedBy>
  <dcterms:modified xsi:type="dcterms:W3CDTF">2019-01-31T04:12:42Z</dcterms:modified>
  <cp:revision>288</cp:revision>
  <dc:subject/>
  <dc:title>Name of presentation</dc:title>
</cp:coreProperties>
</file>