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F5F0-7685-4BFA-9BD3-2F590223E4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5CDD-4F84-4777-8556-E39220E185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1CD-9AD7-41E7-99C7-2C0B9674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A17-F7DF-4EBA-B27B-094A055C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A83-0DA9-47D9-97CD-64C1C14F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E93-DC30-42D6-9B8C-94F72B4F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5014-4BE5-4AFC-A24F-BECED955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68FC-16B3-46D5-AD3D-C8B2916B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1B99-A58F-4FB0-9F1E-224DBBEE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5717-634A-4F3C-8B69-AAA07E24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09DE-0D39-463E-AA31-9F16611D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4CD2-E062-4A57-ACD7-FBBFDD20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9893-1A9F-4E64-99C2-2EE100CA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5A1-6D23-4A81-A5FB-F4248A0F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B154-5C78-4604-A92E-6C628885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1403-05A3-4E2A-8FAE-66A0D39D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37BE-460A-4408-BD4A-6532FBF8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3C9F-A243-46D2-BEB5-3F49ED0B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AA43-4D15-40D9-9906-5F75685E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3F198-D6BB-4DBB-AD3F-B7DC9800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50856-681B-42B8-BC60-9DE8BB78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18325-AFBE-4D5D-8095-CAFB8251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342C3-7BDC-4E0B-8CD0-6C787B93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EBF44-6B50-43A2-ABC8-5A59E5B5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6C4-CBEA-4403-94C2-FEFCAC01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8C127-FEF1-4D4A-8F56-47509411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E7D68-0F2B-40DA-8F99-1740DFF6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AC633-E9F8-44CA-8E4A-B7650658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B3BEE-B316-4E40-A7AA-CFDBDA0E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AAB91-056F-4DEB-A87A-8BCD31BB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A5016-5E4E-4CEB-9CCD-E7FB130F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2333E-303E-4504-9A38-14A4FD8B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5A4BF-D025-4D57-A9C0-07CEA759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FDC46-60FF-42A5-A005-D5A4FC6B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5E40-B173-45E2-A8B4-1FF85228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98D-8C28-4EB2-AB74-88D2D4FB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6E748-9E9D-4387-A438-1C20A11B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3673E-8EFB-4AEF-A1B9-06A3F70B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C1261-7565-4EBA-AD66-985671F0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36CFB-67B7-4FF6-BE83-7143AE8C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59B15-DC1F-435F-98AA-D329549F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375D-8E57-4978-8D8B-F56B73D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84CC-6D3F-41AC-854C-E56DAE8B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831D5-B55E-4DA4-B1D8-278BEB5C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FBA76-CC7B-465B-8AA2-F9303C2D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D9495-15CB-4BE2-AB21-8E2C8950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900-55C8-4C2B-A5CF-7D96030B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690A9-ED79-4411-A90E-E70F2594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F2A6A-5973-4A29-8BD7-B73B05A5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1660F-0C61-4172-91D6-CE9EE3B0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D251F-B9CE-4ED2-91F4-A6D49F66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03E76-3E46-4554-A201-E94B83AF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2F007-21BF-4920-A7D7-612A5AF6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BF179-C066-4771-BC7B-32F6681A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460D2B-6DE4-48A9-99E3-FCB7A02B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89306-D749-4071-865A-E9EE83C4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7F4E9-298E-465A-A4F8-27F2C349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B3F-93FE-46CF-B6FD-14A1AF1C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30D4B-5E90-4DF1-ACAE-B19A2C88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05873-57F8-44FD-9C4E-18D90327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777C2-F4BA-4521-B08D-E5EFFCEA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76F4B-D1F2-416D-9E48-048B48B0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AD261-31EC-41A9-B845-82C8F20F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94E34-CAAD-48EF-9E3B-4BD6626F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D1EDA-1E21-4F3A-B8E8-ABFDDC42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6010D7-AFD2-43B5-AF37-58534232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9E3FC0-00DF-4043-B2B4-634D5B3A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CAEE7-6D4D-46FE-9942-6C578DC6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BF6-BD58-4410-AF3F-39972A1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832AF-2726-4522-9458-AC7E951F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CA68F-74E5-4D28-ADBA-A0936681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32BFF-EC2B-4D68-99F4-752C961D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531D5-8FA8-49F9-9EC8-D1F62A7C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49E25-6F4F-4A0A-BD59-30EF2956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7E21E8-E79A-4215-AB2F-7022B4B2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18637-A8CB-4B89-BBC1-CC1D5614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FB1C7-2926-4DA4-B494-F4166E59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7C281-F222-4481-84FB-B14DA430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2CB322-9293-42CB-9E38-36FDBD3F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5CF-EE3A-450E-A750-3B6C625B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92B29-FE53-4F64-BD59-64014252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92B5F-9AF2-4BBD-B1DE-11AE8F72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68A67-B8B2-4A50-9420-09D3C34C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59511-CA43-4695-B9FA-35BE532F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B2790-0B4C-495E-9C00-DBB5B6A1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3FD-3743-4244-A432-2BC006F4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9383-BB66-47A6-B0CD-A8D316F5F9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E817-E32A-49B0-8BDA-E34457C47B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096B-159A-406D-8F01-7322651458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452C-C782-4D72-9DFB-9E63D08D3B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BF46-F1E1-4467-9FED-0BF1BEAC27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8A40-8E1E-4564-80CB-452996F618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45AC-0913-44EB-8BF2-B5D2445C36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68000" y="18720"/>
            <a:ext cx="61722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ВЫБОР СТАБИЛИЗАТОРА ЭЛЕКТРИЧЕСКОГО НАПРЯЖЕН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123640" y="3231720"/>
            <a:ext cx="6172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найти электрические характеристики бытовых прибо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одзаголовок 2"/>
          <p:cNvSpPr/>
          <p:nvPr/>
        </p:nvSpPr>
        <p:spPr>
          <a:xfrm>
            <a:off x="2124000" y="4292640"/>
            <a:ext cx="6172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научиться их анализировать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одзаголовок 2"/>
          <p:cNvSpPr/>
          <p:nvPr/>
        </p:nvSpPr>
        <p:spPr>
          <a:xfrm>
            <a:off x="2124000" y="5157720"/>
            <a:ext cx="6172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научиться применять знания полученные на уроках в быт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http://igraemsvadbu.com/uploads/posts/2013-02/1362041128_tovar-458087.jpg"/>
          <p:cNvPicPr/>
          <p:nvPr/>
        </p:nvPicPr>
        <p:blipFill>
          <a:blip r:embed="rId1"/>
          <a:srcRect l="0" t="0" r="0" b="10874"/>
          <a:stretch/>
        </p:blipFill>
        <p:spPr>
          <a:xfrm>
            <a:off x="0" y="189000"/>
            <a:ext cx="5448240" cy="3938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268600" y="333000"/>
            <a:ext cx="38494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КАК ЗАЩИТИТЬ ТЕХНИКУ ОТ ПЕРЕПАДОВ НАПРЯЖЕНИЯ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9" descr="http://www.bigtool.ru/cms-images/bigtool_goods_goods/6855_1.jpg"/>
          <p:cNvPicPr/>
          <p:nvPr/>
        </p:nvPicPr>
        <p:blipFill>
          <a:blip r:embed="rId2"/>
          <a:stretch/>
        </p:blipFill>
        <p:spPr>
          <a:xfrm>
            <a:off x="155520" y="4365720"/>
            <a:ext cx="2687760" cy="2209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http://kotlov.by/images/teksty/stabilizator_napryazenia.jpeg"/>
          <p:cNvPicPr/>
          <p:nvPr/>
        </p:nvPicPr>
        <p:blipFill>
          <a:blip r:embed="rId3"/>
          <a:stretch/>
        </p:blipFill>
        <p:spPr>
          <a:xfrm>
            <a:off x="3292560" y="4594320"/>
            <a:ext cx="2052720" cy="2050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http://images.prom.ua/10081076_w640_h640_vk1000e.jpg"/>
          <p:cNvPicPr/>
          <p:nvPr/>
        </p:nvPicPr>
        <p:blipFill>
          <a:blip r:embed="rId4"/>
          <a:srcRect l="0" t="9146" r="0" b="16107"/>
          <a:stretch/>
        </p:blipFill>
        <p:spPr>
          <a:xfrm>
            <a:off x="5364000" y="4560840"/>
            <a:ext cx="2656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ЗАПОЛНЯЕМ ШАПКУ ОТЧЕТ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ланк-отчет группы № 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 группы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: 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Иванов 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Лебедева 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и т.д………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476280"/>
            <a:ext cx="7467480" cy="59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бирая  технику обращайте внимание на класс энергопотребления, заявленную мощность, точность необходимой стабилизации напря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метьте в выбранном списке приборы, которые будете подключать через стабилизато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считайте суммарную мощность выбранных прибо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бирая стабилизатор или ИБП обратите внимание на его мощность и точность стабилизац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 есть несколько подходящих устройств, то сравните стоимост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96600" y="486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ХРАНИТЕ ОТЧЕТ С ИМЕНЕМ НОМЕРА СОЕЙ ГРУППЫ. НАПРИМЕР: 1.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XLSX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96720" y="2565360"/>
          <a:ext cx="7921800" cy="939960"/>
        </p:xfrm>
        <a:graphic>
          <a:graphicData uri="http://schemas.openxmlformats.org/drawingml/2006/table">
            <a:tbl>
              <a:tblPr/>
              <a:tblGrid>
                <a:gridCol w="1197000"/>
                <a:gridCol w="1962360"/>
                <a:gridCol w="1197000"/>
                <a:gridCol w="1614240"/>
                <a:gridCol w="1951200"/>
              </a:tblGrid>
              <a:tr h="5637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ртик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а,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ощность, кВ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очность стабилизации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8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тю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72" name="TextBox 4"/>
          <p:cNvSpPr/>
          <p:nvPr/>
        </p:nvSpPr>
        <p:spPr>
          <a:xfrm>
            <a:off x="720720" y="1484280"/>
            <a:ext cx="72738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о все колонки, кроме названия, вносите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олько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цифры без единиц измерения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арактеристики техники вносите на листе «приборы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арактеристики стабилизаторов на листе «стабилизаторы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веряйте  наличие ошибок на странице «проверка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Заголовок 1"/>
          <p:cNvSpPr/>
          <p:nvPr/>
        </p:nvSpPr>
        <p:spPr>
          <a:xfrm>
            <a:off x="692280" y="2602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АВИЛА ЗАПОЛНЕНИЯ ЭЛЕКТРОННОГО БЛАНКА ОТЧЕТ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ТЧЕТ ГРУПП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а №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а №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а №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а №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а №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а №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ВОДЫ: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3141720"/>
            <a:ext cx="746748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нание физических характеристик приборов и принципов их рабо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нимательное изучение инструкц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зволяет рационально использовать имеющиеся сред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1042920" y="162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аши предложения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вторить параграфы 33-4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готовить сообщение (или презентацию, или реферат) по одной из те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Классы энергопотребления электрических приборов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Электрический счетчик – физический прибор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Способы экономии электроэнергии в быт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7:05:10Z</dcterms:created>
  <dc:creator>1</dc:creator>
  <dc:description/>
  <dc:language>en-US</dc:language>
  <cp:lastModifiedBy>admin</cp:lastModifiedBy>
  <dcterms:modified xsi:type="dcterms:W3CDTF">2024-04-05T08:50:12Z</dcterms:modified>
  <cp:revision>18</cp:revision>
  <dc:subject/>
  <dc:title>Выбор стабилизатора электрического напряжения</dc:title>
</cp:coreProperties>
</file>