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32E-445E-49D4-AE84-E0ADB4C7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386-9583-4E32-844E-597604C2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804-6AE0-4537-AC32-7D88CC57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742-14F7-48A1-B7F8-9E102F52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C4A5-9A44-461C-858B-2C6F0FB9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D1C-5135-4134-A535-8F08F2A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0C4-33E8-4188-A5A3-7447E51C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A6B-A3F6-4671-8C3F-114BC05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D81-3448-43B8-8F85-B19E2E7E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F30-184A-4768-B136-830645DE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740-2E73-40FC-921C-678273A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CA-BF4A-4F08-9D26-B5A462A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75A7-2E53-4D20-A47F-AC8D87C00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9" descr="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Деньги любят счё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м дают на карманные расходы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рубл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день, а в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ови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откладываете в копилку, то через 30 дней вы сможете купи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) 20 порций мороженого по 35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) 4 куклы по 200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3 машинки по 100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) 10 шоколадок по 40 рублей.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ам дают на карманные расходы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рубле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день, а в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овин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откладываете в копилку, то через 30 дней вы сможете купи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) 20 порций мороженого по 35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) 4 куклы по 200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) 3 машинки по 100 рубле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) 10 шоколадок по 40 рублей.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Чек-лист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п лапша - 8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ртофельное пюре - 10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тлета - 15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ареная рыба - 14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уляш - 16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ай- 3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мпот - 5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фейный напиток - 4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Шоколад - 40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ухарики - 17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ипсы - 23 руб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Жевательная резинка - 5 руб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упа-чупс - 7 руб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travelata-a.akamaihd.net/thumbs/1920x1080/upload/2018_37/content_hotel_5b9abbc1f147e6.64463710.jpg"/>
          <p:cNvPicPr/>
          <p:nvPr/>
        </p:nvPicPr>
        <p:blipFill>
          <a:blip r:embed="rId1"/>
          <a:stretch/>
        </p:blipFill>
        <p:spPr>
          <a:xfrm>
            <a:off x="-6480" y="1768320"/>
            <a:ext cx="2573640" cy="1451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s://i.ytimg.com/vi/NV0XQPvIcBE/maxresdefault.jpg"/>
          <p:cNvPicPr/>
          <p:nvPr/>
        </p:nvPicPr>
        <p:blipFill>
          <a:blip r:embed="rId2"/>
          <a:stretch/>
        </p:blipFill>
        <p:spPr>
          <a:xfrm>
            <a:off x="171360" y="5376960"/>
            <a:ext cx="2638440" cy="148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s://thumbs.dreamstime.com/b/%D0%BC%D0%B0-%D1%8C%D1%87%D0%B8%D0%BA-%D0%B8-%D0%B5%D0%B2%D1%83%D1%88%D0%BA%D0%B0-%D0%B3%D0%BE%D1%82%D0%BE%D0%B2%D1%8B%D0%B5-%D0%BA-%D1%88%D0%BA%D0%BE-%D0%B5-43065675.jpg"/>
          <p:cNvPicPr/>
          <p:nvPr/>
        </p:nvPicPr>
        <p:blipFill>
          <a:blip r:embed="rId3"/>
          <a:stretch/>
        </p:blipFill>
        <p:spPr>
          <a:xfrm>
            <a:off x="6300720" y="1484280"/>
            <a:ext cx="2737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едини начало и конец фраз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413000"/>
          <a:ext cx="8712360" cy="3292200"/>
        </p:xfrm>
        <a:graphic>
          <a:graphicData uri="http://schemas.openxmlformats.org/drawingml/2006/table">
            <a:tbl>
              <a:tblPr/>
              <a:tblGrid>
                <a:gridCol w="3816360"/>
                <a:gridCol w="489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оложишь в бан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 Можешь забыть, где ты их спрят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Будешь носить в кармане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Сохранишь деньги, но не заработаеш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Спрячешь в копилку.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ожешь потерять их или растрати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Зароешь в землю.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Сохранишь деньги и заработаешь процен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едини начало и конец фра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1413000"/>
          <a:ext cx="8712360" cy="3292200"/>
        </p:xfrm>
        <a:graphic>
          <a:graphicData uri="http://schemas.openxmlformats.org/drawingml/2006/table">
            <a:tbl>
              <a:tblPr/>
              <a:tblGrid>
                <a:gridCol w="3816360"/>
                <a:gridCol w="4896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ложишь в бан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охранишь деньги и заработаешь процен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удешь носить в кармане.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шь потерять их или растрати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чешь в копилку.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хранишь деньги, но не заработаеш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роешь в землю.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ешь забыть, где ты их спрят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5186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оветы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Как правильно обращаться с деньгам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341360"/>
          <a:ext cx="8713800" cy="5297400"/>
        </p:xfrm>
        <a:graphic>
          <a:graphicData uri="http://schemas.openxmlformats.org/drawingml/2006/table">
            <a:tbl>
              <a:tblPr/>
              <a:tblGrid>
                <a:gridCol w="696960"/>
                <a:gridCol w="6861240"/>
                <a:gridCol w="1155600"/>
              </a:tblGrid>
              <a:tr h="6706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е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 или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7104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ьте аккуратными в трате денег, старайтесь не растратитьс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91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измеряйте свои « хочу» и «могу».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тьте деньги,  не задумываясь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06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ите копилку и вносите в нее сдачу от своих покупок, так вы сможете накопить сбережения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шли в магазин – покупайте всё, что хотите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40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айтесь тратить деньги с умом.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зарабатывают деньги свои трудом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06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вы идете за покупками, то старайтесь выбрать те товары, в которых  нуждаетесь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880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итесь сравнивать цены и делать грамотный выбо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73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экономьте на заботе о  своих близких!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9" descr="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16000" y="1397160"/>
          <a:ext cx="6504120" cy="210312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6" descr="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16000" y="1397160"/>
          <a:ext cx="6504120" cy="210312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Содержимое 6" descr="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16000" y="1397160"/>
          <a:ext cx="6504120" cy="210312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16000" y="1397160"/>
          <a:ext cx="6504120" cy="210312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116000" y="1397160"/>
          <a:ext cx="6504120" cy="210312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ие деньги удобне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16000" y="1397160"/>
          <a:ext cx="6504120" cy="2523960"/>
        </p:xfrm>
        <a:graphic>
          <a:graphicData uri="http://schemas.openxmlformats.org/drawingml/2006/table">
            <a:tbl>
              <a:tblPr/>
              <a:tblGrid>
                <a:gridCol w="2168640"/>
                <a:gridCol w="2168280"/>
                <a:gridCol w="21672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ы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мажные день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он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ыт №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вас было 650 рублей, 300 рублей вы одолжили другу, 200 рублей потратили в магазине, 500 рублей вам дали премию, через два дня друг вернул вам долг. 800 рублей вы заплатили за кредит, 1000 рублей вы заняли у коллеги на покупку кроссов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денег у вас сейчас?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catherineasquithgallery.com/uploads/posts/2021-02/1613673584_2-p-fon-dlya-prezentatsii-banki-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50 - 300 – 200 + 500 + 300 – 800 + 1000= = 1150(руб.)</a:t>
            </a:r>
            <a:br>
              <a:rPr sz="36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5T13:07:51Z</dcterms:created>
  <dc:creator>Пользователь</dc:creator>
  <dc:description/>
  <dc:language>en-US</dc:language>
  <cp:lastModifiedBy>Пользователь</cp:lastModifiedBy>
  <dcterms:modified xsi:type="dcterms:W3CDTF">2023-04-26T15:58:02Z</dcterms:modified>
  <cp:revision>25</cp:revision>
  <dc:subject/>
  <dc:title>Слайд 1</dc:title>
</cp:coreProperties>
</file>