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72C-530C-4539-9DDE-67CC0614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82C-B86D-4396-B6EE-7AB53725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CBC-90E4-4EB7-B4CC-80DCCD65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BD3-3D3A-4BEE-BA43-596FA4EB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B4B-306B-4474-863C-1BBA5357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DF7-9DDE-4115-8B49-D3B22E8A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ED3-8666-45E2-80C4-A45A64B6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CAE-890A-4D68-A896-5AC31D1B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54D-A7AC-4E17-AACB-4EAFDF28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CFB-D244-4D76-8DCB-1F0351CF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8BE-0397-4CDD-8713-6B7D2F94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A19-F3B7-4310-A105-30C594E0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9631-3A39-4FC8-BC95-3150CD32A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dic.academic.ru/dic.nsf/ruwiki/71125" TargetMode="External"/><Relationship Id="rId2" Type="http://schemas.openxmlformats.org/officeDocument/2006/relationships/hyperlink" Target="https://kartaslov.ru/&#1079;&#1085;&#1072;&#1095;&#1077;&#1085;&#1080;&#1077;-&#1089;&#1083;&#1086;&#1074;&#1072;/&#1092;&#1083;&#1105;&#1088;&#1076;&#1086;&#1088;&#1072;&#1085;&#1078;" TargetMode="External"/><Relationship Id="rId3" Type="http://schemas.openxmlformats.org/officeDocument/2006/relationships/hyperlink" Target="https://kartaslov.ru/&#1079;&#1085;&#1072;&#1095;&#1077;&#1085;&#1080;&#1077;-&#1089;&#1083;&#1086;&#1074;&#1072;/&#1092;&#1083;&#1105;&#1088;&#1076;&#1086;&#1088;&#1072;&#1085;&#1078;" TargetMode="External"/><Relationship Id="rId4" Type="http://schemas.openxmlformats.org/officeDocument/2006/relationships/hyperlink" Target="https://bigenc.ru/religious_studies/text/5299404" TargetMode="External"/><Relationship Id="rId5" Type="http://schemas.openxmlformats.org/officeDocument/2006/relationships/hyperlink" Target="https://bigenc.ru/world_history/text/2355877" TargetMode="External"/><Relationship Id="rId6" Type="http://schemas.openxmlformats.org/officeDocument/2006/relationships/hyperlink" Target="https://bigenc.ru/world_history/text/2355877" TargetMode="External"/><Relationship Id="rId7" Type="http://schemas.openxmlformats.org/officeDocument/2006/relationships/hyperlink" Target="https://dic.academic.ru/dic.nsf/dic_fwords/29173/&#1055;&#1056;&#1048;&#1042;&#1040;&#1058;&#1053;&#1054;" TargetMode="External"/><Relationship Id="rId8" Type="http://schemas.openxmlformats.org/officeDocument/2006/relationships/hyperlink" Target="https://dic.academic.ru/dic.nsf/ruwiki/33459" TargetMode="External"/><Relationship Id="rId9" Type="http://schemas.openxmlformats.org/officeDocument/2006/relationships/hyperlink" Target="https://dic.academic.ru/dic.nsf/ruwiki/33459" TargetMode="External"/><Relationship Id="rId10" Type="http://schemas.openxmlformats.org/officeDocument/2006/relationships/hyperlink" Target="https://dic.academic.ru/dic.nsf/ruwiki/30367" TargetMode="External"/><Relationship Id="rId11" Type="http://schemas.openxmlformats.org/officeDocument/2006/relationships/hyperlink" Target="https://dic.academic.ru/dic.nsf/ruwiki/30367" TargetMode="External"/><Relationship Id="rId12" Type="http://schemas.openxmlformats.org/officeDocument/2006/relationships/hyperlink" Target="https://dic.academic.ru/dic.nsf/ruwiki/30359" TargetMode="External"/><Relationship Id="rId13" Type="http://schemas.openxmlformats.org/officeDocument/2006/relationships/hyperlink" Target="https://dic.academic.ru/dic.nsf/ruwiki/30359" TargetMode="External"/><Relationship Id="rId14" Type="http://schemas.openxmlformats.org/officeDocument/2006/relationships/hyperlink" Target="https://dic.academic.ru/dic.nsf/hist_dic/14890" TargetMode="Externa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wfb7v1wc21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6v93wt0321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2rywvvq221" TargetMode="External"/><Relationship Id="rId2" Type="http://schemas.openxmlformats.org/officeDocument/2006/relationships/hyperlink" Target="https://learningapps.org/display?v=p2rywvvq221" TargetMode="External"/><Relationship Id="rId3" Type="http://schemas.openxmlformats.org/officeDocument/2006/relationships/hyperlink" Target="https://learningapps.org/display?v=p2rywvvq221" TargetMode="External"/><Relationship Id="rId4" Type="http://schemas.openxmlformats.org/officeDocument/2006/relationships/hyperlink" Target="https://learningapps.org/display?v=p2rywvvq221" TargetMode="External"/><Relationship Id="rId5" Type="http://schemas.openxmlformats.org/officeDocument/2006/relationships/hyperlink" Target="https://learningapps.org/display?v=p2rywvvq221" TargetMode="External"/><Relationship Id="rId6" Type="http://schemas.openxmlformats.org/officeDocument/2006/relationships/hyperlink" Target="https://learningapps.org/display?v=p2rywvvq221" TargetMode="External"/><Relationship Id="rId7" Type="http://schemas.openxmlformats.org/officeDocument/2006/relationships/hyperlink" Target="https://learningapps.org/display?v=p2rywvvq221" TargetMode="Externa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learningapps.org/" TargetMode="External"/><Relationship Id="rId2" Type="http://schemas.openxmlformats.org/officeDocument/2006/relationships/hyperlink" Target="http://rebus1.com/" TargetMode="External"/><Relationship Id="rId3" Type="http://schemas.openxmlformats.org/officeDocument/2006/relationships/hyperlink" Target="http://rebus1.com/" TargetMode="External"/><Relationship Id="rId4" Type="http://schemas.openxmlformats.org/officeDocument/2006/relationships/hyperlink" Target="https://www.learnis.ru/" TargetMode="External"/><Relationship Id="rId5" Type="http://schemas.openxmlformats.org/officeDocument/2006/relationships/hyperlink" Target="https://sites.google.com/new" TargetMode="External"/><Relationship Id="rId6" Type="http://schemas.openxmlformats.org/officeDocument/2006/relationships/hyperlink" Target="https://sites.google.com/new" TargetMode="External"/><Relationship Id="rId7" Type="http://schemas.openxmlformats.org/officeDocument/2006/relationships/hyperlink" Target="https://sites.google.com/new" TargetMode="External"/><Relationship Id="rId8" Type="http://schemas.openxmlformats.org/officeDocument/2006/relationships/hyperlink" Target="https://sites.google.com/new" TargetMode="External"/><Relationship Id="rId9" Type="http://schemas.openxmlformats.org/officeDocument/2006/relationships/hyperlink" Target="https://sites.google.com/new" TargetMode="External"/><Relationship Id="rId10" Type="http://schemas.openxmlformats.org/officeDocument/2006/relationships/hyperlink" Target="https://sites.google.com/new" TargetMode="External"/><Relationship Id="rId11" Type="http://schemas.openxmlformats.org/officeDocument/2006/relationships/hyperlink" Target="https://sites.google.com/new" TargetMode="External"/><Relationship Id="rId12" Type="http://schemas.openxmlformats.org/officeDocument/2006/relationships/hyperlink" Target="https://sites.google.com/new" TargetMode="External"/><Relationship Id="rId13" Type="http://schemas.openxmlformats.org/officeDocument/2006/relationships/hyperlink" Target="https://sites.google.com/new" TargetMode="External"/><Relationship Id="rId14" Type="http://schemas.openxmlformats.org/officeDocument/2006/relationships/hyperlink" Target="https://app.onlinetestpad.com/" TargetMode="External"/><Relationship Id="rId15" Type="http://schemas.openxmlformats.org/officeDocument/2006/relationships/hyperlink" Target="https://app.onlinetestpad.com/" TargetMode="External"/><Relationship Id="rId16" Type="http://schemas.openxmlformats.org/officeDocument/2006/relationships/hyperlink" Target="https://app.onlinetestpad.com/" TargetMode="External"/><Relationship Id="rId17" Type="http://schemas.openxmlformats.org/officeDocument/2006/relationships/hyperlink" Target="https://app.onlinetestpad.com/" TargetMode="External"/><Relationship Id="rId18" Type="http://schemas.openxmlformats.org/officeDocument/2006/relationships/hyperlink" Target="https://app.onlinetestpad.com/" TargetMode="External"/><Relationship Id="rId19" Type="http://schemas.openxmlformats.org/officeDocument/2006/relationships/hyperlink" Target="https://app.onlinetestpad.com/" TargetMode="External"/><Relationship Id="rId20" Type="http://schemas.openxmlformats.org/officeDocument/2006/relationships/hyperlink" Target="https://app.onlinetestpad.com/" TargetMode="External"/><Relationship Id="rId21" Type="http://schemas.openxmlformats.org/officeDocument/2006/relationships/hyperlink" Target="https://app.onlinetestpad.com/" TargetMode="External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Users/&#1040;&#1076;&#1084;&#1080;&#1085;&#1080;&#1089;&#1090;&#1088;&#1072;&#1090;&#1086;&#1088;/Desktop/&#1074;&#1080;&#1076;&#1077;&#1086;%20&#1086;&#1090;&#1082;&#1088;&#1099;&#1090;&#1099;&#1081;%20&#1091;&#1088;&#1086;&#1082;%20&#1048;&#1085;&#1092;&#1086;&#1096;&#1082;&#1086;&#1083;&#1072;.mp4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eyo8s29321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324000" y="549360"/>
            <a:ext cx="4176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Современный урок:</a:t>
            </a:r>
            <a:endParaRPr b="0" i="1" lang="en-US" sz="40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Доступность и качество</a:t>
            </a:r>
            <a:endParaRPr b="0" i="1" lang="en-US" sz="4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611280" y="3357720"/>
            <a:ext cx="374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Интерактивный урок литературы в 6 классе</a:t>
            </a:r>
            <a:endParaRPr b="0" i="1" lang="en-US" sz="20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«Сатирические и юмористические рассказы А. П. Чехова.</a:t>
            </a:r>
            <a:endParaRPr b="0" i="1" lang="en-US" sz="20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«Толстый и тонкий».</a:t>
            </a:r>
            <a:endParaRPr b="0" i="1" lang="en-US" sz="20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Тема, приемы создания комического эффекта»</a:t>
            </a:r>
            <a:endParaRPr b="0" i="1" lang="en-US" sz="20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Выполнила: Качесова О.Ю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Учитель литературы МБОУ Николаевской СОШ им. Г. Е. Кучерявого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43" name="Picture 12" descr="chehov"/>
          <p:cNvPicPr/>
          <p:nvPr/>
        </p:nvPicPr>
        <p:blipFill>
          <a:blip r:embed="rId1"/>
          <a:stretch/>
        </p:blipFill>
        <p:spPr>
          <a:xfrm>
            <a:off x="4524480" y="189000"/>
            <a:ext cx="4619520" cy="6335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АП Чехов и Табель о рангах насколько Толстый обошел Тонкого"/>
          <p:cNvPicPr/>
          <p:nvPr/>
        </p:nvPicPr>
        <p:blipFill>
          <a:blip r:embed="rId1"/>
          <a:stretch/>
        </p:blipFill>
        <p:spPr>
          <a:xfrm>
            <a:off x="1908000" y="692280"/>
            <a:ext cx="5256360" cy="49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тирические и юмористические рассказы А. П. Чех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олстый и тонк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, приемы создания комического эфф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зируя рассказ “Толстый и тонкий”, мы постараемся вчитываться в текст, то есть заглянем в мастерскую писателя, узнаем способы передачи основной мы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нтитеза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илистическая фигура контраста в художественной или ораторской речи, заключающаяся в резком противопоставлении поня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хе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лёрдоранж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лютеранк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Герострат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риватно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коллежский асессор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статский советник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тайный советник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ЭФИАЛЬТ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Найди соответств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learningapps.org/display?v=pwfb7v1wc2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79280" y="549360"/>
          <a:ext cx="8785440" cy="5991120"/>
        </p:xfrm>
        <a:graphic>
          <a:graphicData uri="http://schemas.openxmlformats.org/drawingml/2006/table">
            <a:tbl>
              <a:tblPr/>
              <a:tblGrid>
                <a:gridCol w="3390840"/>
                <a:gridCol w="2767320"/>
                <a:gridCol w="2627280"/>
              </a:tblGrid>
              <a:tr h="1312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инии сравнения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“</a:t>
                      </a: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олстый” во 2-ой части рассказа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“</a:t>
                      </a: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онкий” во 2-ой части рассказа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2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Глаголы внутреннего состояния героев.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9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Мимика, жесты, поза.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12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Знаки препинания в конце предложений.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2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Обращение героев друг к другу.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cccc"/>
                        </a:solidFill>
                        <a:latin typeface="Monotype Corsiva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е «Выбери верный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learningapps.org/display?v=p6v93wt032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4" descr="гьньн"/>
          <p:cNvPicPr/>
          <p:nvPr/>
        </p:nvPicPr>
        <p:blipFill>
          <a:blip r:embed="rId1"/>
          <a:stretch/>
        </p:blipFill>
        <p:spPr>
          <a:xfrm>
            <a:off x="285840" y="785880"/>
            <a:ext cx="2612880" cy="3960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4140360" y="692280"/>
            <a:ext cx="439236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инопочита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ицемерное отношение к старшим по должности, званию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добостраст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ьстивость, угодливость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годниче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ьстивое поведение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амоуничиж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знание себя ничтожным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дхалим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емление расположить к себе кого-то лестью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428760" y="1214280"/>
            <a:ext cx="850104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ЮМОР (англ.) – изображение чего-то в смешном, комическом виде. </a:t>
            </a: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АТИРА (лат.)  - обличение  людских пороков и недостатков жизни, отрицательных явлений действительности.</a:t>
            </a:r>
            <a:endParaRPr b="0" i="1" lang="en-US" sz="32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вать условия дл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и различных видов детской деятельности средствами системно-деятельностного и частично-поискового подходов с помощью использования интерактивных форм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arningapps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isplay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ywvvq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льский учител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2" descr="File17-3"/>
          <p:cNvPicPr/>
          <p:nvPr/>
        </p:nvPicPr>
        <p:blipFill>
          <a:blip r:embed="rId1"/>
          <a:stretch/>
        </p:blipFill>
        <p:spPr>
          <a:xfrm>
            <a:off x="179280" y="620640"/>
            <a:ext cx="396108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95280" y="162864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го я часто вспоминаю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т и теперь передо мной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оит он, точно как живой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кой, каким его я так люблю и знаю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хие, тонкие черты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лос седеющие пряди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эта грусть в глубоком взгляде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редоточенном и полном доброты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ной и бесконечно милый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н был похож на первоцвет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квозь снег пробившийся на 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Фёд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ые задачи, направленные на достижение личностных результат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информированность учащихся о безопасной работе в сети Интерн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с правилами безопасной работы в сети Интерн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 ориентироваться в информационном пространств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информационную культуру учащихся, развивать критическое мыш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ые задачи, направленные на достижение метапредметных  результатов обучени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ировать умение извлекать информацию из различных источ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являть сущность, особенности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общать и классифицировать их по призна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ировать  умения прогнозирова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вать умение высказывать своё мнение на основе работы с    материа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ировать умение осуществлять познавательную и коммуникативную рефлекс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вать умение слушать и понимать учителя и  свер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формлять свои мысли в уст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ируемый результат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мет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аличие основных представлений об организации и функционировании компьютерной сети Интерн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апредмет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едставления о компьютерных сетях распространения и обмена информацией, об использовании информационных ресурсов общества с соблюдением соответствующих правовых и этических норм, требований информационной безопас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чност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развитие чувства личной ответственности за качество окружающей информацио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ная среда, редактор, в котором выполнен проду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Office Power Poi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использованием электронных ресурсов, сервис создания интерактивных упражнений Learning Apps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learningapps.org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ервис генерирования ребусов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bus1.co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ая платформа Learnis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learnis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ite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oogl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o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e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Test P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ap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onlinetestpa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com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ллворд «Биография А.П.Чехо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learningapps.org/display?v=peyo8s2932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и рассказов Чех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откое вступ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подробного описания пейзажа, портр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кие художественные дет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 рассказа – ди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6:18:24Z</dcterms:created>
  <dc:creator>Гуляева Оксана Олеговна</dc:creator>
  <dc:description/>
  <dc:language>en-US</dc:language>
  <cp:lastModifiedBy>XTreme.ws</cp:lastModifiedBy>
  <dcterms:modified xsi:type="dcterms:W3CDTF">2021-12-16T03:43:48Z</dcterms:modified>
  <cp:revision>66</cp:revision>
  <dc:subject>"В человеке всё должно быть прекрасно..." (Страницы жизни и творчества А.П.Чехова)</dc:subject>
  <dc:title>Урок-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