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01C-86B3-46F8-BAF7-11A075C8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B4C-9795-44AC-942C-5F063514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E46-932D-493F-8F44-D24BD576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BFA-E92E-4C05-A19E-A5FBD9BF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DB5-8F42-42FC-AB17-AE1CCB8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3DC-622D-4548-BBB0-5C83760B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798-FE9B-437A-8A21-80E86C11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E23-5AF9-4DE8-88CD-4A82117B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0B9-4E10-43FD-B06A-5DC02597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C29-F35C-494D-9FFC-E6302E46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942-0B7D-45BE-8F7D-530F5DB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A2E-F1AA-4A2A-909E-DC61280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0C86-1F16-42B9-99AB-DFC1CAD5D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Gromozdova\Рабочий стол\пазлы 1.jpg"/>
          <p:cNvPicPr/>
          <p:nvPr/>
        </p:nvPicPr>
        <p:blipFill>
          <a:blip r:embed="rId1"/>
          <a:stretch/>
        </p:blipFill>
        <p:spPr>
          <a:xfrm>
            <a:off x="428760" y="214200"/>
            <a:ext cx="81439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http://chudo-pech.com/wp-content/uploads/2011/07/%D0%B7%D0%B0%D0%B2%D1%82%D1%80%D0%B0%D0%BA.jpg"/>
          <p:cNvPicPr/>
          <p:nvPr/>
        </p:nvPicPr>
        <p:blipFill>
          <a:blip r:embed="rId1"/>
          <a:srcRect l="0" t="8774" r="0" b="10870"/>
          <a:stretch/>
        </p:blipFill>
        <p:spPr>
          <a:xfrm>
            <a:off x="500040" y="0"/>
            <a:ext cx="814392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mg1.liveinternet.ru/images/foto/b/2/apps/1/562/1562475_decoracia0020g.jpg"/>
          <p:cNvPicPr/>
          <p:nvPr/>
        </p:nvPicPr>
        <p:blipFill>
          <a:blip r:embed="rId1"/>
          <a:stretch/>
        </p:blipFill>
        <p:spPr>
          <a:xfrm>
            <a:off x="873000" y="0"/>
            <a:ext cx="734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09:19:01Z</dcterms:created>
  <dc:creator>Gromozdova</dc:creator>
  <dc:description/>
  <dc:language>en-US</dc:language>
  <cp:lastModifiedBy>Gromozdova</cp:lastModifiedBy>
  <dcterms:modified xsi:type="dcterms:W3CDTF">2012-02-15T09:28:05Z</dcterms:modified>
  <cp:revision>1</cp:revision>
  <dc:subject/>
  <dc:title>Слайд 1</dc:title>
</cp:coreProperties>
</file>