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4.gif" ContentType="image/gif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CA3-651B-45C2-8BE0-91772A85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28B-D6D6-4C98-A9AC-D7ECF338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A8B-17E7-43F9-8F48-4428300B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B39-310D-4E94-98DB-62A6F762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DDB-5884-4AED-AC62-385EDFF3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713-1930-4EFA-BA90-47138D77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A01-42D8-4450-91A3-39EDBCE1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B36-EA4A-4509-81CB-959BAB68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F9A-A09E-467F-81C7-D6762E2A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90E-35B3-4B92-89A1-3E5BDBDA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DCE-B023-401C-8FDD-56A6CDC4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0A0-89D1-4570-AE45-247DABE2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5B39-64AA-4CAD-A843-220780D6C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4.gif"/><Relationship Id="rId6" Type="http://schemas.openxmlformats.org/officeDocument/2006/relationships/slide" Target="slide5.xml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962520" y="1447920"/>
            <a:ext cx="47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2971800" y="2971800"/>
            <a:ext cx="6172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Домик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im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ello_html_38c580dc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33720" y="380880"/>
            <a:ext cx="2390760" cy="2173320"/>
          </a:xfrm>
          <a:prstGeom prst="rect">
            <a:avLst/>
          </a:prstGeom>
          <a:ln w="0">
            <a:noFill/>
          </a:ln>
        </p:spPr>
      </p:pic>
      <p:sp>
        <p:nvSpPr>
          <p:cNvPr id="46" name="Oval 8"/>
          <p:cNvSpPr/>
          <p:nvPr/>
        </p:nvSpPr>
        <p:spPr>
          <a:xfrm>
            <a:off x="380880" y="457200"/>
            <a:ext cx="838440" cy="838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80880" y="685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т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1295280" y="914400"/>
            <a:ext cx="1219320" cy="3808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10350198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2971800"/>
            <a:ext cx="2324160" cy="2046240"/>
          </a:xfrm>
          <a:prstGeom prst="rect">
            <a:avLst/>
          </a:prstGeom>
          <a:ln w="0">
            <a:noFill/>
          </a:ln>
        </p:spPr>
      </p:pic>
      <p:sp>
        <p:nvSpPr>
          <p:cNvPr id="50" name="Line 14"/>
          <p:cNvSpPr/>
          <p:nvPr/>
        </p:nvSpPr>
        <p:spPr>
          <a:xfrm flipH="1">
            <a:off x="2209320" y="2438280"/>
            <a:ext cx="838440" cy="1143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rozhdestvenskiy-dom-i-domik-animatsionnaya-kartinka-000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05320" y="4800600"/>
            <a:ext cx="192384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Line 17"/>
          <p:cNvSpPr/>
          <p:nvPr/>
        </p:nvSpPr>
        <p:spPr>
          <a:xfrm>
            <a:off x="1523880" y="5105520"/>
            <a:ext cx="1905120" cy="1143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1468149"/>
          <p:cNvPicPr/>
          <p:nvPr/>
        </p:nvPicPr>
        <p:blipFill>
          <a:blip r:embed="rId8"/>
          <a:stretch/>
        </p:blipFill>
        <p:spPr>
          <a:xfrm>
            <a:off x="4572000" y="2286000"/>
            <a:ext cx="1676520" cy="2206800"/>
          </a:xfrm>
          <a:prstGeom prst="rect">
            <a:avLst/>
          </a:prstGeom>
          <a:ln w="0">
            <a:noFill/>
          </a:ln>
        </p:spPr>
      </p:pic>
      <p:sp>
        <p:nvSpPr>
          <p:cNvPr id="54" name="Line 20"/>
          <p:cNvSpPr/>
          <p:nvPr/>
        </p:nvSpPr>
        <p:spPr>
          <a:xfrm flipV="1">
            <a:off x="4114800" y="4038120"/>
            <a:ext cx="685800" cy="838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0_e4a94_3dd5062_orig"/>
          <p:cNvPicPr/>
          <p:nvPr/>
        </p:nvPicPr>
        <p:blipFill>
          <a:blip r:embed="rId9"/>
          <a:stretch/>
        </p:blipFill>
        <p:spPr>
          <a:xfrm>
            <a:off x="662940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Line 23"/>
          <p:cNvSpPr/>
          <p:nvPr/>
        </p:nvSpPr>
        <p:spPr>
          <a:xfrm>
            <a:off x="6095880" y="3733920"/>
            <a:ext cx="1219320" cy="99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4"/>
          <p:cNvSpPr/>
          <p:nvPr/>
        </p:nvSpPr>
        <p:spPr>
          <a:xfrm>
            <a:off x="8001000" y="2743200"/>
            <a:ext cx="838080" cy="838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5"/>
          <p:cNvSpPr/>
          <p:nvPr/>
        </p:nvSpPr>
        <p:spPr>
          <a:xfrm>
            <a:off x="7924680" y="297180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Фини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6"/>
          <p:cNvSpPr/>
          <p:nvPr/>
        </p:nvSpPr>
        <p:spPr>
          <a:xfrm flipV="1">
            <a:off x="8229600" y="3657240"/>
            <a:ext cx="152280" cy="12193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8286_html_3de283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ello_html_38c580dc"/>
          <p:cNvPicPr/>
          <p:nvPr/>
        </p:nvPicPr>
        <p:blipFill>
          <a:blip r:embed="rId2"/>
          <a:stretch/>
        </p:blipFill>
        <p:spPr>
          <a:xfrm>
            <a:off x="2666880" y="762120"/>
            <a:ext cx="6477120" cy="588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709_html_799c31f8"/>
          <p:cNvPicPr/>
          <p:nvPr/>
        </p:nvPicPr>
        <p:blipFill>
          <a:blip r:embed="rId3"/>
          <a:stretch/>
        </p:blipFill>
        <p:spPr>
          <a:xfrm>
            <a:off x="0" y="31240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9"/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7493"/>
                </a:moveTo>
                <a:lnTo>
                  <a:pt x="8646" y="7493"/>
                </a:lnTo>
                <a:lnTo>
                  <a:pt x="8646" y="12828"/>
                </a:lnTo>
                <a:cubicBezTo>
                  <a:pt x="8646" y="13751"/>
                  <a:pt x="9446" y="14482"/>
                  <a:pt x="10482" y="14482"/>
                </a:cubicBezTo>
                <a:lnTo>
                  <a:pt x="12144" y="14482"/>
                </a:lnTo>
                <a:cubicBezTo>
                  <a:pt x="13180" y="14482"/>
                  <a:pt x="13981" y="13751"/>
                  <a:pt x="13981" y="12828"/>
                </a:cubicBezTo>
                <a:lnTo>
                  <a:pt x="13981" y="7493"/>
                </a:lnTo>
                <a:lnTo>
                  <a:pt x="12144" y="7493"/>
                </a:lnTo>
                <a:lnTo>
                  <a:pt x="15652" y="3985"/>
                </a:lnTo>
                <a:lnTo>
                  <a:pt x="19325" y="7493"/>
                </a:lnTo>
                <a:lnTo>
                  <a:pt x="17488" y="7493"/>
                </a:lnTo>
                <a:lnTo>
                  <a:pt x="17488" y="12828"/>
                </a:lnTo>
                <a:cubicBezTo>
                  <a:pt x="17488" y="15596"/>
                  <a:pt x="14912" y="18155"/>
                  <a:pt x="12144" y="18155"/>
                </a:cubicBezTo>
                <a:lnTo>
                  <a:pt x="10482" y="18155"/>
                </a:lnTo>
                <a:cubicBezTo>
                  <a:pt x="7714" y="18155"/>
                  <a:pt x="5138" y="15596"/>
                  <a:pt x="513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fon_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10350198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342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1507eaf30ab16737f27d496e803903bc5b8ee92d_original"/>
          <p:cNvPicPr/>
          <p:nvPr/>
        </p:nvPicPr>
        <p:blipFill>
          <a:blip r:embed="rId3"/>
          <a:stretch/>
        </p:blipFill>
        <p:spPr>
          <a:xfrm>
            <a:off x="5029200" y="685800"/>
            <a:ext cx="3487680" cy="60199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9"/>
          <p:cNvSpPr/>
          <p:nvPr/>
        </p:nvSpPr>
        <p:spPr>
          <a:xfrm>
            <a:off x="830592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493"/>
                </a:moveTo>
                <a:lnTo>
                  <a:pt x="10382" y="7493"/>
                </a:lnTo>
                <a:lnTo>
                  <a:pt x="10382" y="12828"/>
                </a:lnTo>
                <a:cubicBezTo>
                  <a:pt x="10382" y="13751"/>
                  <a:pt x="11182" y="14482"/>
                  <a:pt x="12218" y="14482"/>
                </a:cubicBezTo>
                <a:lnTo>
                  <a:pt x="13881" y="14482"/>
                </a:lnTo>
                <a:cubicBezTo>
                  <a:pt x="14916" y="14482"/>
                  <a:pt x="15717" y="13751"/>
                  <a:pt x="15717" y="12828"/>
                </a:cubicBezTo>
                <a:lnTo>
                  <a:pt x="15717" y="7493"/>
                </a:lnTo>
                <a:lnTo>
                  <a:pt x="13881" y="7493"/>
                </a:lnTo>
                <a:lnTo>
                  <a:pt x="17388" y="3985"/>
                </a:lnTo>
                <a:lnTo>
                  <a:pt x="21061" y="7493"/>
                </a:lnTo>
                <a:lnTo>
                  <a:pt x="19225" y="7493"/>
                </a:lnTo>
                <a:lnTo>
                  <a:pt x="19225" y="12828"/>
                </a:lnTo>
                <a:cubicBezTo>
                  <a:pt x="19225" y="15596"/>
                  <a:pt x="16648" y="18155"/>
                  <a:pt x="13881" y="18155"/>
                </a:cubicBezTo>
                <a:lnTo>
                  <a:pt x="12218" y="18155"/>
                </a:lnTo>
                <a:cubicBezTo>
                  <a:pt x="9450" y="18155"/>
                  <a:pt x="6874" y="15596"/>
                  <a:pt x="687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46037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rozhdestvenskiy-dom-i-domik-animatsionnaya-kartinka-0002"/>
          <p:cNvPicPr/>
          <p:nvPr/>
        </p:nvPicPr>
        <p:blipFill>
          <a:blip r:embed="rId2"/>
          <a:stretch/>
        </p:blipFill>
        <p:spPr>
          <a:xfrm>
            <a:off x="380880" y="1752480"/>
            <a:ext cx="5181840" cy="49262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7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2954588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468149"/>
          <p:cNvPicPr/>
          <p:nvPr/>
        </p:nvPicPr>
        <p:blipFill>
          <a:blip r:embed="rId2"/>
          <a:stretch/>
        </p:blipFill>
        <p:spPr>
          <a:xfrm>
            <a:off x="5638680" y="228600"/>
            <a:ext cx="326088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7"/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20009_fbf5e7a6aa4b4bec07c1059ce2e5ed97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free-wallpaper-10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c91c94f9-78ce-4bd4-8974-8df4edd16ced"/>
          <p:cNvPicPr/>
          <p:nvPr/>
        </p:nvPicPr>
        <p:blipFill>
          <a:blip r:embed="rId2"/>
          <a:stretch/>
        </p:blipFill>
        <p:spPr>
          <a:xfrm>
            <a:off x="304920" y="2743200"/>
            <a:ext cx="8629560" cy="1154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9T16:55:11Z</dcterms:created>
  <dc:creator>Валерий</dc:creator>
  <dc:description/>
  <dc:language>en-US</dc:language>
  <cp:lastModifiedBy>Юлия Подгорных</cp:lastModifiedBy>
  <dcterms:modified xsi:type="dcterms:W3CDTF">2020-11-11T06:15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