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6A5-4E32-4811-A25B-B54A0BC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228-D788-4842-9C2A-7B28793B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B72-ED71-487F-AE16-4082CC39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4A3-E7B8-475B-95B2-E5FF9355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969D-0A5A-4153-8997-DE85AA41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B294-9F36-43A3-9395-10EEBFE8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1E62-3066-434A-A8FB-26196CC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F7C-71B4-4474-A2B6-E24DA87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F6EC-2435-4F75-8E2C-CBF5720B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BF7-1BC8-46EA-B8CD-41EDA1C0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580-0C8B-4BA0-BBA2-29468A14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2CE-0C0C-4CF7-85B9-D8BA63A1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4F7F-C99C-45A0-8B5D-E761E13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FC82-F325-4853-A6BC-38C65A4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59C5-BBEB-4AA2-9F78-819C2B5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6D8-95ED-4E4C-8DB6-052137A9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C7F-AEA0-4D1A-A077-6109718C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B17F-B80C-451F-AD52-63F7B414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6565-D106-457C-A27B-A3EF8AEF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C3C2-8416-4EB0-8324-931BAAC3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D24C-D210-4328-A51B-E2A9BB5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A1B7-DFD4-48AA-AA8B-F79ADAC3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7B8-85F4-4927-8C65-D305176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3B48-D4FE-4561-9094-2EF2023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B470-4C01-4EE2-A919-5A0B52AF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BBC9-716F-405A-92B0-A3EB0B8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7A32-FBEB-4928-A561-D14B448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745E-B1CD-4C17-914E-BB32D31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4CD5-188E-43ED-AFCF-98FB2D5D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00C9-3E53-4F4E-B00A-D7F16B17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06EA-7578-4709-9148-4AC6886E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9069-DC7A-405A-86A2-BE75B6E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12FE-D420-41A0-9577-E06C593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421-5C76-4418-BF85-B8EE0DC2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0D11-BEEE-434E-A464-15789EC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C4F2-3B50-47BD-96D3-3C09727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3F56-58F0-48D3-9215-B747869B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7921-72E0-402F-9D40-6A60FCD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CB98-8D62-48DF-A9EB-645ED10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F449-9E4A-4B94-AF20-13186E0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48B0-FB17-4F05-AE61-15F0D292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84A5-37A0-487F-A6D0-18BF593E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5315-95DD-4F1C-8C83-F9189544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E972-2C61-4C00-BC9B-DE1734B4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811-75A5-4E64-8608-9503BCD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0FB1-1358-4981-9AB8-B7B562F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DDE7-BCD4-4E9A-9ABC-04A758A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CC9D-39C7-455F-823D-7412E42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0272D-825C-4303-AD14-B9BECA3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5615-49E8-4E4B-BB01-BAD3F17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1890-86C9-4CBC-B390-3BA5A97D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F236-BE43-41F1-A6E2-B10295F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B8CD-9B5F-4FEB-9709-87913B9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AAF8-5BD4-43FE-BE47-8F646C28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1A451-539B-494F-95F3-AEFA89D9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BA9-1AEF-408D-A165-3333EDD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D51D-4037-43CA-B0AE-EE746D1E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A48-B906-43C3-B206-A0A7AC5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CEB-58F7-4A8C-9BC1-B8B48DB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C54-695F-48CE-99E3-1E152F1B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7A7-F484-4D95-B38D-85C9EE24A5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0CB-7590-42C8-848C-2B764B0B8A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88F-A113-49C0-A5DB-E218ABB6A1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6648-8E50-4F10-BFFC-E6AAA46BA6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2A9-2FB1-4144-93B1-E4B04084FA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Zwei%20Hauptst&#1235;dte.ppt" TargetMode="External"/><Relationship Id="rId2" Type="http://schemas.openxmlformats.org/officeDocument/2006/relationships/hyperlink" Target="file:///Zwei%20Hauptst&#1235;dte.ppt" TargetMode="External"/><Relationship Id="rId3" Type="http://schemas.openxmlformats.org/officeDocument/2006/relationships/hyperlink" Target="file:///Zwei%20Hauptst&#1235;dte.ppt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Повышение эффективности уроков иностранного языка с помощью приемов технологии критического мышления</a:t>
            </a: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428920" y="471492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3"/>
          <p:cNvSpPr/>
          <p:nvPr/>
        </p:nvSpPr>
        <p:spPr>
          <a:xfrm>
            <a:off x="428760" y="1428840"/>
            <a:ext cx="8429400" cy="146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СТЕР-КЛАСС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можные приемы 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методы: </a:t>
            </a:r>
            <a:br>
              <a:rPr sz="32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004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кластеры; таблицы; верные и невер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утверждения; перепутанные логическ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цепоч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мозговая атака; проблемные вопрос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«толстые» и «тонки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опросы, концептуальное кольц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73040" y="356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ем «Кластер»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7168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Кластер в переводе означает «гроздь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пучок, созвезд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Кластер – это графическая организация материала, показывающая смысловые поля того или иного понятия</a:t>
            </a:r>
            <a:r>
              <a:rPr b="1" i="1" lang="ru-RU" sz="2800" spc="-1" strike="noStrike">
                <a:solidFill>
                  <a:srgbClr val="0b208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Составление кластера позволя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учащимся свободно и открыт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думать по повод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208f"/>
                </a:solidFill>
                <a:latin typeface="Times New Roman"/>
              </a:rPr>
              <a:t>какой – либо т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2" descr="http://im6-tub-ru.yandex.net/i?id=461436285-20-72"/>
          <p:cNvPicPr/>
          <p:nvPr/>
        </p:nvPicPr>
        <p:blipFill>
          <a:blip r:embed="rId1"/>
          <a:stretch/>
        </p:blipFill>
        <p:spPr>
          <a:xfrm rot="20427600">
            <a:off x="539640" y="48384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0"/>
          <p:cNvSpPr/>
          <p:nvPr/>
        </p:nvSpPr>
        <p:spPr>
          <a:xfrm>
            <a:off x="5429160" y="2071800"/>
            <a:ext cx="3000600" cy="57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4572000" y="476280"/>
            <a:ext cx="3929040" cy="1071360"/>
          </a:xfrm>
          <a:prstGeom prst="rect">
            <a:avLst/>
          </a:prstGeom>
          <a:solidFill>
            <a:srgbClr val="d9d9d9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125892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27"/>
          <p:cNvSpPr/>
          <p:nvPr/>
        </p:nvSpPr>
        <p:spPr>
          <a:xfrm>
            <a:off x="214200" y="500040"/>
            <a:ext cx="4000680" cy="1071720"/>
          </a:xfrm>
          <a:prstGeom prst="rect">
            <a:avLst/>
          </a:prstGeom>
          <a:solidFill>
            <a:srgbClr val="d9d9d9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31"/>
          <p:cNvSpPr/>
          <p:nvPr/>
        </p:nvSpPr>
        <p:spPr>
          <a:xfrm>
            <a:off x="214200" y="3143160"/>
            <a:ext cx="2571840" cy="571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5429160" y="3143160"/>
            <a:ext cx="3429000" cy="107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5429160" y="4286160"/>
            <a:ext cx="3429000" cy="92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5429160" y="5286240"/>
            <a:ext cx="3429000" cy="1357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43"/>
          <p:cNvSpPr/>
          <p:nvPr/>
        </p:nvSpPr>
        <p:spPr>
          <a:xfrm>
            <a:off x="2643120" y="2643120"/>
            <a:ext cx="2936880" cy="2643120"/>
          </a:xfrm>
          <a:prstGeom prst="ellipse">
            <a:avLst/>
          </a:prstGeom>
          <a:solidFill>
            <a:srgbClr val="d9d9d9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  <a:ea typeface="Calibri"/>
              </a:rPr>
              <a:t>Zwei Hauptstäd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44"/>
          <p:cNvSpPr/>
          <p:nvPr/>
        </p:nvSpPr>
        <p:spPr>
          <a:xfrm flipH="1" flipV="1">
            <a:off x="2714760" y="157176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45"/>
          <p:cNvSpPr/>
          <p:nvPr/>
        </p:nvSpPr>
        <p:spPr>
          <a:xfrm flipV="1">
            <a:off x="4500720" y="1571760"/>
            <a:ext cx="857160" cy="14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44"/>
          <p:cNvSpPr/>
          <p:nvPr/>
        </p:nvSpPr>
        <p:spPr>
          <a:xfrm>
            <a:off x="1571760" y="1571760"/>
            <a:ext cx="460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6929280" y="1571760"/>
            <a:ext cx="460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14200" y="2143080"/>
            <a:ext cx="2571840" cy="866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5429160" y="2071800"/>
            <a:ext cx="3357720" cy="92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214200" y="3786120"/>
            <a:ext cx="2500560" cy="714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214200" y="4643280"/>
            <a:ext cx="2571840" cy="92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214200" y="5643720"/>
            <a:ext cx="2571840" cy="857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0"/>
          <p:cNvSpPr/>
          <p:nvPr/>
        </p:nvSpPr>
        <p:spPr>
          <a:xfrm>
            <a:off x="5429160" y="2071800"/>
            <a:ext cx="3000600" cy="57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72000" y="500040"/>
            <a:ext cx="3929040" cy="1143000"/>
          </a:xfrm>
          <a:prstGeom prst="rect">
            <a:avLst/>
          </a:prstGeom>
          <a:solidFill>
            <a:srgbClr val="d9d9d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Verdana"/>
              </a:rPr>
              <a:t>Wien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25892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14200" y="500040"/>
            <a:ext cx="4000680" cy="1071720"/>
          </a:xfrm>
          <a:prstGeom prst="rect">
            <a:avLst/>
          </a:prstGeom>
          <a:solidFill>
            <a:srgbClr val="d9d9d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Verdana"/>
                <a:ea typeface="Calibri"/>
              </a:rPr>
              <a:t>Berl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79280" y="3213000"/>
            <a:ext cx="2571840" cy="1224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s Branderburger 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5429160" y="3143160"/>
            <a:ext cx="3429000" cy="107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e Dona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429160" y="4286160"/>
            <a:ext cx="3429000" cy="92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zart, Strau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5429160" y="5286240"/>
            <a:ext cx="3429000" cy="1357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3"/>
          <p:cNvSpPr/>
          <p:nvPr/>
        </p:nvSpPr>
        <p:spPr>
          <a:xfrm>
            <a:off x="2643120" y="2643120"/>
            <a:ext cx="2857680" cy="2643120"/>
          </a:xfrm>
          <a:prstGeom prst="ellipse">
            <a:avLst/>
          </a:prstGeom>
          <a:solidFill>
            <a:srgbClr val="d9d9d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  <a:ea typeface="Calibri"/>
              </a:rPr>
              <a:t>Zwei Hauptstäd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44"/>
          <p:cNvSpPr/>
          <p:nvPr/>
        </p:nvSpPr>
        <p:spPr>
          <a:xfrm flipH="1" flipV="1">
            <a:off x="2714760" y="1571760"/>
            <a:ext cx="71424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45"/>
          <p:cNvSpPr/>
          <p:nvPr/>
        </p:nvSpPr>
        <p:spPr>
          <a:xfrm flipV="1">
            <a:off x="4500720" y="1571760"/>
            <a:ext cx="857160" cy="14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44"/>
          <p:cNvSpPr/>
          <p:nvPr/>
        </p:nvSpPr>
        <p:spPr>
          <a:xfrm>
            <a:off x="1571760" y="1571760"/>
            <a:ext cx="460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44"/>
          <p:cNvSpPr/>
          <p:nvPr/>
        </p:nvSpPr>
        <p:spPr>
          <a:xfrm>
            <a:off x="6929280" y="1571760"/>
            <a:ext cx="460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214200" y="2205000"/>
            <a:ext cx="2571840" cy="866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utsch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5429160" y="2071800"/>
            <a:ext cx="3357720" cy="92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Österrei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179280" y="4508640"/>
            <a:ext cx="2592360" cy="792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r II Weltkri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179280" y="5373720"/>
            <a:ext cx="2571840" cy="115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82184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Стадия осмысления содержания: </a:t>
            </a: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- получение новой информации(текст,  видеофильм, лекции, рассказ),</a:t>
            </a:r>
            <a:br>
              <a:rPr sz="2900"/>
            </a:b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- корректировка учеником поставленных целей обучения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9720" y="785880"/>
            <a:ext cx="67150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Методы активного чтения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«инсерт»; 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«фишбоун»; 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«идеал»;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двойной дневник;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бортовой журнал</a:t>
            </a:r>
            <a:r>
              <a:rPr b="0" lang="en-US" sz="2500" spc="-1" strike="noStrike">
                <a:solidFill>
                  <a:srgbClr val="000066"/>
                </a:solidFill>
                <a:latin typeface="Verdana"/>
              </a:rPr>
              <a:t>.</a:t>
            </a:r>
            <a:br>
              <a:rPr sz="2500"/>
            </a:b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Работа ведется индивидуально или в парах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тратегия «Инсерт»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(«Условные значки»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7720" y="1628280"/>
            <a:ext cx="8055000" cy="331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9983-D6A2-440E-B3BC-D6F1399DFED5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95280" y="1700280"/>
          <a:ext cx="8280360" cy="4162320"/>
        </p:xfrm>
        <a:graphic>
          <a:graphicData uri="http://schemas.openxmlformats.org/drawingml/2006/table">
            <a:tbl>
              <a:tblPr/>
              <a:tblGrid>
                <a:gridCol w="2052720"/>
                <a:gridCol w="3297240"/>
                <a:gridCol w="2930400"/>
              </a:tblGrid>
              <a:tr h="41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y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ff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ad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thinking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6b0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самоактивизирующая (диалогова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системная разметк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для эффективног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чтения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размыш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уже 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новая информ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думал по-друг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не понял, есть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Zwei Hauptst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ӓ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dte.p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aleksanderplatc-34295[1]"/>
          <p:cNvPicPr/>
          <p:nvPr/>
        </p:nvPicPr>
        <p:blipFill>
          <a:blip r:embed="rId4"/>
          <a:stretch/>
        </p:blipFill>
        <p:spPr>
          <a:xfrm>
            <a:off x="468360" y="1700280"/>
            <a:ext cx="3995640" cy="3073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69337370_HofburgHofburgreziden[1]"/>
          <p:cNvPicPr/>
          <p:nvPr/>
        </p:nvPicPr>
        <p:blipFill>
          <a:blip r:embed="rId5"/>
          <a:stretch/>
        </p:blipFill>
        <p:spPr>
          <a:xfrm>
            <a:off x="4500720" y="2997360"/>
            <a:ext cx="417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644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Рефлексия:</a:t>
            </a:r>
            <a:br>
              <a:rPr sz="3200"/>
            </a:b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размышление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«обратная связь», «отдача», «самооценка и самоанализ», «взаимопонимание и взаимодействие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Методы и приемы: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Синквейн,заполнение кластеров и таблиц,возврат к ключевым словам,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верным и неверным утверждениям, ответы на поставленные вопросы,написание творческих работ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Схема составления синквейн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              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 фр.-пятистрочие)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99680" y="2000160"/>
            <a:ext cx="8218440" cy="3975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2060"/>
                </a:solidFill>
                <a:uFillTx/>
                <a:latin typeface="Times New Roman"/>
              </a:rPr>
              <a:t>Существительное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– объект (тема синквей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2060"/>
                </a:solidFill>
                <a:uFillTx/>
                <a:latin typeface="Times New Roman"/>
              </a:rPr>
              <a:t>Прилагательное, прилагательное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, описывающие признаки и свойства объек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2060"/>
                </a:solidFill>
                <a:uFillTx/>
                <a:latin typeface="Times New Roman"/>
              </a:rPr>
              <a:t>Глагол, глагол, глагол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– действия, совершаемые объект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2060"/>
                </a:solidFill>
                <a:uFillTx/>
                <a:latin typeface="Times New Roman"/>
              </a:rPr>
              <a:t>Предложение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– отношение автора  к объект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2060"/>
                </a:solidFill>
                <a:uFillTx/>
                <a:latin typeface="Times New Roman"/>
              </a:rPr>
              <a:t>Синони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к первой строчке – суть объек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324000" y="333360"/>
            <a:ext cx="839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Verdana"/>
              </a:rPr>
              <a:t>Я слышу, и я забываю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Verdana"/>
              </a:rPr>
              <a:t>Я вижу, и я помню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Verdana"/>
              </a:rPr>
              <a:t>Я делаю, и я понимаю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Verdana"/>
              </a:rPr>
              <a:t>Конфуци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714240"/>
            <a:ext cx="80722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66"/>
                </a:solidFill>
                <a:latin typeface="Verdana"/>
              </a:rPr>
              <a:t>Технология развития критического мышления позволяет учителю давать учащимся возможность высказывать свою точку зрения по поводу изучаемой темы свободно, сочетать индивидуальную, парную, групповую работу: индивидуальная позволит каждому ученику актуализировать свои знания и опыт, услышать другие мнения, изложить свою точку зрения без риска ошибиться. Технология КМ имеет большое количество положительных черт, хорошо  применима на уроках иностранного языка и ее можно смело внедрять в практику обучения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120" y="499680"/>
            <a:ext cx="8183520" cy="357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Мысль в подарок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436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3366ff"/>
                </a:solidFill>
                <a:latin typeface="Verdana"/>
              </a:rPr>
              <a:t>«</a:t>
            </a:r>
            <a:r>
              <a:rPr b="1" lang="de-DE" sz="2600" spc="-1" strike="noStrike">
                <a:solidFill>
                  <a:srgbClr val="3366ff"/>
                </a:solidFill>
                <a:latin typeface="Verdana"/>
              </a:rPr>
              <a:t>Wer die Welt vernünftig ansieht, den sieht sie auch vernünftig an</a:t>
            </a:r>
            <a:r>
              <a:rPr b="1" lang="ru-RU" sz="2600" spc="-1" strike="noStrike">
                <a:solidFill>
                  <a:srgbClr val="3366ff"/>
                </a:solidFill>
                <a:latin typeface="Verdan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ff"/>
                </a:solidFill>
                <a:latin typeface="Verdana"/>
              </a:rPr>
              <a:t>«Кто смотрит на мир разумно, на того и мир смотрит разумно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ff"/>
                </a:solidFill>
                <a:latin typeface="Verdana"/>
              </a:rPr>
              <a:t>Георг Вильгельм Фридрих Гег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AC5-C815-4308-9A45-0D067EFDDF1A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3280" y="1412640"/>
            <a:ext cx="8183520" cy="33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385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Современная ситуация требует применения современных образовательных технологий, которые призваны способствовать повышению эффективности обучения. Одной из таких технологий является технология критического мышления.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900" spc="-1" strike="noStrike">
                <a:solidFill>
                  <a:srgbClr val="660033"/>
                </a:solidFill>
                <a:latin typeface="Verdana"/>
              </a:rPr>
              <a:t>Данная технология способствует формированию следующих умений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мыслить логич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ыражать свою мысль, своё мнение     связно, четко, логич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запоминать и оценивать факт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формировать свою точку зрения, мнение, самостоятельно работая над новым материал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уметь отстаивать свою позиц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40000" y="1500120"/>
            <a:ext cx="680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мозговой штурм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9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RAFT- </a:t>
            </a:r>
            <a:r>
              <a:rPr b="1" lang="ru-RU" sz="29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         технологии 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 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Овал 2"/>
          <p:cNvSpPr/>
          <p:nvPr/>
        </p:nvSpPr>
        <p:spPr>
          <a:xfrm>
            <a:off x="2577960" y="1593720"/>
            <a:ext cx="3961080" cy="3025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Развитие критического мышления»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рльз Темп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6443640" y="5246640"/>
            <a:ext cx="32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денотатная кар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4067280" y="497520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колл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324000" y="54118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бортовой журна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324000" y="390672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Прямоугольник 7"/>
          <p:cNvSpPr/>
          <p:nvPr/>
        </p:nvSpPr>
        <p:spPr>
          <a:xfrm>
            <a:off x="7164360" y="36306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4067280" y="4255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1436760" y="56844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инсер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142920" y="1785960"/>
            <a:ext cx="34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8f"/>
                </a:solidFill>
                <a:latin typeface="Times New Roman"/>
                <a:ea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9" name="Прямая со стрелкой 13"/>
          <p:cNvCxnSpPr/>
          <p:nvPr/>
        </p:nvCxnSpPr>
        <p:spPr>
          <a:xfrm flipH="1" flipV="1">
            <a:off x="4750560" y="956880"/>
            <a:ext cx="18360" cy="61992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0" name="Прямая со стрелкой 15"/>
          <p:cNvCxnSpPr/>
          <p:nvPr/>
        </p:nvCxnSpPr>
        <p:spPr>
          <a:xfrm flipV="1">
            <a:off x="5904000" y="1627920"/>
            <a:ext cx="397440" cy="28836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1" name="Прямая со стрелкой 17"/>
          <p:cNvCxnSpPr/>
          <p:nvPr/>
        </p:nvCxnSpPr>
        <p:spPr>
          <a:xfrm flipV="1">
            <a:off x="6443280" y="2370960"/>
            <a:ext cx="1513800" cy="33732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2" name="Прямая со стрелкой 19"/>
          <p:cNvCxnSpPr/>
          <p:nvPr/>
        </p:nvCxnSpPr>
        <p:spPr>
          <a:xfrm>
            <a:off x="6443640" y="3630240"/>
            <a:ext cx="758160" cy="29268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3" name="Прямая со стрелкой 21"/>
          <p:cNvCxnSpPr/>
          <p:nvPr/>
        </p:nvCxnSpPr>
        <p:spPr>
          <a:xfrm>
            <a:off x="5651280" y="4444920"/>
            <a:ext cx="888120" cy="96768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4" name="Прямая со стрелкой 23"/>
          <p:cNvCxnSpPr>
            <a:stCxn id="230" idx="4"/>
          </p:cNvCxnSpPr>
          <p:nvPr/>
        </p:nvCxnSpPr>
        <p:spPr>
          <a:xfrm>
            <a:off x="4559040" y="4619520"/>
            <a:ext cx="1080" cy="46584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5" name="Прямая со стрелкой 25"/>
          <p:cNvCxnSpPr>
            <a:stCxn id="230" idx="3"/>
          </p:cNvCxnSpPr>
          <p:nvPr/>
        </p:nvCxnSpPr>
        <p:spPr>
          <a:xfrm flipH="1">
            <a:off x="2410560" y="4176360"/>
            <a:ext cx="748440" cy="138348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6" name="Прямая со стрелкой 28"/>
          <p:cNvCxnSpPr/>
          <p:nvPr/>
        </p:nvCxnSpPr>
        <p:spPr>
          <a:xfrm flipH="1" flipV="1">
            <a:off x="2795040" y="1152000"/>
            <a:ext cx="648360" cy="63576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7" name="Прямая со стрелкой 30"/>
          <p:cNvCxnSpPr/>
          <p:nvPr/>
        </p:nvCxnSpPr>
        <p:spPr>
          <a:xfrm flipH="1" flipV="1">
            <a:off x="1618560" y="2276280"/>
            <a:ext cx="959400" cy="50544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  <p:cxnSp>
        <p:nvCxnSpPr>
          <p:cNvPr id="248" name="Прямая со стрелкой 32"/>
          <p:cNvCxnSpPr/>
          <p:nvPr/>
        </p:nvCxnSpPr>
        <p:spPr>
          <a:xfrm flipH="1">
            <a:off x="1618560" y="3357360"/>
            <a:ext cx="959400" cy="565560"/>
          </a:xfrm>
          <a:prstGeom prst="straightConnector1">
            <a:avLst/>
          </a:prstGeom>
          <a:ln w="19080">
            <a:solidFill>
              <a:srgbClr val="0b208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Verdana"/>
              </a:rPr>
              <a:t>Технология развития критического мыш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13880" y="18572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Стадии критического мышле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Выз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Осмысление новой информаци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11"/>
          <p:cNvSpPr/>
          <p:nvPr/>
        </p:nvSpPr>
        <p:spPr>
          <a:xfrm rot="20417400">
            <a:off x="5219640" y="1412640"/>
            <a:ext cx="2301840" cy="459576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аз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флекс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771640" y="1844640"/>
            <a:ext cx="3168720" cy="44640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аз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ализаци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мысл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AutoShape 13"/>
          <p:cNvSpPr/>
          <p:nvPr/>
        </p:nvSpPr>
        <p:spPr>
          <a:xfrm rot="17547000">
            <a:off x="720" y="2586600"/>
            <a:ext cx="4597560" cy="237636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аз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зов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908000" y="907920"/>
            <a:ext cx="48960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Фазы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Zwei Hauptstädte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94920" y="2492280"/>
            <a:ext cx="84978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7" name="Picture 5" descr="69337370_HofburgHofburgreziden[1]"/>
          <p:cNvPicPr/>
          <p:nvPr/>
        </p:nvPicPr>
        <p:blipFill>
          <a:blip r:embed="rId1"/>
          <a:stretch/>
        </p:blipFill>
        <p:spPr>
          <a:xfrm>
            <a:off x="4788000" y="306864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aleksanderplatc-34295[1]"/>
          <p:cNvPicPr/>
          <p:nvPr/>
        </p:nvPicPr>
        <p:blipFill>
          <a:blip r:embed="rId2"/>
          <a:stretch/>
        </p:blipFill>
        <p:spPr>
          <a:xfrm>
            <a:off x="179280" y="3068640"/>
            <a:ext cx="3996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82184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Стадия вызова призвана: </a:t>
            </a: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- активизировать слабых и сильных,</a:t>
            </a:r>
            <a:br>
              <a:rPr sz="2900"/>
            </a:b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- формировать мотивацию на учебную деятельность, </a:t>
            </a:r>
            <a:br>
              <a:rPr sz="2900"/>
            </a:br>
            <a:r>
              <a:rPr b="0" lang="ru-RU" sz="2900" spc="-1" strike="noStrike">
                <a:solidFill>
                  <a:srgbClr val="000066"/>
                </a:solidFill>
                <a:latin typeface="Verdana"/>
              </a:rPr>
              <a:t>-настраивает на воспроизведение изучаемого материала через мотивацию своей жизненной позиции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22:30Z</dcterms:created>
  <dc:creator>N.V</dc:creator>
  <dc:description/>
  <dc:language>en-US</dc:language>
  <cp:lastModifiedBy>Кирилл</cp:lastModifiedBy>
  <dcterms:modified xsi:type="dcterms:W3CDTF">2017-03-14T20:47:15Z</dcterms:modified>
  <cp:revision>95</cp:revision>
  <dc:subject/>
  <dc:title>Некоторые приемы технологии критического мышления на уроках английского языка</dc:title>
</cp:coreProperties>
</file>