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031-CBF2-413C-B4D7-29E7C657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8E8-A1A7-4ACA-BBD8-1B51400F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18B-32CC-4E95-A6EC-7280B3C6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CFD-90CB-4B88-9CB0-58BA40B9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83EA-EF54-4364-83B6-67034E47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7B2F-67F5-4ADC-AEE3-2987033F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8F1C-3EB1-41AF-AEB5-C23C118B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D0CC-ACED-462F-89CC-85BABBAB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BA5-3A9B-404C-9CB6-E5E9E52E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3984-5815-4547-9707-5E96AB05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A3A4-B21D-49AA-918E-CC05A59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DE8-4FC4-447F-9636-88A6E442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1289-1B5F-41F9-8464-C0122D32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5024-EE09-4B01-8D1F-AF1F81F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CA09-1D3E-4405-AE32-83730095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CC4F-D4E7-47EC-86BC-25F12167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0EF2-F325-4F1D-97FA-944C5263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A6F-422A-471B-BFCE-1F21695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413-45DD-4959-8458-AA311386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3CA-B54A-4E7B-B528-EEE408D5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225-A643-4643-ABC0-500EC1A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68E-0F24-4AE8-9419-6324189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D2A-56EE-404C-AA54-326C1C66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499-6E29-42E9-A351-76780F51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75A-CEF9-4C42-8868-CBE073EA94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ED14-EE5D-4929-814F-C5645232BA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gabook.ru/MObjects2/DATA1/pict04/new/04t204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Zwei Hauptstädte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94920" y="2492280"/>
            <a:ext cx="84978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69337370_HofburgHofburgreziden[1]"/>
          <p:cNvPicPr/>
          <p:nvPr/>
        </p:nvPicPr>
        <p:blipFill>
          <a:blip r:embed="rId1"/>
          <a:stretch/>
        </p:blipFill>
        <p:spPr>
          <a:xfrm>
            <a:off x="4788000" y="3068640"/>
            <a:ext cx="4176720" cy="3095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aleksanderplatc-34295[1]"/>
          <p:cNvPicPr/>
          <p:nvPr/>
        </p:nvPicPr>
        <p:blipFill>
          <a:blip r:embed="rId2"/>
          <a:stretch/>
        </p:blipFill>
        <p:spPr>
          <a:xfrm>
            <a:off x="179280" y="3068640"/>
            <a:ext cx="3996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ien ist eine Barrockstadt und eine Musikmetropo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Picture 6" descr="viena_cladire[1]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reWalls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eltber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  <a:ea typeface="Tahoma"/>
              </a:rPr>
              <a:t>ühmt sind Staatsoper und “Steffel” mit seinem bekannten Südtur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61116_oper-dop[1]"/>
          <p:cNvPicPr/>
          <p:nvPr/>
        </p:nvPicPr>
        <p:blipFill>
          <a:blip r:embed="rId1"/>
          <a:stretch/>
        </p:blipFill>
        <p:spPr>
          <a:xfrm>
            <a:off x="0" y="3375000"/>
            <a:ext cx="4776840" cy="3483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248[1]"/>
          <p:cNvPicPr/>
          <p:nvPr/>
        </p:nvPicPr>
        <p:blipFill>
          <a:blip r:embed="rId2"/>
          <a:stretch/>
        </p:blipFill>
        <p:spPr>
          <a:xfrm>
            <a:off x="4356000" y="162864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s Schloss Schö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nbrunn und der Tiergart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7" descr="391883_314061__16_TG_Pavillon[1]"/>
          <p:cNvPicPr/>
          <p:nvPr/>
        </p:nvPicPr>
        <p:blipFill>
          <a:blip r:embed="rId1"/>
          <a:stretch/>
        </p:blipFill>
        <p:spPr>
          <a:xfrm>
            <a:off x="0" y="3324240"/>
            <a:ext cx="5292720" cy="35337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3[1]"/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illkommen nach Berlin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5" descr="0_62bee_b0a08e3c_orig[1]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lin ist eine alte Stad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lin liegt an der Sp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wurde im 13. Jahrhundert geg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ünd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5" descr="Germaniya-59[1]"/>
          <p:cNvPicPr/>
          <p:nvPr/>
        </p:nvPicPr>
        <p:blipFill>
          <a:blip r:embed="rId1"/>
          <a:stretch/>
        </p:blipFill>
        <p:spPr>
          <a:xfrm>
            <a:off x="1187280" y="2133720"/>
            <a:ext cx="676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as Brandenburger Tor und der Fernsehturm sind die Symbole Berli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aleksanderplatc-85222[1]"/>
          <p:cNvPicPr/>
          <p:nvPr/>
        </p:nvPicPr>
        <p:blipFill>
          <a:blip r:embed="rId1"/>
          <a:stretch/>
        </p:blipFill>
        <p:spPr>
          <a:xfrm>
            <a:off x="0" y="2421000"/>
            <a:ext cx="3708360" cy="4437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berlin_1[1]"/>
          <p:cNvPicPr/>
          <p:nvPr/>
        </p:nvPicPr>
        <p:blipFill>
          <a:blip r:embed="rId2"/>
          <a:stretch/>
        </p:blipFill>
        <p:spPr>
          <a:xfrm>
            <a:off x="3348000" y="1773360"/>
            <a:ext cx="579600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859280" y="228600"/>
            <a:ext cx="398304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r Treptower Park, wo das bekannte Ehrenmal des Sowietsoldaten steht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3765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5">
            <a:hlinkClick r:id="rId1"/>
          </p:cNvPr>
          <p:cNvSpPr/>
          <p:nvPr/>
        </p:nvSpPr>
        <p:spPr>
          <a:xfrm>
            <a:off x="155520" y="46080"/>
            <a:ext cx="35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6" descr="04t2040[1]"/>
          <p:cNvPicPr/>
          <p:nvPr/>
        </p:nvPicPr>
        <p:blipFill>
          <a:blip r:embed="rId2"/>
          <a:stretch/>
        </p:blipFill>
        <p:spPr>
          <a:xfrm>
            <a:off x="179280" y="476280"/>
            <a:ext cx="4343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0" y="380520"/>
            <a:ext cx="411480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805 kam der russische Zar Alexander der I nach Berlin, ihm zu Ehren wurde der Platz des Zentralmarktes zum Alexanderplatz umgenannt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42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alexanderplatz1[1]"/>
          <p:cNvPicPr/>
          <p:nvPr/>
        </p:nvPicPr>
        <p:blipFill>
          <a:blip r:embed="rId1"/>
          <a:stretch/>
        </p:blipFill>
        <p:spPr>
          <a:xfrm>
            <a:off x="179280" y="333360"/>
            <a:ext cx="4105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4" descr="0012-012-Weltberhmt-ist-die-Museuminsel-an-der-Spre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ie schö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nsten sind Bodemuseum und Pergamonmuseu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4" descr="berlin[1]"/>
          <p:cNvPicPr/>
          <p:nvPr/>
        </p:nvPicPr>
        <p:blipFill>
          <a:blip r:embed="rId1"/>
          <a:stretch/>
        </p:blipFill>
        <p:spPr>
          <a:xfrm>
            <a:off x="3382920" y="2535120"/>
            <a:ext cx="5761080" cy="4322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Pergamonmuseum_Front[1]"/>
          <p:cNvPicPr/>
          <p:nvPr/>
        </p:nvPicPr>
        <p:blipFill>
          <a:blip r:embed="rId2"/>
          <a:stretch/>
        </p:blipFill>
        <p:spPr>
          <a:xfrm>
            <a:off x="0" y="1413000"/>
            <a:ext cx="55087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llkommen nach Wien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30[1]"/>
          <p:cNvPicPr/>
          <p:nvPr/>
        </p:nvPicPr>
        <p:blipFill>
          <a:blip r:embed="rId1"/>
          <a:stretch/>
        </p:blipFill>
        <p:spPr>
          <a:xfrm>
            <a:off x="468360" y="1461960"/>
            <a:ext cx="82072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5:35:05Z</dcterms:created>
  <dc:creator>таня</dc:creator>
  <dc:description/>
  <dc:language>en-US</dc:language>
  <cp:lastModifiedBy>user</cp:lastModifiedBy>
  <dcterms:modified xsi:type="dcterms:W3CDTF">2017-03-14T09:50:05Z</dcterms:modified>
  <cp:revision>5</cp:revision>
  <dc:subject/>
  <dc:title>Zwei Hauptstӓdte</dc:title>
</cp:coreProperties>
</file>